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2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6000"/>
          </a:bodyPr>
          <a:p>
            <a:pPr marL="226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27000"/>
          </a:bodyPr>
          <a:p>
            <a:pPr marL="925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2520" indent="-925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2520" indent="-925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92520" indent="-925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92520" indent="-925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92520" indent="-925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92520" indent="-925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69000"/>
          </a:bodyPr>
          <a:p>
            <a:pPr marL="414720" indent="-26568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51600" indent="-266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88120" indent="-26568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133640" indent="-26568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70160" indent="-266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70160" indent="-266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70160" indent="-266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0000"/>
          </a:bodyPr>
          <a:p>
            <a:pPr marL="541080" indent="-34668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849960" indent="-347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58480" indent="-34668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478520" indent="-34668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787400" indent="-347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787400" indent="-347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787400" indent="-347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070680" y="2158920"/>
            <a:ext cx="30988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63000"/>
          </a:bodyPr>
          <a:p>
            <a:pPr marL="378720" indent="-2426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95080" indent="-24300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10720" indent="-2426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35000" indent="-2426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251000" indent="-24300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251000" indent="-24300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251000" indent="-24300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69000"/>
          </a:bodyPr>
          <a:p>
            <a:pPr marL="414720" indent="-26568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51600" indent="-266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88120" indent="-26568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133640" indent="-26568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70160" indent="-266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70160" indent="-266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70160" indent="-266040">
              <a:spcBef>
                <a:spcPts val="29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3000"/>
          </a:bodyPr>
          <a:p>
            <a:pPr marL="547920" indent="-368640">
              <a:spcBef>
                <a:spcPts val="18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32680" indent="-369000">
              <a:spcBef>
                <a:spcPts val="18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17080" indent="-368640">
              <a:spcBef>
                <a:spcPts val="18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12280" indent="-368640">
              <a:spcBef>
                <a:spcPts val="18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97040" indent="-369000">
              <a:spcBef>
                <a:spcPts val="18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97040" indent="-369000">
              <a:spcBef>
                <a:spcPts val="18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97040" indent="-369000">
              <a:spcBef>
                <a:spcPts val="18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3000"/>
          </a:bodyPr>
          <a:p>
            <a:pPr marL="547920" indent="-368640">
              <a:spcBef>
                <a:spcPts val="36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32680" indent="-369000">
              <a:spcBef>
                <a:spcPts val="36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17080" indent="-368640">
              <a:spcBef>
                <a:spcPts val="36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12280" indent="-368640">
              <a:spcBef>
                <a:spcPts val="36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97040" indent="-369000">
              <a:spcBef>
                <a:spcPts val="36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97040" indent="-369000">
              <a:spcBef>
                <a:spcPts val="36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97040" indent="-369000">
              <a:spcBef>
                <a:spcPts val="36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71000"/>
          </a:bodyPr>
          <a:p>
            <a:pPr marL="24336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marL="243360" indent="-24336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marL="243360" indent="-24336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marL="243360" indent="-24336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marL="243360" indent="-24336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marL="243360" indent="-24336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marL="243360" indent="-24336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495000" y="110484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71000"/>
          </a:bodyPr>
          <a:p>
            <a:pPr marL="24336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marL="243360" indent="-24336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marL="243360" indent="-24336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marL="243360" indent="-24336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marL="243360" indent="-24336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marL="243360" indent="-24336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marL="243360" indent="-24336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495000" y="110484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Bild 1" descr=""/>
          <p:cNvPicPr/>
          <p:nvPr/>
        </p:nvPicPr>
        <p:blipFill>
          <a:blip r:embed="rId1"/>
          <a:stretch/>
        </p:blipFill>
        <p:spPr>
          <a:xfrm>
            <a:off x="542880" y="569880"/>
            <a:ext cx="2374920" cy="1168560"/>
          </a:xfrm>
          <a:prstGeom prst="rect">
            <a:avLst/>
          </a:prstGeom>
          <a:ln w="0">
            <a:noFill/>
          </a:ln>
        </p:spPr>
      </p:pic>
      <p:pic>
        <p:nvPicPr>
          <p:cNvPr id="526" name="Bild 2" descr=""/>
          <p:cNvPicPr/>
          <p:nvPr/>
        </p:nvPicPr>
        <p:blipFill>
          <a:blip r:embed="rId2"/>
          <a:stretch/>
        </p:blipFill>
        <p:spPr>
          <a:xfrm>
            <a:off x="3567240" y="714240"/>
            <a:ext cx="3365280" cy="1181160"/>
          </a:xfrm>
          <a:prstGeom prst="rect">
            <a:avLst/>
          </a:prstGeom>
          <a:ln w="0">
            <a:noFill/>
          </a:ln>
        </p:spPr>
      </p:pic>
      <p:pic>
        <p:nvPicPr>
          <p:cNvPr id="527" name="Bild 2" descr=""/>
          <p:cNvPicPr/>
          <p:nvPr/>
        </p:nvPicPr>
        <p:blipFill>
          <a:blip r:embed="rId3"/>
          <a:stretch/>
        </p:blipFill>
        <p:spPr>
          <a:xfrm>
            <a:off x="758880" y="2801880"/>
            <a:ext cx="2108160" cy="1803600"/>
          </a:xfrm>
          <a:prstGeom prst="rect">
            <a:avLst/>
          </a:prstGeom>
          <a:ln w="0">
            <a:noFill/>
          </a:ln>
        </p:spPr>
      </p:pic>
      <p:pic>
        <p:nvPicPr>
          <p:cNvPr id="528" name="Bild 3" descr=""/>
          <p:cNvPicPr/>
          <p:nvPr/>
        </p:nvPicPr>
        <p:blipFill>
          <a:blip r:embed="rId4"/>
          <a:stretch/>
        </p:blipFill>
        <p:spPr>
          <a:xfrm>
            <a:off x="2847960" y="3089160"/>
            <a:ext cx="2108160" cy="1562040"/>
          </a:xfrm>
          <a:prstGeom prst="rect">
            <a:avLst/>
          </a:prstGeom>
          <a:ln w="0">
            <a:noFill/>
          </a:ln>
        </p:spPr>
      </p:pic>
      <p:pic>
        <p:nvPicPr>
          <p:cNvPr id="529" name="Bild 4" descr=""/>
          <p:cNvPicPr/>
          <p:nvPr/>
        </p:nvPicPr>
        <p:blipFill>
          <a:blip r:embed="rId5"/>
          <a:stretch/>
        </p:blipFill>
        <p:spPr>
          <a:xfrm>
            <a:off x="976320" y="5322960"/>
            <a:ext cx="3797280" cy="1803240"/>
          </a:xfrm>
          <a:prstGeom prst="rect">
            <a:avLst/>
          </a:prstGeom>
          <a:ln w="0">
            <a:noFill/>
          </a:ln>
        </p:spPr>
      </p:pic>
      <p:pic>
        <p:nvPicPr>
          <p:cNvPr id="530" name="Bild 2" descr=""/>
          <p:cNvPicPr/>
          <p:nvPr/>
        </p:nvPicPr>
        <p:blipFill>
          <a:blip r:embed="rId6"/>
          <a:stretch/>
        </p:blipFill>
        <p:spPr>
          <a:xfrm>
            <a:off x="5440320" y="3954600"/>
            <a:ext cx="372132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hteck 2"/>
          <p:cNvSpPr/>
          <p:nvPr/>
        </p:nvSpPr>
        <p:spPr>
          <a:xfrm>
            <a:off x="7888320" y="2081160"/>
            <a:ext cx="144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2" name="Bild 1" descr=""/>
          <p:cNvPicPr/>
          <p:nvPr/>
        </p:nvPicPr>
        <p:blipFill>
          <a:blip r:embed="rId1"/>
          <a:stretch/>
        </p:blipFill>
        <p:spPr>
          <a:xfrm>
            <a:off x="1295280" y="2260440"/>
            <a:ext cx="756936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Bild 1" descr=""/>
          <p:cNvPicPr/>
          <p:nvPr/>
        </p:nvPicPr>
        <p:blipFill>
          <a:blip r:embed="rId1"/>
          <a:stretch/>
        </p:blipFill>
        <p:spPr>
          <a:xfrm>
            <a:off x="1244520" y="2184480"/>
            <a:ext cx="767088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uppierung 3"/>
          <p:cNvGrpSpPr/>
          <p:nvPr/>
        </p:nvGrpSpPr>
        <p:grpSpPr>
          <a:xfrm>
            <a:off x="1047600" y="1362240"/>
            <a:ext cx="7620120" cy="3103560"/>
            <a:chOff x="1047600" y="1362240"/>
            <a:chExt cx="7620120" cy="3103560"/>
          </a:xfrm>
        </p:grpSpPr>
        <p:pic>
          <p:nvPicPr>
            <p:cNvPr id="535" name="Bild 1" descr=""/>
            <p:cNvPicPr/>
            <p:nvPr/>
          </p:nvPicPr>
          <p:blipFill>
            <a:blip r:embed="rId1"/>
            <a:stretch/>
          </p:blipFill>
          <p:spPr>
            <a:xfrm>
              <a:off x="1047600" y="1362240"/>
              <a:ext cx="7620120" cy="13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Bild 2" descr=""/>
            <p:cNvPicPr/>
            <p:nvPr/>
          </p:nvPicPr>
          <p:blipFill>
            <a:blip r:embed="rId2"/>
            <a:stretch/>
          </p:blipFill>
          <p:spPr>
            <a:xfrm>
              <a:off x="1047600" y="3234240"/>
              <a:ext cx="6934320" cy="1231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Bild 1" descr=""/>
          <p:cNvPicPr/>
          <p:nvPr/>
        </p:nvPicPr>
        <p:blipFill>
          <a:blip r:embed="rId1"/>
          <a:stretch/>
        </p:blipFill>
        <p:spPr>
          <a:xfrm>
            <a:off x="1263600" y="1938240"/>
            <a:ext cx="767088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Bild 1" descr=""/>
          <p:cNvPicPr/>
          <p:nvPr/>
        </p:nvPicPr>
        <p:blipFill>
          <a:blip r:embed="rId1"/>
          <a:stretch/>
        </p:blipFill>
        <p:spPr>
          <a:xfrm rot="5400000">
            <a:off x="265320" y="1062720"/>
            <a:ext cx="4011840" cy="3600360"/>
          </a:xfrm>
          <a:prstGeom prst="rect">
            <a:avLst/>
          </a:prstGeom>
          <a:ln w="0">
            <a:noFill/>
          </a:ln>
        </p:spPr>
      </p:pic>
      <p:pic>
        <p:nvPicPr>
          <p:cNvPr id="539" name="Bild 3" descr=""/>
          <p:cNvPicPr/>
          <p:nvPr/>
        </p:nvPicPr>
        <p:blipFill>
          <a:blip r:embed="rId2"/>
          <a:stretch/>
        </p:blipFill>
        <p:spPr>
          <a:xfrm>
            <a:off x="4249800" y="569880"/>
            <a:ext cx="5910120" cy="4114800"/>
          </a:xfrm>
          <a:prstGeom prst="rect">
            <a:avLst/>
          </a:prstGeom>
          <a:ln w="0">
            <a:noFill/>
          </a:ln>
        </p:spPr>
      </p:pic>
      <p:sp>
        <p:nvSpPr>
          <p:cNvPr id="540" name="Rechteck 4"/>
          <p:cNvSpPr/>
          <p:nvPr/>
        </p:nvSpPr>
        <p:spPr>
          <a:xfrm>
            <a:off x="1407960" y="641520"/>
            <a:ext cx="432000" cy="5040000"/>
          </a:xfrm>
          <a:prstGeom prst="rect">
            <a:avLst/>
          </a:prstGeom>
          <a:solidFill>
            <a:srgbClr val="ccffcc">
              <a:alpha val="26000"/>
            </a:srgbClr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Rechteck 5"/>
          <p:cNvSpPr/>
          <p:nvPr/>
        </p:nvSpPr>
        <p:spPr>
          <a:xfrm>
            <a:off x="1839960" y="641520"/>
            <a:ext cx="431640" cy="4752720"/>
          </a:xfrm>
          <a:prstGeom prst="rect">
            <a:avLst/>
          </a:prstGeom>
          <a:solidFill>
            <a:srgbClr val="ccffcc">
              <a:alpha val="26000"/>
            </a:srgbClr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Rechteck 6"/>
          <p:cNvSpPr/>
          <p:nvPr/>
        </p:nvSpPr>
        <p:spPr>
          <a:xfrm>
            <a:off x="2271600" y="641520"/>
            <a:ext cx="432000" cy="4464000"/>
          </a:xfrm>
          <a:prstGeom prst="rect">
            <a:avLst/>
          </a:prstGeom>
          <a:solidFill>
            <a:srgbClr val="ccffcc">
              <a:alpha val="26000"/>
            </a:srgbClr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Rechteck 7"/>
          <p:cNvSpPr/>
          <p:nvPr/>
        </p:nvSpPr>
        <p:spPr>
          <a:xfrm>
            <a:off x="471600" y="641520"/>
            <a:ext cx="504720" cy="6337080"/>
          </a:xfrm>
          <a:prstGeom prst="rect">
            <a:avLst/>
          </a:prstGeom>
          <a:solidFill>
            <a:srgbClr val="ccffcc">
              <a:alpha val="26000"/>
            </a:srgbClr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Rechteck 8"/>
          <p:cNvSpPr/>
          <p:nvPr/>
        </p:nvSpPr>
        <p:spPr>
          <a:xfrm>
            <a:off x="976320" y="641520"/>
            <a:ext cx="431640" cy="5760720"/>
          </a:xfrm>
          <a:prstGeom prst="rect">
            <a:avLst/>
          </a:prstGeom>
          <a:solidFill>
            <a:srgbClr val="ccffcc">
              <a:alpha val="26000"/>
            </a:srgbClr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Textfeld 9"/>
          <p:cNvSpPr/>
          <p:nvPr/>
        </p:nvSpPr>
        <p:spPr>
          <a:xfrm>
            <a:off x="1192320" y="539424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OP_1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Textfeld 10"/>
          <p:cNvSpPr/>
          <p:nvPr/>
        </p:nvSpPr>
        <p:spPr>
          <a:xfrm>
            <a:off x="1623960" y="51055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OP_2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Textfeld 11"/>
          <p:cNvSpPr/>
          <p:nvPr/>
        </p:nvSpPr>
        <p:spPr>
          <a:xfrm>
            <a:off x="2200320" y="4818240"/>
            <a:ext cx="712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OP_3: Befehl aus Zeile 3 (einen Befehl hinter dem letzten Call)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Textfeld 12"/>
          <p:cNvSpPr/>
          <p:nvPr/>
        </p:nvSpPr>
        <p:spPr>
          <a:xfrm>
            <a:off x="471600" y="6546960"/>
            <a:ext cx="84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Zustand Z1: Pipeline anhalten, Datenspeicher mit (SP) adressieren, Befehl 18 (NOP_1) ist bereits ausgelesen steht vor dem Dekodierer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Textfeld 13"/>
          <p:cNvSpPr/>
          <p:nvPr/>
        </p:nvSpPr>
        <p:spPr>
          <a:xfrm>
            <a:off x="976320" y="5970600"/>
            <a:ext cx="84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Zustand Z2: Pipeline freigeben, PC mit Stack aus Datenspeicher laden; Achtung: Befehl 19 (NOP_2) wird im nächsten Takt ausgelesen (und Befehl 18 dekodiert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Stephan Rupp</cp:lastModifiedBy>
  <cp:lastPrinted>2014-04-28T16:00:51Z</cp:lastPrinted>
  <dcterms:modified xsi:type="dcterms:W3CDTF">2014-04-28T16:01:30Z</dcterms:modified>
  <cp:revision>70</cp:revision>
  <dc:subject/>
  <dc:title>PowerPoint-Präsentation</dc:title>
</cp:coreProperties>
</file>