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gif" ContentType="image/gif"/>
  <Override PartName="/ppt/media/image1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3200" spc="-1" strike="noStrike">
                <a:solidFill>
                  <a:srgbClr val="e2001a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e2001a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60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ei Kompetenzfe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ruhend auf eigenen Erfahrungen (Abhängigkeit, Migration, Arbeitslosigkeit, usw.)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Gesprächsgruppen, Selbsthilfegruppen, Einzelbetreuun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menzentrierte Gruppen: Freizeitgruppen, soziales Training, Sprachkurse us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ziehungen Einzelbetreuun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60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ei Kompetenzfe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ruhend auf eigenen Erfahrungen (Abhängigkeit, Migration, Arbeitslosigkeit, usw.)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Gesprächsgruppen, Selbsthilfegruppen, Einzelbetreuun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menzentrierte Gruppen: Freizeitgruppen, soziales Training, Sprachkurse us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ziehungen Einzelbetreuun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60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ei Kompetenzfe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ruhend auf eigenen Erfahrungen (Abhängigkeit, Migration, Arbeitslosigkeit, usw.)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Gesprächsgruppen, Selbsthilfegruppen, Einzelbetreuun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menzentrierte Gruppen: Freizeitgruppen, soziales Training, Sprachkurse us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ziehungen Einzelbetreuun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60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ei Kompetenzfe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ruhend auf eigenen Erfahrungen (Abhängigkeit, Migration, Arbeitslosigkeit, usw.)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Gesprächsgruppen, Selbsthilfegruppen, Einzelbetreuun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menzentrierte Gruppen: Freizeitgruppen, soziales Training, Sprachkurse us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ziehungen Einzelbetreuun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600"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Drei Kompetenzfe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ruhend auf eigenen Erfahrungen (Abhängigkeit, Migration, Arbeitslosigkeit, usw.)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Gesprächsgruppen, Selbsthilfegruppen, Einzelbetreuun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emenzentrierte Gruppen: Freizeitgruppen, soziales Training, Sprachkurse us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spcBef>
                <a:spcPts val="41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Beziehungen Einzelbetreuun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FD6D9-DA32-4F36-A0EC-67EE06BE4D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330120"/>
            <a:ext cx="8534160" cy="470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97740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762120" y="380340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52067-2702-4F8B-86C8-AD0D667B4D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2120" y="330120"/>
            <a:ext cx="8534160" cy="470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62120" y="97740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35040" y="97740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762120" y="380340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35040" y="380340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00F8F-3410-439B-80EB-F1AAE48953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330120"/>
            <a:ext cx="8534160" cy="470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97740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7880" y="97740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33280" y="97740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762120" y="380340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47880" y="380340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33280" y="380340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1C326-D0CC-48DD-9670-224B36B67C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01305-4F62-424F-B7F0-91F2BF757A7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330120"/>
            <a:ext cx="8534160" cy="470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62120" y="97740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78A75-3B5A-4883-8FDD-2815829121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330120"/>
            <a:ext cx="8534160" cy="470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97740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2CCF1-301C-494E-8047-69272CCE64B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30120"/>
            <a:ext cx="8534160" cy="470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762120" y="97740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35040" y="97740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018260-0D69-4641-B779-A10A737068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330120"/>
            <a:ext cx="8534160" cy="470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C94895-09CA-4D86-A735-EE0D1CBF03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762120" y="330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6A8A7-BBCD-487F-9C3A-8955EDA6878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330120"/>
            <a:ext cx="8534160" cy="470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97740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35040" y="97740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762120" y="380340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D238A-45DF-4440-B3E1-CA88770403F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62120" y="330120"/>
            <a:ext cx="8534160" cy="470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762120" y="97740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9882A-9FD3-4772-B0C2-36C89E0030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330120"/>
            <a:ext cx="8534160" cy="470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97740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35040" y="97740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135040" y="380340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1E00E-D821-4E44-8E92-AC512871950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330120"/>
            <a:ext cx="8534160" cy="470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97740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35040" y="97740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2120" y="380340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C7DBC4-AE9D-4660-A717-27B51D39C1D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330120"/>
            <a:ext cx="8534160" cy="470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97740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762120" y="380340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488FD1-6833-49E2-BFA9-6774581C9F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2120" y="330120"/>
            <a:ext cx="8534160" cy="470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2120" y="97740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35040" y="97740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762120" y="380340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135040" y="380340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4CBFE-B095-47B7-BA7B-8BDFA22441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330120"/>
            <a:ext cx="8534160" cy="470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97740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47880" y="97740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33280" y="97740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762120" y="380340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47880" y="380340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33280" y="380340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413378-8D6A-4014-A868-1DE4CCD6453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5201-6B1B-4A00-9658-A6FFABA380B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330120"/>
            <a:ext cx="8534160" cy="470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762120" y="97740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9865-A913-4584-8356-05710DD9D64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330120"/>
            <a:ext cx="8534160" cy="470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62120" y="97740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5414-BA34-4101-A196-33FE7471177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330120"/>
            <a:ext cx="8534160" cy="470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62120" y="97740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35040" y="97740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E0D8-C808-454B-8EBF-0D52D831EF8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330120"/>
            <a:ext cx="8534160" cy="470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2099-F64E-4C3C-9D88-C5F90CDE0D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2120" y="330120"/>
            <a:ext cx="8534160" cy="470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762120" y="97740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DD966-9A7E-46F7-A77D-BB74C226CD8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762120" y="330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DDF7-B8FC-400C-91CB-F47A07AAD44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330120"/>
            <a:ext cx="8534160" cy="470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97740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135040" y="97740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62120" y="380340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5CC5-65E3-4802-B19B-8A548330F95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330120"/>
            <a:ext cx="8534160" cy="470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2120" y="97740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135040" y="97740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135040" y="380340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47F7-AEC2-4CAF-A450-E115865C65C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2120" y="330120"/>
            <a:ext cx="8534160" cy="470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62120" y="97740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35040" y="97740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62120" y="380340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1606-EA5D-4DA3-9874-D4D8943E02C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330120"/>
            <a:ext cx="8534160" cy="470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2120" y="97740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762120" y="380340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C3FC8-2FE6-4426-A3C1-4A9E2FF3FCD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2120" y="330120"/>
            <a:ext cx="8534160" cy="470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2120" y="97740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35040" y="97740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762120" y="380340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135040" y="380340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A089-97F5-4940-AEB8-3F780767E5D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2120" y="330120"/>
            <a:ext cx="8534160" cy="470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62120" y="97740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647880" y="97740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533280" y="97740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762120" y="380340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647880" y="380340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533280" y="3803400"/>
            <a:ext cx="27478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BBDE-51A0-49FB-841D-1E20C5EAE6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330120"/>
            <a:ext cx="8534160" cy="470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97740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35040" y="97740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3C1F9-A80B-4E0C-A4D4-44E72569D4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330120"/>
            <a:ext cx="8534160" cy="470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DF468-5BE5-4B3F-8731-E7FC70F47F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62120" y="330120"/>
            <a:ext cx="853416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96D6D-A01F-4937-99E9-850DB8C118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330120"/>
            <a:ext cx="8534160" cy="470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97740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35040" y="97740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762120" y="380340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F7CA5-E949-48EE-B893-26ADA6425C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330120"/>
            <a:ext cx="8534160" cy="470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977400"/>
            <a:ext cx="4164480" cy="5410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5040" y="97740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35040" y="380340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5D24A-DDEC-4EF2-A58B-9722AD7ED9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330120"/>
            <a:ext cx="8534160" cy="470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2001a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97740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5040" y="977400"/>
            <a:ext cx="416448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62120" y="3803400"/>
            <a:ext cx="8534160" cy="25804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DCDEA-9FB4-4422-919E-BF8D18C0E1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409760"/>
            <a:ext cx="8534160" cy="15112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2001a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e2001a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3124080"/>
            <a:ext cx="8534160" cy="373392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6971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5c6971"/>
              </a:solidFill>
              <a:latin typeface="Arial"/>
            </a:endParaRPr>
          </a:p>
          <a:p>
            <a:pPr lvl="1" marL="50760" indent="-50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6971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c6971"/>
              </a:solidFill>
              <a:latin typeface="Arial"/>
            </a:endParaRPr>
          </a:p>
          <a:p>
            <a:pPr lvl="2" marL="50760" indent="-50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697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c6971"/>
              </a:solidFill>
              <a:latin typeface="Arial"/>
            </a:endParaRPr>
          </a:p>
          <a:p>
            <a:pPr lvl="3" marL="50760" indent="-507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6971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5c6971"/>
              </a:solidFill>
              <a:latin typeface="Arial"/>
            </a:endParaRPr>
          </a:p>
          <a:p>
            <a:pPr lvl="4" marL="50760" indent="-507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6971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5c6971"/>
              </a:solidFill>
              <a:latin typeface="Arial"/>
            </a:endParaRPr>
          </a:p>
          <a:p>
            <a:pPr lvl="5" marL="50760" indent="-507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6971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5c6971"/>
              </a:solidFill>
              <a:latin typeface="Arial"/>
            </a:endParaRPr>
          </a:p>
          <a:p>
            <a:pPr lvl="6" marL="50760" indent="-507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6971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5c6971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809960" y="6388200"/>
            <a:ext cx="2844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CEFBD-45C5-4DFD-AA79-B359091B3E1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62120" y="330120"/>
            <a:ext cx="8534160" cy="470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2001a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e2001a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762120" y="97740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/>
          </a:bodyPr>
          <a:p>
            <a:pPr marL="5076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50760" indent="-5076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2" marL="50760" indent="-5076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3" marL="50760" indent="-50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4" marL="50760" indent="-507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5" marL="50760" indent="-507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6" marL="50760" indent="-507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4809960" y="6388200"/>
            <a:ext cx="2844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CC93-37A7-4A13-B4D1-C32F9742110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330120"/>
            <a:ext cx="8534160" cy="47016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Autofit/>
          </a:bodyPr>
          <a:p>
            <a:pPr marL="39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2001a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e2001a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6413400" y="287280"/>
            <a:ext cx="2954520" cy="46836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62120" y="977400"/>
            <a:ext cx="2628720" cy="541044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86000"/>
          </a:bodyPr>
          <a:p>
            <a:pPr marL="4356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43560" indent="-43560">
              <a:spcBef>
                <a:spcPts val="700"/>
              </a:spcBef>
              <a:buClr>
                <a:srgbClr val="666666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2" marL="43560" indent="-4356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3" marL="43560" indent="-435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4" marL="43560" indent="-435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5" marL="43560" indent="-435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6" marL="43560" indent="-435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Num" idx="3"/>
          </p:nvPr>
        </p:nvSpPr>
        <p:spPr>
          <a:xfrm>
            <a:off x="4809960" y="6388200"/>
            <a:ext cx="2844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47966-25B2-4983-9785-CEEF777E9DD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542280" y="6388200"/>
            <a:ext cx="271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Semester, Nachrichtentechnik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54640" y="6388200"/>
            <a:ext cx="293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llen und Leitungen, Übersicht, S. Ru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inecity.de/DHBW_4/Waves/index.html" TargetMode="External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0" y="4800600"/>
            <a:ext cx="9906120" cy="1654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0" y="5433840"/>
            <a:ext cx="99187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160" rIns="67320" tIns="38160" bIns="38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old"/>
                <a:ea typeface="Arial Bold"/>
              </a:rPr>
              <a:t>www.dhbw-stuttgart.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09480" y="347760"/>
            <a:ext cx="4519800" cy="7189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854640" y="6388200"/>
            <a:ext cx="293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llen und Leitungen, Übersicht, S. Ru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542280" y="6388200"/>
            <a:ext cx="271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Semester, Nachrichtentechnik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62120" y="1409760"/>
            <a:ext cx="853416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2001a"/>
                </a:solidFill>
                <a:latin typeface="Arial"/>
              </a:rPr>
              <a:t>Wellen und Leitungen </a:t>
            </a:r>
            <a:br>
              <a:rPr sz="3200"/>
            </a:br>
            <a:br>
              <a:rPr sz="1800"/>
            </a:br>
            <a:r>
              <a:rPr b="0" lang="en-US" sz="3200" spc="-1" strike="noStrike">
                <a:solidFill>
                  <a:srgbClr val="e2001a"/>
                </a:solidFill>
                <a:latin typeface="Arial"/>
              </a:rPr>
              <a:t>Übersicht</a:t>
            </a:r>
            <a:endParaRPr b="0" lang="en-US" sz="3200" spc="-1" strike="noStrike">
              <a:solidFill>
                <a:srgbClr val="e2001a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2001a"/>
              </a:solidFill>
              <a:latin typeface="Arial"/>
            </a:endParaRPr>
          </a:p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2001a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762120" y="3124080"/>
            <a:ext cx="8534160" cy="373392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6971"/>
                </a:solidFill>
                <a:latin typeface="Arial"/>
              </a:rPr>
              <a:t>Stephan Rupp</a:t>
            </a:r>
            <a:endParaRPr b="0" lang="en-US" sz="2400" spc="-1" strike="noStrike">
              <a:solidFill>
                <a:srgbClr val="5c6971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c6971"/>
                </a:solidFill>
                <a:latin typeface="Arial"/>
              </a:rPr>
              <a:t>Nachrichtentechnik</a:t>
            </a:r>
            <a:endParaRPr b="0" lang="en-US" sz="2400" spc="-1" strike="noStrike">
              <a:solidFill>
                <a:srgbClr val="5c6971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809960" y="6388200"/>
            <a:ext cx="284400" cy="27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BF161-3347-483B-99F3-9A2361B1EB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2BB37-642B-4B52-B4EA-4555AB0EB67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6413400" y="287280"/>
            <a:ext cx="2954520" cy="46836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6542280" y="6388200"/>
            <a:ext cx="271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Semester, Nachrichtentechnik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54640" y="6388200"/>
            <a:ext cx="293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llen und Leitungen, Übersicht, S. Ru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62120" y="330120"/>
            <a:ext cx="8534160" cy="4701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2001a"/>
                </a:solidFill>
                <a:latin typeface="Arial"/>
              </a:rPr>
              <a:t>Anpassung</a:t>
            </a:r>
            <a:endParaRPr b="0" lang="en-US" sz="2400" spc="-1" strike="noStrike">
              <a:solidFill>
                <a:srgbClr val="e2001a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762120" y="977760"/>
            <a:ext cx="853416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  <a:ea typeface="Arial"/>
              </a:rPr>
              <a:t>Welche Leistung wird übertrag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51040" y="1557360"/>
            <a:ext cx="8512200" cy="22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43080" indent="-343080">
              <a:lnSpc>
                <a:spcPct val="150000"/>
              </a:lnSpc>
              <a:spcBef>
                <a:spcPts val="737"/>
              </a:spcBef>
              <a:buClr>
                <a:srgbClr val="5c69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6971"/>
                </a:solidFill>
                <a:latin typeface="Arial"/>
                <a:ea typeface="Arial"/>
              </a:rPr>
              <a:t>Beispiel: Verstärker an Lautspre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4541760" y="2489040"/>
            <a:ext cx="1660320" cy="2111400"/>
            <a:chOff x="4541760" y="2489040"/>
            <a:chExt cx="1660320" cy="2111400"/>
          </a:xfrm>
        </p:grpSpPr>
        <p:sp>
          <p:nvSpPr>
            <p:cNvPr id="420" name=""/>
            <p:cNvSpPr/>
            <p:nvPr/>
          </p:nvSpPr>
          <p:spPr>
            <a:xfrm>
              <a:off x="4541760" y="2489040"/>
              <a:ext cx="1524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Ausgang: 8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158080" y="3345120"/>
              <a:ext cx="1044000" cy="12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Eingang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>
                <a:lnSpc>
                  <a:spcPct val="100000"/>
                </a:lnSpc>
                <a:spcBef>
                  <a:spcPts val="41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>
                <a:lnSpc>
                  <a:spcPct val="100000"/>
                </a:lnSpc>
                <a:spcBef>
                  <a:spcPts val="41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>
                <a:lnSpc>
                  <a:spcPct val="100000"/>
                </a:lnSpc>
                <a:spcBef>
                  <a:spcPts val="414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825480" y="2273400"/>
            <a:ext cx="4274640" cy="3457080"/>
            <a:chOff x="825480" y="2273400"/>
            <a:chExt cx="4274640" cy="3457080"/>
          </a:xfrm>
        </p:grpSpPr>
        <p:pic>
          <p:nvPicPr>
            <p:cNvPr id="423" name="" descr=""/>
            <p:cNvPicPr/>
            <p:nvPr/>
          </p:nvPicPr>
          <p:blipFill>
            <a:blip r:embed="rId2"/>
            <a:stretch/>
          </p:blipFill>
          <p:spPr>
            <a:xfrm>
              <a:off x="2241720" y="2873520"/>
              <a:ext cx="2858400" cy="285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4" name="" descr=""/>
            <p:cNvPicPr/>
            <p:nvPr/>
          </p:nvPicPr>
          <p:blipFill>
            <a:blip r:embed="rId3"/>
            <a:stretch/>
          </p:blipFill>
          <p:spPr>
            <a:xfrm>
              <a:off x="825480" y="2273400"/>
              <a:ext cx="993600" cy="292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5" name="" descr=""/>
            <p:cNvPicPr/>
            <p:nvPr/>
          </p:nvPicPr>
          <p:blipFill>
            <a:blip r:embed="rId4"/>
            <a:stretch/>
          </p:blipFill>
          <p:spPr>
            <a:xfrm>
              <a:off x="2676960" y="2443320"/>
              <a:ext cx="1729080" cy="108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6" name=""/>
            <p:cNvSpPr/>
            <p:nvPr/>
          </p:nvSpPr>
          <p:spPr>
            <a:xfrm>
              <a:off x="1498680" y="3210480"/>
              <a:ext cx="1395720" cy="1859760"/>
            </a:xfrm>
            <a:custGeom>
              <a:avLst/>
              <a:gdLst/>
              <a:ahLst/>
              <a:rect l="l" t="t" r="r" b="b"/>
              <a:pathLst>
                <a:path w="21600" h="21488">
                  <a:moveTo>
                    <a:pt x="0" y="21600"/>
                  </a:moveTo>
                  <a:cubicBezTo>
                    <a:pt x="1156" y="21567"/>
                    <a:pt x="2313" y="21558"/>
                    <a:pt x="3467" y="21502"/>
                  </a:cubicBezTo>
                  <a:cubicBezTo>
                    <a:pt x="3676" y="21492"/>
                    <a:pt x="4179" y="21360"/>
                    <a:pt x="4400" y="21306"/>
                  </a:cubicBezTo>
                  <a:cubicBezTo>
                    <a:pt x="4533" y="21240"/>
                    <a:pt x="4661" y="21168"/>
                    <a:pt x="4800" y="21109"/>
                  </a:cubicBezTo>
                  <a:cubicBezTo>
                    <a:pt x="4973" y="21037"/>
                    <a:pt x="5193" y="21017"/>
                    <a:pt x="5333" y="20913"/>
                  </a:cubicBezTo>
                  <a:cubicBezTo>
                    <a:pt x="5474" y="20810"/>
                    <a:pt x="5511" y="20652"/>
                    <a:pt x="5600" y="20521"/>
                  </a:cubicBezTo>
                  <a:cubicBezTo>
                    <a:pt x="5644" y="20390"/>
                    <a:pt x="5759" y="20262"/>
                    <a:pt x="5733" y="20128"/>
                  </a:cubicBezTo>
                  <a:cubicBezTo>
                    <a:pt x="5711" y="20011"/>
                    <a:pt x="5538" y="19939"/>
                    <a:pt x="5467" y="19834"/>
                  </a:cubicBezTo>
                  <a:cubicBezTo>
                    <a:pt x="5404" y="19741"/>
                    <a:pt x="5378" y="19638"/>
                    <a:pt x="5333" y="19539"/>
                  </a:cubicBezTo>
                  <a:cubicBezTo>
                    <a:pt x="6568" y="19085"/>
                    <a:pt x="5069" y="19576"/>
                    <a:pt x="7467" y="19245"/>
                  </a:cubicBezTo>
                  <a:cubicBezTo>
                    <a:pt x="7662" y="19218"/>
                    <a:pt x="7822" y="19114"/>
                    <a:pt x="8000" y="19049"/>
                  </a:cubicBezTo>
                  <a:cubicBezTo>
                    <a:pt x="8089" y="18885"/>
                    <a:pt x="8302" y="18733"/>
                    <a:pt x="8267" y="18558"/>
                  </a:cubicBezTo>
                  <a:cubicBezTo>
                    <a:pt x="8008" y="17272"/>
                    <a:pt x="7937" y="16864"/>
                    <a:pt x="7200" y="16105"/>
                  </a:cubicBezTo>
                  <a:cubicBezTo>
                    <a:pt x="7071" y="15972"/>
                    <a:pt x="6933" y="15844"/>
                    <a:pt x="6800" y="15713"/>
                  </a:cubicBezTo>
                  <a:cubicBezTo>
                    <a:pt x="6756" y="15615"/>
                    <a:pt x="6656" y="15522"/>
                    <a:pt x="6667" y="15418"/>
                  </a:cubicBezTo>
                  <a:cubicBezTo>
                    <a:pt x="6701" y="15086"/>
                    <a:pt x="6755" y="14744"/>
                    <a:pt x="6933" y="14437"/>
                  </a:cubicBezTo>
                  <a:cubicBezTo>
                    <a:pt x="7032" y="14267"/>
                    <a:pt x="7259" y="14149"/>
                    <a:pt x="7467" y="14045"/>
                  </a:cubicBezTo>
                  <a:cubicBezTo>
                    <a:pt x="8108" y="13722"/>
                    <a:pt x="8917" y="13566"/>
                    <a:pt x="9467" y="13162"/>
                  </a:cubicBezTo>
                  <a:lnTo>
                    <a:pt x="10400" y="12475"/>
                  </a:lnTo>
                  <a:lnTo>
                    <a:pt x="10800" y="12181"/>
                  </a:lnTo>
                  <a:cubicBezTo>
                    <a:pt x="10844" y="11886"/>
                    <a:pt x="10883" y="11591"/>
                    <a:pt x="10933" y="11297"/>
                  </a:cubicBezTo>
                  <a:cubicBezTo>
                    <a:pt x="10972" y="11068"/>
                    <a:pt x="11067" y="10842"/>
                    <a:pt x="11067" y="10611"/>
                  </a:cubicBezTo>
                  <a:cubicBezTo>
                    <a:pt x="11067" y="10249"/>
                    <a:pt x="11030" y="9886"/>
                    <a:pt x="10933" y="9531"/>
                  </a:cubicBezTo>
                  <a:cubicBezTo>
                    <a:pt x="10851" y="9227"/>
                    <a:pt x="10667" y="8943"/>
                    <a:pt x="10533" y="8648"/>
                  </a:cubicBezTo>
                  <a:cubicBezTo>
                    <a:pt x="10578" y="8354"/>
                    <a:pt x="10539" y="8046"/>
                    <a:pt x="10667" y="7765"/>
                  </a:cubicBezTo>
                  <a:cubicBezTo>
                    <a:pt x="10726" y="7634"/>
                    <a:pt x="10942" y="7575"/>
                    <a:pt x="11067" y="7471"/>
                  </a:cubicBezTo>
                  <a:cubicBezTo>
                    <a:pt x="11539" y="7074"/>
                    <a:pt x="11529" y="6933"/>
                    <a:pt x="12133" y="6686"/>
                  </a:cubicBezTo>
                  <a:cubicBezTo>
                    <a:pt x="12343" y="6600"/>
                    <a:pt x="12583" y="6563"/>
                    <a:pt x="12800" y="6490"/>
                  </a:cubicBezTo>
                  <a:cubicBezTo>
                    <a:pt x="13161" y="6367"/>
                    <a:pt x="13867" y="6097"/>
                    <a:pt x="13867" y="6097"/>
                  </a:cubicBezTo>
                  <a:cubicBezTo>
                    <a:pt x="14170" y="5428"/>
                    <a:pt x="14197" y="5497"/>
                    <a:pt x="14267" y="4723"/>
                  </a:cubicBezTo>
                  <a:cubicBezTo>
                    <a:pt x="14579" y="1276"/>
                    <a:pt x="13928" y="3441"/>
                    <a:pt x="14667" y="2172"/>
                  </a:cubicBezTo>
                  <a:cubicBezTo>
                    <a:pt x="14722" y="2077"/>
                    <a:pt x="14701" y="1951"/>
                    <a:pt x="14800" y="1878"/>
                  </a:cubicBezTo>
                  <a:cubicBezTo>
                    <a:pt x="14941" y="1775"/>
                    <a:pt x="15148" y="1734"/>
                    <a:pt x="15333" y="1682"/>
                  </a:cubicBezTo>
                  <a:cubicBezTo>
                    <a:pt x="15727" y="1570"/>
                    <a:pt x="16156" y="1526"/>
                    <a:pt x="16533" y="1387"/>
                  </a:cubicBezTo>
                  <a:cubicBezTo>
                    <a:pt x="16711" y="1322"/>
                    <a:pt x="16894" y="1264"/>
                    <a:pt x="17067" y="1191"/>
                  </a:cubicBezTo>
                  <a:cubicBezTo>
                    <a:pt x="17206" y="1133"/>
                    <a:pt x="17313" y="1029"/>
                    <a:pt x="17467" y="995"/>
                  </a:cubicBezTo>
                  <a:cubicBezTo>
                    <a:pt x="17768" y="928"/>
                    <a:pt x="18089" y="929"/>
                    <a:pt x="18400" y="897"/>
                  </a:cubicBezTo>
                  <a:cubicBezTo>
                    <a:pt x="20112" y="393"/>
                    <a:pt x="17990" y="1048"/>
                    <a:pt x="19733" y="406"/>
                  </a:cubicBezTo>
                  <a:cubicBezTo>
                    <a:pt x="20837" y="0"/>
                    <a:pt x="19387" y="674"/>
                    <a:pt x="20533" y="112"/>
                  </a:cubicBezTo>
                  <a:cubicBezTo>
                    <a:pt x="21565" y="220"/>
                    <a:pt x="21326" y="3"/>
                    <a:pt x="21600" y="406"/>
                  </a:cubicBezTo>
                </a:path>
              </a:pathLst>
            </a:custGeom>
            <a:noFill/>
            <a:ln w="2844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314240" y="2984760"/>
              <a:ext cx="689040" cy="725400"/>
            </a:xfrm>
            <a:custGeom>
              <a:avLst/>
              <a:gdLst/>
              <a:ahLst/>
              <a:rect l="l" t="t" r="r" b="b"/>
              <a:pathLst>
                <a:path w="21555" h="21564">
                  <a:moveTo>
                    <a:pt x="0" y="1"/>
                  </a:moveTo>
                  <a:cubicBezTo>
                    <a:pt x="100" y="6"/>
                    <a:pt x="8079" y="0"/>
                    <a:pt x="11246" y="771"/>
                  </a:cubicBezTo>
                  <a:cubicBezTo>
                    <a:pt x="11487" y="830"/>
                    <a:pt x="11714" y="942"/>
                    <a:pt x="11949" y="1028"/>
                  </a:cubicBezTo>
                  <a:cubicBezTo>
                    <a:pt x="13661" y="2279"/>
                    <a:pt x="11508" y="752"/>
                    <a:pt x="13589" y="2055"/>
                  </a:cubicBezTo>
                  <a:cubicBezTo>
                    <a:pt x="15226" y="3080"/>
                    <a:pt x="13157" y="2071"/>
                    <a:pt x="15463" y="3082"/>
                  </a:cubicBezTo>
                  <a:cubicBezTo>
                    <a:pt x="16387" y="4600"/>
                    <a:pt x="15356" y="3181"/>
                    <a:pt x="16869" y="4365"/>
                  </a:cubicBezTo>
                  <a:cubicBezTo>
                    <a:pt x="17138" y="4576"/>
                    <a:pt x="17317" y="4903"/>
                    <a:pt x="17572" y="5135"/>
                  </a:cubicBezTo>
                  <a:cubicBezTo>
                    <a:pt x="17788" y="5333"/>
                    <a:pt x="18040" y="5478"/>
                    <a:pt x="18275" y="5649"/>
                  </a:cubicBezTo>
                  <a:cubicBezTo>
                    <a:pt x="18960" y="6775"/>
                    <a:pt x="19752" y="7940"/>
                    <a:pt x="20149" y="9243"/>
                  </a:cubicBezTo>
                  <a:cubicBezTo>
                    <a:pt x="20305" y="9756"/>
                    <a:pt x="20397" y="10299"/>
                    <a:pt x="20617" y="10783"/>
                  </a:cubicBezTo>
                  <a:cubicBezTo>
                    <a:pt x="20904" y="11411"/>
                    <a:pt x="21182" y="11900"/>
                    <a:pt x="21320" y="12580"/>
                  </a:cubicBezTo>
                  <a:cubicBezTo>
                    <a:pt x="21423" y="13088"/>
                    <a:pt x="21476" y="13607"/>
                    <a:pt x="21555" y="14120"/>
                  </a:cubicBezTo>
                  <a:cubicBezTo>
                    <a:pt x="21476" y="15233"/>
                    <a:pt x="21600" y="16385"/>
                    <a:pt x="21320" y="17458"/>
                  </a:cubicBezTo>
                  <a:cubicBezTo>
                    <a:pt x="21252" y="17718"/>
                    <a:pt x="20832" y="17580"/>
                    <a:pt x="20617" y="17714"/>
                  </a:cubicBezTo>
                  <a:cubicBezTo>
                    <a:pt x="18632" y="18958"/>
                    <a:pt x="20589" y="18152"/>
                    <a:pt x="18977" y="18741"/>
                  </a:cubicBezTo>
                  <a:cubicBezTo>
                    <a:pt x="18743" y="18912"/>
                    <a:pt x="18542" y="19157"/>
                    <a:pt x="18275" y="19254"/>
                  </a:cubicBezTo>
                  <a:cubicBezTo>
                    <a:pt x="17824" y="19419"/>
                    <a:pt x="17294" y="19278"/>
                    <a:pt x="16869" y="19511"/>
                  </a:cubicBezTo>
                  <a:cubicBezTo>
                    <a:pt x="16617" y="19649"/>
                    <a:pt x="16620" y="20089"/>
                    <a:pt x="16400" y="20281"/>
                  </a:cubicBezTo>
                  <a:cubicBezTo>
                    <a:pt x="16207" y="20450"/>
                    <a:pt x="15929" y="20443"/>
                    <a:pt x="15697" y="20538"/>
                  </a:cubicBezTo>
                  <a:cubicBezTo>
                    <a:pt x="13113" y="21600"/>
                    <a:pt x="15787" y="20620"/>
                    <a:pt x="13589" y="21308"/>
                  </a:cubicBezTo>
                  <a:cubicBezTo>
                    <a:pt x="13351" y="21383"/>
                    <a:pt x="12886" y="21565"/>
                    <a:pt x="12886" y="21565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"/>
          <p:cNvGrpSpPr/>
          <p:nvPr/>
        </p:nvGrpSpPr>
        <p:grpSpPr>
          <a:xfrm>
            <a:off x="6711840" y="2013120"/>
            <a:ext cx="2761560" cy="3357720"/>
            <a:chOff x="6711840" y="2013120"/>
            <a:chExt cx="2761560" cy="3357720"/>
          </a:xfrm>
        </p:grpSpPr>
        <p:sp>
          <p:nvSpPr>
            <p:cNvPr id="429" name=""/>
            <p:cNvSpPr/>
            <p:nvPr/>
          </p:nvSpPr>
          <p:spPr>
            <a:xfrm>
              <a:off x="8709840" y="2513160"/>
              <a:ext cx="1800" cy="1449360"/>
            </a:xfrm>
            <a:prstGeom prst="line">
              <a:avLst/>
            </a:prstGeom>
            <a:ln w="1908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5400000">
              <a:off x="8441280" y="3063960"/>
              <a:ext cx="504720" cy="2919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6941880" y="2513160"/>
              <a:ext cx="1800" cy="1449360"/>
            </a:xfrm>
            <a:prstGeom prst="line">
              <a:avLst/>
            </a:prstGeom>
            <a:ln w="1908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711840" y="3017880"/>
              <a:ext cx="430200" cy="444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941880" y="2517840"/>
              <a:ext cx="1767960" cy="1800"/>
            </a:xfrm>
            <a:prstGeom prst="line">
              <a:avLst/>
            </a:prstGeom>
            <a:ln w="1908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6927840" y="3964320"/>
              <a:ext cx="1767960" cy="1440"/>
            </a:xfrm>
            <a:prstGeom prst="line">
              <a:avLst/>
            </a:prstGeom>
            <a:ln w="1908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305840" y="2382840"/>
              <a:ext cx="505080" cy="295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103240" y="2460960"/>
              <a:ext cx="114120" cy="1141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103240" y="3907080"/>
              <a:ext cx="114120" cy="1141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804000" y="3054600"/>
              <a:ext cx="21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300440" y="2345040"/>
              <a:ext cx="496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849880" y="2575080"/>
              <a:ext cx="623520" cy="92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8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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349040" y="2013120"/>
              <a:ext cx="318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r>
                <a:rPr b="0" lang="en-US" sz="1800" spc="-1" strike="noStrike" baseline="-6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111160" y="2957760"/>
              <a:ext cx="318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r>
                <a:rPr b="0" lang="en-US" sz="1800" spc="-1" strike="noStrike" baseline="-6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95520" y="2687760"/>
              <a:ext cx="334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u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909480" y="4030920"/>
              <a:ext cx="1767960" cy="133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5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c6971"/>
                  </a:solidFill>
                  <a:latin typeface="Arial"/>
                  <a:ea typeface="Arial"/>
                </a:rPr>
                <a:t>Ersatzschaltung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>
                <a:lnSpc>
                  <a:spcPct val="150000"/>
                </a:lnSpc>
                <a:spcBef>
                  <a:spcPts val="414"/>
                </a:spcBef>
                <a:buClr>
                  <a:srgbClr val="5c6971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c6971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5c6971"/>
                  </a:solidFill>
                  <a:latin typeface="Arial"/>
                  <a:ea typeface="Arial"/>
                </a:rPr>
                <a:t>U</a:t>
              </a:r>
              <a:r>
                <a:rPr b="0" lang="en-US" sz="1800" spc="-1" strike="noStrike" baseline="-6000">
                  <a:solidFill>
                    <a:srgbClr val="5c6971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5c6971"/>
                  </a:solidFill>
                  <a:latin typeface="Arial"/>
                  <a:ea typeface="Arial"/>
                </a:rPr>
                <a:t> = 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marL="39600">
                <a:lnSpc>
                  <a:spcPct val="150000"/>
                </a:lnSpc>
                <a:spcBef>
                  <a:spcPts val="414"/>
                </a:spcBef>
                <a:buClr>
                  <a:srgbClr val="5c6971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c6971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5c6971"/>
                  </a:solidFill>
                  <a:latin typeface="Arial"/>
                  <a:ea typeface="Arial"/>
                </a:rPr>
                <a:t>P</a:t>
              </a:r>
              <a:r>
                <a:rPr b="0" lang="en-US" sz="1800" spc="-1" strike="noStrike" baseline="-6000">
                  <a:solidFill>
                    <a:srgbClr val="5c6971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5c6971"/>
                  </a:solidFill>
                  <a:latin typeface="Arial"/>
                  <a:ea typeface="Arial"/>
                </a:rPr>
                <a:t> = ?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" name=""/>
            <p:cNvGrpSpPr/>
            <p:nvPr/>
          </p:nvGrpSpPr>
          <p:grpSpPr>
            <a:xfrm>
              <a:off x="8456040" y="2898720"/>
              <a:ext cx="506520" cy="811080"/>
              <a:chOff x="8456040" y="2898720"/>
              <a:chExt cx="506520" cy="811080"/>
            </a:xfrm>
          </p:grpSpPr>
          <p:sp>
            <p:nvSpPr>
              <p:cNvPr id="446" name=""/>
              <p:cNvSpPr/>
              <p:nvPr/>
            </p:nvSpPr>
            <p:spPr>
              <a:xfrm flipV="1">
                <a:off x="8460000" y="3300480"/>
                <a:ext cx="1800" cy="409320"/>
              </a:xfrm>
              <a:prstGeom prst="line">
                <a:avLst/>
              </a:prstGeom>
              <a:ln w="1908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8456040" y="3704040"/>
                <a:ext cx="255600" cy="1440"/>
              </a:xfrm>
              <a:prstGeom prst="line">
                <a:avLst/>
              </a:prstGeom>
              <a:ln w="1908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V="1">
                <a:off x="8460720" y="2898720"/>
                <a:ext cx="501840" cy="407880"/>
              </a:xfrm>
              <a:prstGeom prst="line">
                <a:avLst/>
              </a:prstGeom>
              <a:ln w="19080">
                <a:solidFill>
                  <a:srgbClr val="40404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F3FF4-244E-4F48-B965-00C91D4B9F0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6413400" y="287280"/>
            <a:ext cx="2954520" cy="46836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6542280" y="6388200"/>
            <a:ext cx="271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Semester, Nachrichtentechnik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54640" y="6388200"/>
            <a:ext cx="293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llen und Leitungen, Übersicht, S. Ru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762120" y="330120"/>
            <a:ext cx="8534160" cy="4701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2001a"/>
                </a:solidFill>
                <a:latin typeface="Arial"/>
              </a:rPr>
              <a:t>Inhaltsübersicht</a:t>
            </a:r>
            <a:endParaRPr b="0" lang="en-US" sz="2400" spc="-1" strike="noStrike">
              <a:solidFill>
                <a:srgbClr val="e2001a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762120" y="97740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Wellen und Leitunge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349200" indent="-284040">
              <a:lnSpc>
                <a:spcPct val="150000"/>
              </a:lnSpc>
              <a:spcBef>
                <a:spcPts val="601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Schwingungen und Welle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349200" indent="-284040">
              <a:lnSpc>
                <a:spcPct val="150000"/>
              </a:lnSpc>
              <a:spcBef>
                <a:spcPts val="601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Reflexione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349200" indent="-284040">
              <a:lnSpc>
                <a:spcPct val="150000"/>
              </a:lnSpc>
              <a:spcBef>
                <a:spcPts val="601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Anpassung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349200" indent="-284040">
              <a:lnSpc>
                <a:spcPct val="150000"/>
              </a:lnSpc>
              <a:spcBef>
                <a:spcPts val="601"/>
              </a:spcBef>
              <a:buClr>
                <a:srgbClr val="d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0000"/>
                </a:solidFill>
                <a:latin typeface="Arial"/>
              </a:rPr>
              <a:t>Wellenausbreitung in Zweileitersysteme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349200" indent="-284040">
              <a:lnSpc>
                <a:spcPct val="150000"/>
              </a:lnSpc>
              <a:spcBef>
                <a:spcPts val="601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Hintergründe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CF718-3171-4C4D-A9AA-E2D8005F7BE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" descr=""/>
          <p:cNvPicPr/>
          <p:nvPr/>
        </p:nvPicPr>
        <p:blipFill>
          <a:blip r:embed="rId1"/>
          <a:stretch/>
        </p:blipFill>
        <p:spPr>
          <a:xfrm>
            <a:off x="6413400" y="287280"/>
            <a:ext cx="2954520" cy="46836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6542280" y="6388200"/>
            <a:ext cx="271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Semester, Nachrichtentechnik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54640" y="6388200"/>
            <a:ext cx="293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llen und Leitungen, Übersicht, S. Ru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762120" y="330120"/>
            <a:ext cx="8534160" cy="4701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2001a"/>
                </a:solidFill>
                <a:latin typeface="Arial"/>
              </a:rPr>
              <a:t>Zweileitersysteme</a:t>
            </a:r>
            <a:endParaRPr b="0" lang="en-US" sz="2400" spc="-1" strike="noStrike">
              <a:solidFill>
                <a:srgbClr val="e2001a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62120" y="977760"/>
            <a:ext cx="853416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algn="just">
              <a:lnSpc>
                <a:spcPct val="15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6971"/>
                </a:solidFill>
                <a:latin typeface="Arial"/>
                <a:ea typeface="Arial"/>
              </a:rPr>
              <a:t>Längshomogene Strukturen (konstanter Querschnit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37"/>
              </a:spcBef>
              <a:buClr>
                <a:srgbClr val="5c69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6971"/>
                </a:solidFill>
                <a:latin typeface="Arial"/>
                <a:ea typeface="Arial"/>
              </a:rPr>
              <a:t>Wellenlänge &gt;&gt; Querausdehnung der Lei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37"/>
              </a:spcBef>
              <a:buClr>
                <a:srgbClr val="5c69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6971"/>
                </a:solidFill>
                <a:latin typeface="Arial"/>
                <a:ea typeface="Arial"/>
              </a:rPr>
              <a:t>Beschränkung auf verlustlose Leitung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37"/>
              </a:spcBef>
              <a:buClr>
                <a:srgbClr val="5c69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6971"/>
                </a:solidFill>
                <a:latin typeface="Arial"/>
                <a:ea typeface="Arial"/>
              </a:rPr>
              <a:t>Beispie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284400">
              <a:lnSpc>
                <a:spcPct val="150000"/>
              </a:lnSpc>
              <a:spcBef>
                <a:spcPts val="638"/>
              </a:spcBef>
              <a:buClr>
                <a:srgbClr val="65656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Arial"/>
                <a:ea typeface="Arial"/>
              </a:rPr>
              <a:t>Koaxiale L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284400">
              <a:lnSpc>
                <a:spcPct val="150000"/>
              </a:lnSpc>
              <a:spcBef>
                <a:spcPts val="638"/>
              </a:spcBef>
              <a:buClr>
                <a:srgbClr val="65656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Arial"/>
                <a:ea typeface="Arial"/>
              </a:rPr>
              <a:t>Zweidraht-Leit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284400">
              <a:lnSpc>
                <a:spcPct val="150000"/>
              </a:lnSpc>
              <a:spcBef>
                <a:spcPts val="638"/>
              </a:spcBef>
              <a:buClr>
                <a:srgbClr val="65656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-284400">
              <a:lnSpc>
                <a:spcPct val="150000"/>
              </a:lnSpc>
              <a:spcBef>
                <a:spcPts val="638"/>
              </a:spcBef>
              <a:buClr>
                <a:srgbClr val="65656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66"/>
                </a:solidFill>
                <a:latin typeface="Arial"/>
                <a:ea typeface="Arial"/>
              </a:rPr>
              <a:t>Leiterbahn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9" name=""/>
          <p:cNvGrpSpPr/>
          <p:nvPr/>
        </p:nvGrpSpPr>
        <p:grpSpPr>
          <a:xfrm>
            <a:off x="3076560" y="2882880"/>
            <a:ext cx="6060600" cy="2820240"/>
            <a:chOff x="3076560" y="2882880"/>
            <a:chExt cx="6060600" cy="2820240"/>
          </a:xfrm>
        </p:grpSpPr>
        <p:grpSp>
          <p:nvGrpSpPr>
            <p:cNvPr id="460" name=""/>
            <p:cNvGrpSpPr/>
            <p:nvPr/>
          </p:nvGrpSpPr>
          <p:grpSpPr>
            <a:xfrm>
              <a:off x="3581280" y="2882880"/>
              <a:ext cx="870120" cy="851040"/>
              <a:chOff x="3581280" y="2882880"/>
              <a:chExt cx="870120" cy="851040"/>
            </a:xfrm>
          </p:grpSpPr>
          <p:sp>
            <p:nvSpPr>
              <p:cNvPr id="461" name=""/>
              <p:cNvSpPr/>
              <p:nvPr/>
            </p:nvSpPr>
            <p:spPr>
              <a:xfrm>
                <a:off x="3581280" y="2882880"/>
                <a:ext cx="870120" cy="851040"/>
              </a:xfrm>
              <a:prstGeom prst="ellipse">
                <a:avLst/>
              </a:prstGeom>
              <a:solidFill>
                <a:srgbClr val="daedef"/>
              </a:solidFill>
              <a:ln w="2844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678120" y="2971800"/>
                <a:ext cx="676440" cy="673200"/>
              </a:xfrm>
              <a:prstGeom prst="ellipse">
                <a:avLst/>
              </a:prstGeom>
              <a:solidFill>
                <a:srgbClr val="daedef"/>
              </a:solidFill>
              <a:ln w="28440">
                <a:solidFill>
                  <a:srgbClr val="2626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932280" y="3219480"/>
                <a:ext cx="166680" cy="16812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2626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3815280" y="3940560"/>
              <a:ext cx="279000" cy="717480"/>
              <a:chOff x="3815280" y="3940560"/>
              <a:chExt cx="279000" cy="717480"/>
            </a:xfrm>
          </p:grpSpPr>
          <p:sp>
            <p:nvSpPr>
              <p:cNvPr id="465" name=""/>
              <p:cNvSpPr/>
              <p:nvPr/>
            </p:nvSpPr>
            <p:spPr>
              <a:xfrm rot="5400000">
                <a:off x="3740040" y="4237200"/>
                <a:ext cx="434880" cy="136800"/>
              </a:xfrm>
              <a:prstGeom prst="ellipse">
                <a:avLst/>
              </a:prstGeom>
              <a:solidFill>
                <a:srgbClr val="daedef"/>
              </a:solidFill>
              <a:ln w="2844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5400000">
                <a:off x="3818160" y="4385160"/>
                <a:ext cx="269640" cy="275760"/>
              </a:xfrm>
              <a:prstGeom prst="ellipse">
                <a:avLst/>
              </a:prstGeom>
              <a:solidFill>
                <a:srgbClr val="daedef"/>
              </a:solidFill>
              <a:ln w="2844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5400000">
                <a:off x="3821400" y="3937680"/>
                <a:ext cx="270000" cy="275760"/>
              </a:xfrm>
              <a:prstGeom prst="ellipse">
                <a:avLst/>
              </a:prstGeom>
              <a:solidFill>
                <a:srgbClr val="daedef"/>
              </a:solidFill>
              <a:ln w="28440">
                <a:solidFill>
                  <a:srgbClr val="bbe0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rot="5400000">
                <a:off x="3873240" y="3989520"/>
                <a:ext cx="166680" cy="17028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2626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rot="5400000">
                <a:off x="3873240" y="4437360"/>
                <a:ext cx="166680" cy="170280"/>
              </a:xfrm>
              <a:prstGeom prst="ellipse">
                <a:avLst/>
              </a:prstGeom>
              <a:solidFill>
                <a:srgbClr val="333399"/>
              </a:solidFill>
              <a:ln w="9360">
                <a:solidFill>
                  <a:srgbClr val="26267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5535720" y="2946240"/>
              <a:ext cx="3600360" cy="720720"/>
              <a:chOff x="5535720" y="2946240"/>
              <a:chExt cx="3600360" cy="720720"/>
            </a:xfrm>
          </p:grpSpPr>
          <p:sp>
            <p:nvSpPr>
              <p:cNvPr id="471" name=""/>
              <p:cNvSpPr/>
              <p:nvPr/>
            </p:nvSpPr>
            <p:spPr>
              <a:xfrm>
                <a:off x="6750000" y="3236040"/>
                <a:ext cx="2386080" cy="14256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299280" y="3057480"/>
                <a:ext cx="2387520" cy="488160"/>
              </a:xfrm>
              <a:prstGeom prst="rect">
                <a:avLst/>
              </a:prstGeom>
              <a:solidFill>
                <a:srgbClr val="daedef"/>
              </a:solidFill>
              <a:ln w="9360">
                <a:solidFill>
                  <a:srgbClr val="badd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20000" y="3024000"/>
                <a:ext cx="2386080" cy="56484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535720" y="2946240"/>
                <a:ext cx="2655720" cy="720720"/>
              </a:xfrm>
              <a:prstGeom prst="rect">
                <a:avLst/>
              </a:prstGeom>
              <a:solidFill>
                <a:srgbClr val="daedef"/>
              </a:solidFill>
              <a:ln w="9360">
                <a:solidFill>
                  <a:srgbClr val="badd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5" name=""/>
            <p:cNvGrpSpPr/>
            <p:nvPr/>
          </p:nvGrpSpPr>
          <p:grpSpPr>
            <a:xfrm>
              <a:off x="3076560" y="5061960"/>
              <a:ext cx="1779480" cy="371160"/>
              <a:chOff x="3076560" y="5061960"/>
              <a:chExt cx="1779480" cy="371160"/>
            </a:xfrm>
          </p:grpSpPr>
          <p:sp>
            <p:nvSpPr>
              <p:cNvPr id="476" name=""/>
              <p:cNvSpPr/>
              <p:nvPr/>
            </p:nvSpPr>
            <p:spPr>
              <a:xfrm>
                <a:off x="3786120" y="5061960"/>
                <a:ext cx="358920" cy="11772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3076560" y="5179680"/>
                <a:ext cx="1779480" cy="253440"/>
              </a:xfrm>
              <a:prstGeom prst="rect">
                <a:avLst/>
              </a:prstGeom>
              <a:solidFill>
                <a:srgbClr val="daedef"/>
              </a:solidFill>
              <a:ln w="9360">
                <a:solidFill>
                  <a:srgbClr val="badde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3484440" y="5315400"/>
                <a:ext cx="979560" cy="11772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9" name=""/>
            <p:cNvSpPr/>
            <p:nvPr/>
          </p:nvSpPr>
          <p:spPr>
            <a:xfrm>
              <a:off x="6751800" y="4042080"/>
              <a:ext cx="2384280" cy="1414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751800" y="4393440"/>
              <a:ext cx="2384280" cy="14292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535720" y="3908880"/>
              <a:ext cx="3152520" cy="721080"/>
            </a:xfrm>
            <a:prstGeom prst="rect">
              <a:avLst/>
            </a:prstGeom>
            <a:solidFill>
              <a:srgbClr val="daedef"/>
            </a:solidFill>
            <a:ln w="9360">
              <a:solidFill>
                <a:srgbClr val="badd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535720" y="3988080"/>
              <a:ext cx="3152520" cy="222480"/>
            </a:xfrm>
            <a:prstGeom prst="rect">
              <a:avLst/>
            </a:prstGeom>
            <a:solidFill>
              <a:srgbClr val="daedef"/>
            </a:solidFill>
            <a:ln w="9360">
              <a:solidFill>
                <a:srgbClr val="badd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5535720" y="4355280"/>
              <a:ext cx="3152520" cy="220680"/>
            </a:xfrm>
            <a:prstGeom prst="rect">
              <a:avLst/>
            </a:prstGeom>
            <a:solidFill>
              <a:srgbClr val="daedef"/>
            </a:solidFill>
            <a:ln w="9360">
              <a:solidFill>
                <a:srgbClr val="badde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"/>
            <p:cNvGrpSpPr/>
            <p:nvPr/>
          </p:nvGrpSpPr>
          <p:grpSpPr>
            <a:xfrm>
              <a:off x="5064120" y="4699800"/>
              <a:ext cx="4073040" cy="1003320"/>
              <a:chOff x="5064120" y="4699800"/>
              <a:chExt cx="4073040" cy="1003320"/>
            </a:xfrm>
          </p:grpSpPr>
          <p:sp>
            <p:nvSpPr>
              <p:cNvPr id="485" name=""/>
              <p:cNvSpPr/>
              <p:nvPr/>
            </p:nvSpPr>
            <p:spPr>
              <a:xfrm>
                <a:off x="5535720" y="4757040"/>
                <a:ext cx="1800" cy="946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535720" y="4826880"/>
                <a:ext cx="360144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 flipH="1">
                <a:off x="5177160" y="4826880"/>
                <a:ext cx="358560" cy="311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064120" y="4699800"/>
                <a:ext cx="1954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40680" tIns="0" bIns="0" anchor="t">
                <a:spAutoFit/>
              </a:bodyPr>
              <a:p>
                <a:pPr marL="39600">
                  <a:lnSpc>
                    <a:spcPct val="100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572800" y="5256000"/>
                <a:ext cx="1954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40680" tIns="0" bIns="0" anchor="t">
                <a:spAutoFit/>
              </a:bodyPr>
              <a:p>
                <a:pPr marL="39600">
                  <a:lnSpc>
                    <a:spcPct val="100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724240" y="4850640"/>
                <a:ext cx="1954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40680" tIns="0" bIns="0" anchor="t">
                <a:spAutoFit/>
              </a:bodyPr>
              <a:p>
                <a:pPr marL="39600">
                  <a:lnSpc>
                    <a:spcPct val="100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10FDD-A47D-4DB2-8261-E5802CE634E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762120" y="977760"/>
            <a:ext cx="853416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 Zweileiter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37"/>
              </a:spcBef>
              <a:buClr>
                <a:srgbClr val="6666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versale Elektro-Magnetische (TEM) Wellen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ine Feldlinien in Ausbreitungsrichtu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37"/>
              </a:spcBef>
              <a:buClr>
                <a:srgbClr val="6666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37"/>
              </a:spcBef>
              <a:buClr>
                <a:srgbClr val="6666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itungsmodellKapazitätsbelag C‘Induktivitätsbelag L‘Ausbreitungsgeschwindigkeit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37"/>
              </a:spcBef>
              <a:buClr>
                <a:srgbClr val="6666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llenwiderstan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37"/>
              </a:spcBef>
              <a:buClr>
                <a:srgbClr val="666666"/>
              </a:buClr>
              <a:buSzPct val="12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6413400" y="287280"/>
            <a:ext cx="2954520" cy="46836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6542280" y="6388200"/>
            <a:ext cx="271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Semester, Nachrichtentechnik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854640" y="6388200"/>
            <a:ext cx="293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llen und Leitungen, Übersicht, S. Ru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762120" y="330120"/>
            <a:ext cx="8534160" cy="4701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2001a"/>
                </a:solidFill>
                <a:latin typeface="Arial"/>
              </a:rPr>
              <a:t>Wellenausbreitung</a:t>
            </a:r>
            <a:endParaRPr b="0" lang="en-US" sz="2400" spc="-1" strike="noStrike">
              <a:solidFill>
                <a:srgbClr val="e2001a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6750000" y="976320"/>
            <a:ext cx="1800360" cy="1441440"/>
          </a:xfrm>
          <a:prstGeom prst="rect">
            <a:avLst/>
          </a:prstGeom>
          <a:ln w="0">
            <a:noFill/>
          </a:ln>
        </p:spPr>
      </p:pic>
      <p:grpSp>
        <p:nvGrpSpPr>
          <p:cNvPr id="497" name=""/>
          <p:cNvGrpSpPr/>
          <p:nvPr/>
        </p:nvGrpSpPr>
        <p:grpSpPr>
          <a:xfrm>
            <a:off x="4299120" y="2577960"/>
            <a:ext cx="4267080" cy="1793880"/>
            <a:chOff x="4299120" y="2577960"/>
            <a:chExt cx="4267080" cy="1793880"/>
          </a:xfrm>
        </p:grpSpPr>
        <p:grpSp>
          <p:nvGrpSpPr>
            <p:cNvPr id="498" name=""/>
            <p:cNvGrpSpPr/>
            <p:nvPr/>
          </p:nvGrpSpPr>
          <p:grpSpPr>
            <a:xfrm>
              <a:off x="4299120" y="2949480"/>
              <a:ext cx="4267080" cy="970920"/>
              <a:chOff x="4299120" y="2949480"/>
              <a:chExt cx="4267080" cy="970920"/>
            </a:xfrm>
          </p:grpSpPr>
          <p:grpSp>
            <p:nvGrpSpPr>
              <p:cNvPr id="499" name=""/>
              <p:cNvGrpSpPr/>
              <p:nvPr/>
            </p:nvGrpSpPr>
            <p:grpSpPr>
              <a:xfrm>
                <a:off x="5457240" y="3076560"/>
                <a:ext cx="344520" cy="843840"/>
                <a:chOff x="5457240" y="3076560"/>
                <a:chExt cx="344520" cy="843840"/>
              </a:xfrm>
            </p:grpSpPr>
            <p:sp>
              <p:nvSpPr>
                <p:cNvPr id="500" name=""/>
                <p:cNvSpPr/>
                <p:nvPr/>
              </p:nvSpPr>
              <p:spPr>
                <a:xfrm flipV="1">
                  <a:off x="5457240" y="3443760"/>
                  <a:ext cx="344520" cy="1440"/>
                </a:xfrm>
                <a:prstGeom prst="line">
                  <a:avLst/>
                </a:prstGeom>
                <a:ln w="28440">
                  <a:solidFill>
                    <a:srgbClr val="26262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"/>
                <p:cNvSpPr/>
                <p:nvPr/>
              </p:nvSpPr>
              <p:spPr>
                <a:xfrm flipV="1">
                  <a:off x="5457240" y="3510360"/>
                  <a:ext cx="344520" cy="1440"/>
                </a:xfrm>
                <a:prstGeom prst="line">
                  <a:avLst/>
                </a:prstGeom>
                <a:ln w="28440">
                  <a:solidFill>
                    <a:srgbClr val="26262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5624640" y="3076560"/>
                  <a:ext cx="1440" cy="365400"/>
                </a:xfrm>
                <a:prstGeom prst="line">
                  <a:avLst/>
                </a:prstGeom>
                <a:ln w="28440">
                  <a:solidFill>
                    <a:srgbClr val="26262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 flipH="1">
                  <a:off x="5624280" y="3510360"/>
                  <a:ext cx="4680" cy="410040"/>
                </a:xfrm>
                <a:prstGeom prst="line">
                  <a:avLst/>
                </a:prstGeom>
                <a:ln w="28440">
                  <a:solidFill>
                    <a:srgbClr val="26262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4" name=""/>
              <p:cNvGrpSpPr/>
              <p:nvPr/>
            </p:nvGrpSpPr>
            <p:grpSpPr>
              <a:xfrm>
                <a:off x="4340520" y="2962080"/>
                <a:ext cx="1284120" cy="120240"/>
                <a:chOff x="4340520" y="2962080"/>
                <a:chExt cx="1284120" cy="120240"/>
              </a:xfrm>
            </p:grpSpPr>
            <p:sp>
              <p:nvSpPr>
                <p:cNvPr id="505" name=""/>
                <p:cNvSpPr/>
                <p:nvPr/>
              </p:nvSpPr>
              <p:spPr>
                <a:xfrm>
                  <a:off x="4754880" y="2962080"/>
                  <a:ext cx="235080" cy="112320"/>
                </a:xfrm>
                <a:custGeom>
                  <a:avLst/>
                  <a:gdLst/>
                  <a:ahLst/>
                  <a:rect l="l" t="t" r="r" b="b"/>
                  <a:pathLst>
                    <a:path w="21492" h="20584">
                      <a:moveTo>
                        <a:pt x="113" y="21600"/>
                      </a:moveTo>
                      <a:cubicBezTo>
                        <a:pt x="0" y="14494"/>
                        <a:pt x="1924" y="7811"/>
                        <a:pt x="5165" y="4047"/>
                      </a:cubicBezTo>
                      <a:cubicBezTo>
                        <a:pt x="8545" y="123"/>
                        <a:pt x="12814" y="0"/>
                        <a:pt x="16258" y="3728"/>
                      </a:cubicBezTo>
                      <a:cubicBezTo>
                        <a:pt x="19565" y="7308"/>
                        <a:pt x="21600" y="13890"/>
                        <a:pt x="21600" y="21009"/>
                      </a:cubicBezTo>
                    </a:path>
                  </a:pathLst>
                </a:custGeom>
                <a:noFill/>
                <a:ln w="28440">
                  <a:solidFill>
                    <a:srgbClr val="26262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4989960" y="2970000"/>
                  <a:ext cx="234720" cy="112320"/>
                </a:xfrm>
                <a:custGeom>
                  <a:avLst/>
                  <a:gdLst/>
                  <a:ahLst/>
                  <a:rect l="l" t="t" r="r" b="b"/>
                  <a:pathLst>
                    <a:path w="21492" h="20584">
                      <a:moveTo>
                        <a:pt x="113" y="21600"/>
                      </a:moveTo>
                      <a:cubicBezTo>
                        <a:pt x="0" y="14494"/>
                        <a:pt x="1924" y="7811"/>
                        <a:pt x="5165" y="4047"/>
                      </a:cubicBezTo>
                      <a:cubicBezTo>
                        <a:pt x="8545" y="123"/>
                        <a:pt x="12814" y="0"/>
                        <a:pt x="16258" y="3728"/>
                      </a:cubicBezTo>
                      <a:cubicBezTo>
                        <a:pt x="19565" y="7308"/>
                        <a:pt x="21600" y="13890"/>
                        <a:pt x="21600" y="21009"/>
                      </a:cubicBezTo>
                    </a:path>
                  </a:pathLst>
                </a:custGeom>
                <a:noFill/>
                <a:ln w="28440">
                  <a:solidFill>
                    <a:srgbClr val="26262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5215320" y="2970000"/>
                  <a:ext cx="236520" cy="112320"/>
                </a:xfrm>
                <a:custGeom>
                  <a:avLst/>
                  <a:gdLst/>
                  <a:ahLst/>
                  <a:rect l="l" t="t" r="r" b="b"/>
                  <a:pathLst>
                    <a:path w="21491" h="20595">
                      <a:moveTo>
                        <a:pt x="114" y="21600"/>
                      </a:moveTo>
                      <a:cubicBezTo>
                        <a:pt x="0" y="14469"/>
                        <a:pt x="1935" y="7765"/>
                        <a:pt x="5193" y="4006"/>
                      </a:cubicBezTo>
                      <a:cubicBezTo>
                        <a:pt x="8560" y="122"/>
                        <a:pt x="12802" y="0"/>
                        <a:pt x="16231" y="3689"/>
                      </a:cubicBezTo>
                      <a:cubicBezTo>
                        <a:pt x="19554" y="7262"/>
                        <a:pt x="21600" y="13862"/>
                        <a:pt x="21600" y="21004"/>
                      </a:cubicBezTo>
                    </a:path>
                  </a:pathLst>
                </a:custGeom>
                <a:noFill/>
                <a:ln w="28440">
                  <a:solidFill>
                    <a:srgbClr val="26262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4519800" y="2970000"/>
                  <a:ext cx="235080" cy="112320"/>
                </a:xfrm>
                <a:custGeom>
                  <a:avLst/>
                  <a:gdLst/>
                  <a:ahLst/>
                  <a:rect l="l" t="t" r="r" b="b"/>
                  <a:pathLst>
                    <a:path w="21492" h="20584">
                      <a:moveTo>
                        <a:pt x="113" y="21600"/>
                      </a:moveTo>
                      <a:cubicBezTo>
                        <a:pt x="0" y="14494"/>
                        <a:pt x="1924" y="7811"/>
                        <a:pt x="5165" y="4047"/>
                      </a:cubicBezTo>
                      <a:cubicBezTo>
                        <a:pt x="8545" y="123"/>
                        <a:pt x="12814" y="0"/>
                        <a:pt x="16258" y="3728"/>
                      </a:cubicBezTo>
                      <a:cubicBezTo>
                        <a:pt x="19565" y="7308"/>
                        <a:pt x="21600" y="13890"/>
                        <a:pt x="21600" y="21009"/>
                      </a:cubicBezTo>
                    </a:path>
                  </a:pathLst>
                </a:custGeom>
                <a:noFill/>
                <a:ln w="28440">
                  <a:solidFill>
                    <a:srgbClr val="26262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4340520" y="3079080"/>
                  <a:ext cx="173160" cy="1440"/>
                </a:xfrm>
                <a:prstGeom prst="line">
                  <a:avLst/>
                </a:prstGeom>
                <a:ln w="28440">
                  <a:solidFill>
                    <a:srgbClr val="26262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"/>
                <p:cNvSpPr/>
                <p:nvPr/>
              </p:nvSpPr>
              <p:spPr>
                <a:xfrm>
                  <a:off x="5451840" y="3072600"/>
                  <a:ext cx="172800" cy="1800"/>
                </a:xfrm>
                <a:prstGeom prst="line">
                  <a:avLst/>
                </a:prstGeom>
                <a:ln w="28440">
                  <a:solidFill>
                    <a:srgbClr val="26262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1" name=""/>
              <p:cNvGrpSpPr/>
              <p:nvPr/>
            </p:nvGrpSpPr>
            <p:grpSpPr>
              <a:xfrm>
                <a:off x="6909120" y="2949480"/>
                <a:ext cx="1280520" cy="119160"/>
                <a:chOff x="6909120" y="2949480"/>
                <a:chExt cx="1280520" cy="119160"/>
              </a:xfrm>
            </p:grpSpPr>
            <p:sp>
              <p:nvSpPr>
                <p:cNvPr id="512" name=""/>
                <p:cNvSpPr/>
                <p:nvPr/>
              </p:nvSpPr>
              <p:spPr>
                <a:xfrm>
                  <a:off x="7321680" y="2949480"/>
                  <a:ext cx="234360" cy="111240"/>
                </a:xfrm>
                <a:custGeom>
                  <a:avLst/>
                  <a:gdLst/>
                  <a:ahLst/>
                  <a:rect l="l" t="t" r="r" b="b"/>
                  <a:pathLst>
                    <a:path w="21492" h="20584">
                      <a:moveTo>
                        <a:pt x="113" y="21600"/>
                      </a:moveTo>
                      <a:cubicBezTo>
                        <a:pt x="0" y="14494"/>
                        <a:pt x="1924" y="7811"/>
                        <a:pt x="5165" y="4047"/>
                      </a:cubicBezTo>
                      <a:cubicBezTo>
                        <a:pt x="8545" y="123"/>
                        <a:pt x="12814" y="0"/>
                        <a:pt x="16258" y="3728"/>
                      </a:cubicBezTo>
                      <a:cubicBezTo>
                        <a:pt x="19565" y="7308"/>
                        <a:pt x="21600" y="13890"/>
                        <a:pt x="21600" y="21009"/>
                      </a:cubicBezTo>
                    </a:path>
                  </a:pathLst>
                </a:custGeom>
                <a:noFill/>
                <a:ln w="28440">
                  <a:solidFill>
                    <a:srgbClr val="26262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7556400" y="2955960"/>
                  <a:ext cx="234720" cy="112680"/>
                </a:xfrm>
                <a:custGeom>
                  <a:avLst/>
                  <a:gdLst/>
                  <a:ahLst/>
                  <a:rect l="l" t="t" r="r" b="b"/>
                  <a:pathLst>
                    <a:path w="21492" h="20584">
                      <a:moveTo>
                        <a:pt x="113" y="21600"/>
                      </a:moveTo>
                      <a:cubicBezTo>
                        <a:pt x="0" y="14494"/>
                        <a:pt x="1924" y="7811"/>
                        <a:pt x="5165" y="4047"/>
                      </a:cubicBezTo>
                      <a:cubicBezTo>
                        <a:pt x="8545" y="123"/>
                        <a:pt x="12814" y="0"/>
                        <a:pt x="16258" y="3728"/>
                      </a:cubicBezTo>
                      <a:cubicBezTo>
                        <a:pt x="19565" y="7308"/>
                        <a:pt x="21600" y="13890"/>
                        <a:pt x="21600" y="21009"/>
                      </a:cubicBezTo>
                    </a:path>
                  </a:pathLst>
                </a:custGeom>
                <a:noFill/>
                <a:ln w="28440">
                  <a:solidFill>
                    <a:srgbClr val="26262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7783560" y="2955960"/>
                  <a:ext cx="234360" cy="112680"/>
                </a:xfrm>
                <a:custGeom>
                  <a:avLst/>
                  <a:gdLst/>
                  <a:ahLst/>
                  <a:rect l="l" t="t" r="r" b="b"/>
                  <a:pathLst>
                    <a:path w="21492" h="20584">
                      <a:moveTo>
                        <a:pt x="113" y="21600"/>
                      </a:moveTo>
                      <a:cubicBezTo>
                        <a:pt x="0" y="14494"/>
                        <a:pt x="1924" y="7811"/>
                        <a:pt x="5165" y="4047"/>
                      </a:cubicBezTo>
                      <a:cubicBezTo>
                        <a:pt x="8545" y="123"/>
                        <a:pt x="12814" y="0"/>
                        <a:pt x="16258" y="3728"/>
                      </a:cubicBezTo>
                      <a:cubicBezTo>
                        <a:pt x="19565" y="7308"/>
                        <a:pt x="21600" y="13890"/>
                        <a:pt x="21600" y="21009"/>
                      </a:cubicBezTo>
                    </a:path>
                  </a:pathLst>
                </a:custGeom>
                <a:noFill/>
                <a:ln w="28440">
                  <a:solidFill>
                    <a:srgbClr val="26262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7086600" y="2955960"/>
                  <a:ext cx="234720" cy="112680"/>
                </a:xfrm>
                <a:custGeom>
                  <a:avLst/>
                  <a:gdLst/>
                  <a:ahLst/>
                  <a:rect l="l" t="t" r="r" b="b"/>
                  <a:pathLst>
                    <a:path w="21492" h="20584">
                      <a:moveTo>
                        <a:pt x="113" y="21600"/>
                      </a:moveTo>
                      <a:cubicBezTo>
                        <a:pt x="0" y="14494"/>
                        <a:pt x="1924" y="7811"/>
                        <a:pt x="5165" y="4047"/>
                      </a:cubicBezTo>
                      <a:cubicBezTo>
                        <a:pt x="8545" y="123"/>
                        <a:pt x="12814" y="0"/>
                        <a:pt x="16258" y="3728"/>
                      </a:cubicBezTo>
                      <a:cubicBezTo>
                        <a:pt x="19565" y="7308"/>
                        <a:pt x="21600" y="13890"/>
                        <a:pt x="21600" y="21009"/>
                      </a:cubicBezTo>
                    </a:path>
                  </a:pathLst>
                </a:custGeom>
                <a:noFill/>
                <a:ln w="28440">
                  <a:solidFill>
                    <a:srgbClr val="26262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6909120" y="3065400"/>
                  <a:ext cx="172800" cy="1440"/>
                </a:xfrm>
                <a:prstGeom prst="line">
                  <a:avLst/>
                </a:prstGeom>
                <a:ln w="28440">
                  <a:solidFill>
                    <a:srgbClr val="26262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8018280" y="3058920"/>
                  <a:ext cx="171360" cy="1800"/>
                </a:xfrm>
                <a:prstGeom prst="line">
                  <a:avLst/>
                </a:prstGeom>
                <a:ln w="28440">
                  <a:solidFill>
                    <a:srgbClr val="26262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5623200" y="2958840"/>
                <a:ext cx="1283760" cy="118800"/>
                <a:chOff x="5623200" y="2958840"/>
                <a:chExt cx="1283760" cy="11880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6036480" y="2958840"/>
                  <a:ext cx="236520" cy="110880"/>
                </a:xfrm>
                <a:custGeom>
                  <a:avLst/>
                  <a:gdLst/>
                  <a:ahLst/>
                  <a:rect l="l" t="t" r="r" b="b"/>
                  <a:pathLst>
                    <a:path w="21491" h="20596">
                      <a:moveTo>
                        <a:pt x="114" y="21600"/>
                      </a:moveTo>
                      <a:cubicBezTo>
                        <a:pt x="0" y="14466"/>
                        <a:pt x="1937" y="7760"/>
                        <a:pt x="5196" y="4002"/>
                      </a:cubicBezTo>
                      <a:cubicBezTo>
                        <a:pt x="8562" y="122"/>
                        <a:pt x="12800" y="0"/>
                        <a:pt x="16229" y="3685"/>
                      </a:cubicBezTo>
                      <a:cubicBezTo>
                        <a:pt x="19552" y="7258"/>
                        <a:pt x="21600" y="13860"/>
                        <a:pt x="21600" y="21004"/>
                      </a:cubicBezTo>
                    </a:path>
                  </a:pathLst>
                </a:custGeom>
                <a:noFill/>
                <a:ln w="28440">
                  <a:solidFill>
                    <a:srgbClr val="26262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6271560" y="2966760"/>
                  <a:ext cx="236520" cy="110880"/>
                </a:xfrm>
                <a:custGeom>
                  <a:avLst/>
                  <a:gdLst/>
                  <a:ahLst/>
                  <a:rect l="l" t="t" r="r" b="b"/>
                  <a:pathLst>
                    <a:path w="21491" h="20596">
                      <a:moveTo>
                        <a:pt x="114" y="21600"/>
                      </a:moveTo>
                      <a:cubicBezTo>
                        <a:pt x="0" y="14466"/>
                        <a:pt x="1937" y="7760"/>
                        <a:pt x="5196" y="4002"/>
                      </a:cubicBezTo>
                      <a:cubicBezTo>
                        <a:pt x="8562" y="122"/>
                        <a:pt x="12800" y="0"/>
                        <a:pt x="16229" y="3685"/>
                      </a:cubicBezTo>
                      <a:cubicBezTo>
                        <a:pt x="19552" y="7258"/>
                        <a:pt x="21600" y="13860"/>
                        <a:pt x="21600" y="21004"/>
                      </a:cubicBezTo>
                    </a:path>
                  </a:pathLst>
                </a:custGeom>
                <a:noFill/>
                <a:ln w="28440">
                  <a:solidFill>
                    <a:srgbClr val="26262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6496920" y="2966760"/>
                  <a:ext cx="238320" cy="110880"/>
                </a:xfrm>
                <a:custGeom>
                  <a:avLst/>
                  <a:gdLst/>
                  <a:ahLst/>
                  <a:rect l="l" t="t" r="r" b="b"/>
                  <a:pathLst>
                    <a:path w="21489" h="20606">
                      <a:moveTo>
                        <a:pt x="115" y="21600"/>
                      </a:moveTo>
                      <a:cubicBezTo>
                        <a:pt x="0" y="14441"/>
                        <a:pt x="1949" y="7714"/>
                        <a:pt x="5225" y="3961"/>
                      </a:cubicBezTo>
                      <a:cubicBezTo>
                        <a:pt x="8577" y="121"/>
                        <a:pt x="12788" y="0"/>
                        <a:pt x="16202" y="3646"/>
                      </a:cubicBezTo>
                      <a:cubicBezTo>
                        <a:pt x="19541" y="7213"/>
                        <a:pt x="21600" y="13832"/>
                        <a:pt x="21600" y="21000"/>
                      </a:cubicBezTo>
                    </a:path>
                  </a:pathLst>
                </a:custGeom>
                <a:noFill/>
                <a:ln w="28440">
                  <a:solidFill>
                    <a:srgbClr val="26262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5801040" y="2966760"/>
                  <a:ext cx="236520" cy="110880"/>
                </a:xfrm>
                <a:custGeom>
                  <a:avLst/>
                  <a:gdLst/>
                  <a:ahLst/>
                  <a:rect l="l" t="t" r="r" b="b"/>
                  <a:pathLst>
                    <a:path w="21491" h="20596">
                      <a:moveTo>
                        <a:pt x="114" y="21600"/>
                      </a:moveTo>
                      <a:cubicBezTo>
                        <a:pt x="0" y="14466"/>
                        <a:pt x="1937" y="7760"/>
                        <a:pt x="5196" y="4002"/>
                      </a:cubicBezTo>
                      <a:cubicBezTo>
                        <a:pt x="8562" y="122"/>
                        <a:pt x="12800" y="0"/>
                        <a:pt x="16229" y="3685"/>
                      </a:cubicBezTo>
                      <a:cubicBezTo>
                        <a:pt x="19552" y="7258"/>
                        <a:pt x="21600" y="13860"/>
                        <a:pt x="21600" y="21004"/>
                      </a:cubicBezTo>
                    </a:path>
                  </a:pathLst>
                </a:custGeom>
                <a:noFill/>
                <a:ln w="28440">
                  <a:solidFill>
                    <a:srgbClr val="26262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623200" y="3074760"/>
                  <a:ext cx="171360" cy="1440"/>
                </a:xfrm>
                <a:prstGeom prst="line">
                  <a:avLst/>
                </a:prstGeom>
                <a:ln w="28440">
                  <a:solidFill>
                    <a:srgbClr val="26262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6733800" y="3068280"/>
                  <a:ext cx="173160" cy="1440"/>
                </a:xfrm>
                <a:prstGeom prst="line">
                  <a:avLst/>
                </a:prstGeom>
                <a:ln w="28440">
                  <a:solidFill>
                    <a:srgbClr val="26262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6744600" y="3065400"/>
                <a:ext cx="344520" cy="843840"/>
                <a:chOff x="6744600" y="3065400"/>
                <a:chExt cx="344520" cy="843840"/>
              </a:xfrm>
            </p:grpSpPr>
            <p:sp>
              <p:nvSpPr>
                <p:cNvPr id="526" name=""/>
                <p:cNvSpPr/>
                <p:nvPr/>
              </p:nvSpPr>
              <p:spPr>
                <a:xfrm flipV="1">
                  <a:off x="6744600" y="3432600"/>
                  <a:ext cx="344520" cy="1440"/>
                </a:xfrm>
                <a:prstGeom prst="line">
                  <a:avLst/>
                </a:prstGeom>
                <a:ln w="28440">
                  <a:solidFill>
                    <a:srgbClr val="26262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 flipV="1">
                  <a:off x="6744600" y="3499200"/>
                  <a:ext cx="344520" cy="1440"/>
                </a:xfrm>
                <a:prstGeom prst="line">
                  <a:avLst/>
                </a:prstGeom>
                <a:ln w="28440">
                  <a:solidFill>
                    <a:srgbClr val="26262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6910560" y="3065400"/>
                  <a:ext cx="1440" cy="367200"/>
                </a:xfrm>
                <a:prstGeom prst="line">
                  <a:avLst/>
                </a:prstGeom>
                <a:ln w="28440">
                  <a:solidFill>
                    <a:srgbClr val="26262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 flipH="1">
                  <a:off x="6910200" y="3499200"/>
                  <a:ext cx="6120" cy="410040"/>
                </a:xfrm>
                <a:prstGeom prst="line">
                  <a:avLst/>
                </a:prstGeom>
                <a:ln w="28440">
                  <a:solidFill>
                    <a:srgbClr val="26262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8017920" y="3057480"/>
                <a:ext cx="345960" cy="843840"/>
                <a:chOff x="8017920" y="3057480"/>
                <a:chExt cx="345960" cy="843840"/>
              </a:xfrm>
            </p:grpSpPr>
            <p:sp>
              <p:nvSpPr>
                <p:cNvPr id="531" name=""/>
                <p:cNvSpPr/>
                <p:nvPr/>
              </p:nvSpPr>
              <p:spPr>
                <a:xfrm flipV="1">
                  <a:off x="8017920" y="3423240"/>
                  <a:ext cx="345960" cy="1800"/>
                </a:xfrm>
                <a:prstGeom prst="line">
                  <a:avLst/>
                </a:prstGeom>
                <a:ln w="28440">
                  <a:solidFill>
                    <a:srgbClr val="26262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 flipV="1">
                  <a:off x="8017920" y="3490200"/>
                  <a:ext cx="345960" cy="1800"/>
                </a:xfrm>
                <a:prstGeom prst="line">
                  <a:avLst/>
                </a:prstGeom>
                <a:ln w="28440">
                  <a:solidFill>
                    <a:srgbClr val="26262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8185320" y="3057480"/>
                  <a:ext cx="1440" cy="366120"/>
                </a:xfrm>
                <a:prstGeom prst="line">
                  <a:avLst/>
                </a:prstGeom>
                <a:ln w="28440">
                  <a:solidFill>
                    <a:srgbClr val="26262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 flipH="1">
                  <a:off x="8185320" y="3490560"/>
                  <a:ext cx="6480" cy="410760"/>
                </a:xfrm>
                <a:prstGeom prst="line">
                  <a:avLst/>
                </a:prstGeom>
                <a:ln w="28440">
                  <a:solidFill>
                    <a:srgbClr val="26262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5" name=""/>
              <p:cNvSpPr/>
              <p:nvPr/>
            </p:nvSpPr>
            <p:spPr>
              <a:xfrm>
                <a:off x="8185320" y="3057480"/>
                <a:ext cx="380880" cy="1440"/>
              </a:xfrm>
              <a:prstGeom prst="line">
                <a:avLst/>
              </a:prstGeom>
              <a:ln w="28440">
                <a:solidFill>
                  <a:srgbClr val="2626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299120" y="3897000"/>
                <a:ext cx="4255920" cy="1800"/>
              </a:xfrm>
              <a:prstGeom prst="line">
                <a:avLst/>
              </a:prstGeom>
              <a:ln w="28440">
                <a:solidFill>
                  <a:srgbClr val="26262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6010920" y="2577960"/>
              <a:ext cx="562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‘ d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156800" y="3260520"/>
              <a:ext cx="600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‘ d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074280" y="4097160"/>
              <a:ext cx="321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624640" y="4108320"/>
              <a:ext cx="1292400" cy="1440"/>
            </a:xfrm>
            <a:prstGeom prst="line">
              <a:avLst/>
            </a:prstGeom>
            <a:ln w="9360">
              <a:solidFill>
                <a:srgbClr val="26262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" name=""/>
          <p:cNvGrpSpPr/>
          <p:nvPr/>
        </p:nvGrpSpPr>
        <p:grpSpPr>
          <a:xfrm>
            <a:off x="4202280" y="5362560"/>
            <a:ext cx="1568160" cy="520200"/>
            <a:chOff x="4202280" y="5362560"/>
            <a:chExt cx="1568160" cy="520200"/>
          </a:xfrm>
        </p:grpSpPr>
        <p:sp>
          <p:nvSpPr>
            <p:cNvPr id="542" name=""/>
            <p:cNvSpPr/>
            <p:nvPr/>
          </p:nvSpPr>
          <p:spPr>
            <a:xfrm>
              <a:off x="5005440" y="5424480"/>
              <a:ext cx="765000" cy="1440"/>
            </a:xfrm>
            <a:prstGeom prst="line">
              <a:avLst/>
            </a:prstGeom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202280" y="5362560"/>
              <a:ext cx="1434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5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c6971"/>
                  </a:solidFill>
                  <a:latin typeface="Arial"/>
                  <a:ea typeface="Arial"/>
                </a:rPr>
                <a:t>R</a:t>
              </a:r>
              <a:r>
                <a:rPr b="0" lang="en-US" sz="2000" spc="-1" strike="noStrike" baseline="-25000">
                  <a:solidFill>
                    <a:srgbClr val="5c6971"/>
                  </a:solidFill>
                  <a:latin typeface="Arial"/>
                  <a:ea typeface="Arial"/>
                </a:rPr>
                <a:t>w</a:t>
              </a:r>
              <a:r>
                <a:rPr b="0" lang="en-US" sz="2000" spc="-1" strike="noStrike">
                  <a:solidFill>
                    <a:srgbClr val="5c6971"/>
                  </a:solidFill>
                  <a:latin typeface="Arial"/>
                  <a:ea typeface="Arial"/>
                </a:rPr>
                <a:t>= </a:t>
              </a:r>
              <a:r>
                <a:rPr b="0" lang="en-US" sz="2000" spc="-1" strike="noStrike">
                  <a:solidFill>
                    <a:srgbClr val="5c6971"/>
                  </a:solidFill>
                  <a:latin typeface="Symbol"/>
                  <a:ea typeface="Symbol"/>
                </a:rPr>
                <a:t>√</a:t>
              </a:r>
              <a:r>
                <a:rPr b="0" lang="en-US" sz="2000" spc="-1" strike="noStrike">
                  <a:solidFill>
                    <a:srgbClr val="5c6971"/>
                  </a:solidFill>
                  <a:latin typeface="Arial"/>
                  <a:ea typeface="Arial"/>
                </a:rPr>
                <a:t> L‘/C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4172760" y="4660920"/>
            <a:ext cx="1728000" cy="499680"/>
            <a:chOff x="4172760" y="4660920"/>
            <a:chExt cx="1728000" cy="499680"/>
          </a:xfrm>
        </p:grpSpPr>
        <p:sp>
          <p:nvSpPr>
            <p:cNvPr id="545" name=""/>
            <p:cNvSpPr/>
            <p:nvPr/>
          </p:nvSpPr>
          <p:spPr>
            <a:xfrm>
              <a:off x="5135760" y="4727520"/>
              <a:ext cx="765000" cy="1800"/>
            </a:xfrm>
            <a:prstGeom prst="line">
              <a:avLst/>
            </a:prstGeom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72760" y="4660920"/>
              <a:ext cx="158076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5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c6971"/>
                  </a:solidFill>
                  <a:latin typeface="Arial"/>
                  <a:ea typeface="Arial"/>
                </a:rPr>
                <a:t>c</a:t>
              </a:r>
              <a:r>
                <a:rPr b="0" lang="en-US" sz="1400" spc="-1" strike="noStrike" baseline="-33000">
                  <a:solidFill>
                    <a:srgbClr val="5c6971"/>
                  </a:solidFill>
                  <a:latin typeface="Arial"/>
                  <a:ea typeface="Arial"/>
                </a:rPr>
                <a:t>W</a:t>
              </a:r>
              <a:r>
                <a:rPr b="0" lang="en-US" sz="2000" spc="-1" strike="noStrike">
                  <a:solidFill>
                    <a:srgbClr val="5c6971"/>
                  </a:solidFill>
                  <a:latin typeface="Arial"/>
                  <a:ea typeface="Arial"/>
                </a:rPr>
                <a:t>= 1/</a:t>
              </a:r>
              <a:r>
                <a:rPr b="0" lang="en-US" sz="2000" spc="-1" strike="noStrike">
                  <a:solidFill>
                    <a:srgbClr val="5c6971"/>
                  </a:solidFill>
                  <a:latin typeface="Symbol"/>
                  <a:ea typeface="Symbol"/>
                </a:rPr>
                <a:t>√</a:t>
              </a:r>
              <a:r>
                <a:rPr b="0" lang="en-US" sz="2000" spc="-1" strike="noStrike">
                  <a:solidFill>
                    <a:srgbClr val="5c6971"/>
                  </a:solidFill>
                  <a:latin typeface="Arial"/>
                  <a:ea typeface="Arial"/>
                </a:rPr>
                <a:t> L‘ C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B0A8B-DB1B-4BFB-B8CF-000215EF9A1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6413400" y="287280"/>
            <a:ext cx="2954520" cy="46836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6542280" y="6388200"/>
            <a:ext cx="271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Semester, Nachrichtentechnik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854640" y="6388200"/>
            <a:ext cx="293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llen und Leitungen, Übersicht, S. Ru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62120" y="330120"/>
            <a:ext cx="8534160" cy="4701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2001a"/>
                </a:solidFill>
                <a:latin typeface="Arial"/>
              </a:rPr>
              <a:t>TEM Wellen</a:t>
            </a:r>
            <a:endParaRPr b="0" lang="en-US" sz="2400" spc="-1" strike="noStrike">
              <a:solidFill>
                <a:srgbClr val="e2001a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62120" y="977760"/>
            <a:ext cx="853416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  <a:ea typeface="Arial"/>
              </a:rPr>
              <a:t>Transversale Elektro-Magnetische Wel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834160" y="4799160"/>
            <a:ext cx="765000" cy="144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6010560" y="2616120"/>
            <a:ext cx="562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‘ d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7500960" y="4335480"/>
            <a:ext cx="195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073920" y="4135320"/>
            <a:ext cx="32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624640" y="4146480"/>
            <a:ext cx="1292040" cy="1800"/>
          </a:xfrm>
          <a:prstGeom prst="line">
            <a:avLst/>
          </a:prstGeom>
          <a:ln w="9360">
            <a:solidFill>
              <a:srgbClr val="26262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1636560" y="2273400"/>
            <a:ext cx="5838840" cy="27907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2252520" y="3068640"/>
            <a:ext cx="5578560" cy="1216080"/>
          </a:xfrm>
          <a:prstGeom prst="line">
            <a:avLst/>
          </a:prstGeom>
          <a:ln w="93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119320" y="2089080"/>
            <a:ext cx="23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2001a"/>
                </a:solidFill>
                <a:latin typeface="Arial"/>
                <a:ea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497240" y="3068640"/>
            <a:ext cx="24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8DE7E1-5AF3-4868-A95F-94BAF91E743C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" descr=""/>
          <p:cNvPicPr/>
          <p:nvPr/>
        </p:nvPicPr>
        <p:blipFill>
          <a:blip r:embed="rId1"/>
          <a:stretch/>
        </p:blipFill>
        <p:spPr>
          <a:xfrm>
            <a:off x="6413400" y="287280"/>
            <a:ext cx="2954520" cy="46836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6542280" y="6388200"/>
            <a:ext cx="271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Semester, Nachrichtentechnik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854640" y="6388200"/>
            <a:ext cx="293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llen und Leitungen, Übersicht, S. Ru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2120" y="330120"/>
            <a:ext cx="8534160" cy="4701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2001a"/>
                </a:solidFill>
                <a:latin typeface="Arial"/>
              </a:rPr>
              <a:t>Ersatzschaltung</a:t>
            </a:r>
            <a:endParaRPr b="0" lang="en-US" sz="2400" spc="-1" strike="noStrike">
              <a:solidFill>
                <a:srgbClr val="e2001a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62120" y="977760"/>
            <a:ext cx="853416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203040" indent="-203040">
              <a:lnSpc>
                <a:spcPct val="150000"/>
              </a:lnSpc>
              <a:spcBef>
                <a:spcPts val="737"/>
              </a:spcBef>
              <a:buClr>
                <a:srgbClr val="666666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  <a:ea typeface="Arial"/>
              </a:rPr>
              <a:t>Hinlaufende und rücklaufende WellenSuperpositionsprinzip: Überlagerung hin- und rücklaufender Well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7718400" y="2774880"/>
            <a:ext cx="895320" cy="1266840"/>
          </a:xfrm>
          <a:prstGeom prst="rect">
            <a:avLst/>
          </a:prstGeom>
          <a:ln w="0">
            <a:noFill/>
          </a:ln>
        </p:spPr>
      </p:pic>
      <p:pic>
        <p:nvPicPr>
          <p:cNvPr id="567" name="" descr=""/>
          <p:cNvPicPr/>
          <p:nvPr/>
        </p:nvPicPr>
        <p:blipFill>
          <a:blip r:embed="rId3"/>
          <a:stretch/>
        </p:blipFill>
        <p:spPr>
          <a:xfrm>
            <a:off x="1293840" y="2832120"/>
            <a:ext cx="895320" cy="126684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185760" y="2671920"/>
            <a:ext cx="154944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8166240" y="2732040"/>
            <a:ext cx="1917720" cy="22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1741320" y="4157280"/>
            <a:ext cx="6392880" cy="3240"/>
          </a:xfrm>
          <a:prstGeom prst="line">
            <a:avLst/>
          </a:prstGeom>
          <a:ln w="507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838080" y="2352600"/>
            <a:ext cx="8028000" cy="849240"/>
            <a:chOff x="838080" y="2352600"/>
            <a:chExt cx="8028000" cy="849240"/>
          </a:xfrm>
        </p:grpSpPr>
        <p:sp>
          <p:nvSpPr>
            <p:cNvPr id="572" name=""/>
            <p:cNvSpPr/>
            <p:nvPr/>
          </p:nvSpPr>
          <p:spPr>
            <a:xfrm flipH="1">
              <a:off x="1309680" y="2352600"/>
              <a:ext cx="14400" cy="7588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309680" y="2614680"/>
              <a:ext cx="755640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H="1">
              <a:off x="951120" y="2614680"/>
              <a:ext cx="358560" cy="31248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38080" y="2487600"/>
              <a:ext cx="195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46880" y="2927160"/>
              <a:ext cx="195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482680" y="2585880"/>
              <a:ext cx="195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"/>
          <p:cNvSpPr/>
          <p:nvPr/>
        </p:nvSpPr>
        <p:spPr>
          <a:xfrm flipV="1">
            <a:off x="1735200" y="3607920"/>
            <a:ext cx="6392880" cy="3240"/>
          </a:xfrm>
          <a:prstGeom prst="line">
            <a:avLst/>
          </a:prstGeom>
          <a:ln w="5076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735200" y="2554200"/>
            <a:ext cx="1440" cy="182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8152920" y="2554200"/>
            <a:ext cx="1800" cy="1959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1465200" y="3699000"/>
            <a:ext cx="1800" cy="458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8305920" y="3695760"/>
            <a:ext cx="1440" cy="460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8305920" y="3554280"/>
            <a:ext cx="31572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1166760" y="3552840"/>
            <a:ext cx="31428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535720" y="2554200"/>
            <a:ext cx="1440" cy="1824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430960" y="3679920"/>
            <a:ext cx="1440" cy="458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164200" y="3533760"/>
            <a:ext cx="315720" cy="14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144800" y="3741840"/>
            <a:ext cx="2804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8391600" y="3699000"/>
            <a:ext cx="2804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4973760" y="3684600"/>
            <a:ext cx="474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(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839160" y="3371760"/>
            <a:ext cx="2044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8762400" y="3333600"/>
            <a:ext cx="2044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714920" y="3143160"/>
            <a:ext cx="398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(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152080" y="3724200"/>
            <a:ext cx="6998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 Bold"/>
                <a:ea typeface="Arial Bold"/>
              </a:rPr>
              <a:t>R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Arial Bold"/>
                <a:ea typeface="Arial Bold"/>
              </a:rPr>
              <a:t>W</a:t>
            </a:r>
            <a:r>
              <a:rPr b="0" lang="en-US" sz="1800" spc="-1" strike="noStrike">
                <a:solidFill>
                  <a:srgbClr val="0070c0"/>
                </a:solidFill>
                <a:latin typeface="Arial Bold"/>
                <a:ea typeface="Arial Bold"/>
              </a:rPr>
              <a:t>, c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Arial Bold"/>
                <a:ea typeface="Arial Bold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627560" y="2185920"/>
            <a:ext cx="20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8013960" y="2185920"/>
            <a:ext cx="20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8152920" y="2616120"/>
            <a:ext cx="1800" cy="19573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272720" y="4738680"/>
            <a:ext cx="166608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renzfläch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fexionsfak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DFB71-BA26-4BFA-9ED9-437132BBEDD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6413400" y="287280"/>
            <a:ext cx="2954520" cy="46836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6542280" y="6388200"/>
            <a:ext cx="271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Semester, Nachrichtentechnik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854640" y="6388200"/>
            <a:ext cx="293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llen und Leitungen, Übersicht, S. Ru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62120" y="330120"/>
            <a:ext cx="8534160" cy="4701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2001a"/>
                </a:solidFill>
                <a:latin typeface="Arial"/>
              </a:rPr>
              <a:t>Beispiel</a:t>
            </a:r>
            <a:endParaRPr b="0" lang="en-US" sz="2400" spc="-1" strike="noStrike">
              <a:solidFill>
                <a:srgbClr val="e2001a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762120" y="977760"/>
            <a:ext cx="853416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  <a:ea typeface="Arial"/>
              </a:rPr>
              <a:t>Abgeschlossene Leitung: Energietransport, u(t,z) und i (t, z) in Ph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66"/>
                </a:solidFill>
                <a:latin typeface="Arial"/>
                <a:ea typeface="Arial"/>
              </a:rPr>
              <a:t>Offene Leitung: stehende Wellen, kein Energietrans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"/>
          <p:cNvGrpSpPr/>
          <p:nvPr/>
        </p:nvGrpSpPr>
        <p:grpSpPr>
          <a:xfrm>
            <a:off x="824040" y="1555920"/>
            <a:ext cx="8548200" cy="1439640"/>
            <a:chOff x="824040" y="1555920"/>
            <a:chExt cx="8548200" cy="1439640"/>
          </a:xfrm>
        </p:grpSpPr>
        <p:grpSp>
          <p:nvGrpSpPr>
            <p:cNvPr id="605" name=""/>
            <p:cNvGrpSpPr/>
            <p:nvPr/>
          </p:nvGrpSpPr>
          <p:grpSpPr>
            <a:xfrm>
              <a:off x="824040" y="2091960"/>
              <a:ext cx="7377120" cy="772560"/>
              <a:chOff x="824040" y="2091960"/>
              <a:chExt cx="7377120" cy="772560"/>
            </a:xfrm>
          </p:grpSpPr>
          <p:sp>
            <p:nvSpPr>
              <p:cNvPr id="606" name=""/>
              <p:cNvSpPr/>
              <p:nvPr/>
            </p:nvSpPr>
            <p:spPr>
              <a:xfrm>
                <a:off x="824040" y="2123280"/>
                <a:ext cx="3693960" cy="741240"/>
              </a:xfrm>
              <a:custGeom>
                <a:avLst/>
                <a:gdLst/>
                <a:ahLst/>
                <a:rect l="l" t="t" r="r" b="b"/>
                <a:pathLst>
                  <a:path w="21600" h="21535">
                    <a:moveTo>
                      <a:pt x="0" y="10615"/>
                    </a:moveTo>
                    <a:cubicBezTo>
                      <a:pt x="114" y="11088"/>
                      <a:pt x="223" y="11562"/>
                      <a:pt x="334" y="12000"/>
                    </a:cubicBezTo>
                    <a:cubicBezTo>
                      <a:pt x="445" y="12438"/>
                      <a:pt x="552" y="12854"/>
                      <a:pt x="668" y="13246"/>
                    </a:cubicBezTo>
                    <a:cubicBezTo>
                      <a:pt x="784" y="13638"/>
                      <a:pt x="1030" y="14354"/>
                      <a:pt x="1030" y="14354"/>
                    </a:cubicBezTo>
                    <a:cubicBezTo>
                      <a:pt x="1178" y="14815"/>
                      <a:pt x="1378" y="15508"/>
                      <a:pt x="1559" y="16015"/>
                    </a:cubicBezTo>
                    <a:cubicBezTo>
                      <a:pt x="1740" y="16523"/>
                      <a:pt x="1916" y="16892"/>
                      <a:pt x="2115" y="17400"/>
                    </a:cubicBezTo>
                    <a:cubicBezTo>
                      <a:pt x="2315" y="17908"/>
                      <a:pt x="2533" y="18623"/>
                      <a:pt x="2756" y="19062"/>
                    </a:cubicBezTo>
                    <a:cubicBezTo>
                      <a:pt x="2978" y="19500"/>
                      <a:pt x="3187" y="19685"/>
                      <a:pt x="3452" y="20031"/>
                    </a:cubicBezTo>
                    <a:cubicBezTo>
                      <a:pt x="3716" y="20377"/>
                      <a:pt x="4073" y="20885"/>
                      <a:pt x="4342" y="21138"/>
                    </a:cubicBezTo>
                    <a:cubicBezTo>
                      <a:pt x="4611" y="21392"/>
                      <a:pt x="4820" y="21508"/>
                      <a:pt x="5066" y="21554"/>
                    </a:cubicBezTo>
                    <a:cubicBezTo>
                      <a:pt x="5312" y="21600"/>
                      <a:pt x="5581" y="21508"/>
                      <a:pt x="5818" y="21415"/>
                    </a:cubicBezTo>
                    <a:cubicBezTo>
                      <a:pt x="6054" y="21323"/>
                      <a:pt x="6249" y="21208"/>
                      <a:pt x="6486" y="21000"/>
                    </a:cubicBezTo>
                    <a:cubicBezTo>
                      <a:pt x="6722" y="20792"/>
                      <a:pt x="7014" y="20469"/>
                      <a:pt x="7237" y="20169"/>
                    </a:cubicBezTo>
                    <a:cubicBezTo>
                      <a:pt x="7460" y="19869"/>
                      <a:pt x="7613" y="19569"/>
                      <a:pt x="7822" y="19200"/>
                    </a:cubicBezTo>
                    <a:cubicBezTo>
                      <a:pt x="8030" y="18831"/>
                      <a:pt x="8313" y="18346"/>
                      <a:pt x="8490" y="17954"/>
                    </a:cubicBezTo>
                    <a:cubicBezTo>
                      <a:pt x="8666" y="17562"/>
                      <a:pt x="8717" y="17262"/>
                      <a:pt x="8879" y="16846"/>
                    </a:cubicBezTo>
                    <a:cubicBezTo>
                      <a:pt x="9042" y="16431"/>
                      <a:pt x="9288" y="15969"/>
                      <a:pt x="9464" y="15462"/>
                    </a:cubicBezTo>
                    <a:cubicBezTo>
                      <a:pt x="9640" y="14954"/>
                      <a:pt x="9793" y="14285"/>
                      <a:pt x="9937" y="13800"/>
                    </a:cubicBezTo>
                    <a:cubicBezTo>
                      <a:pt x="10081" y="13315"/>
                      <a:pt x="10327" y="12554"/>
                      <a:pt x="10327" y="12554"/>
                    </a:cubicBezTo>
                    <a:cubicBezTo>
                      <a:pt x="10396" y="12254"/>
                      <a:pt x="10591" y="11354"/>
                      <a:pt x="10744" y="10754"/>
                    </a:cubicBezTo>
                    <a:cubicBezTo>
                      <a:pt x="10897" y="10154"/>
                      <a:pt x="11245" y="8954"/>
                      <a:pt x="11245" y="8954"/>
                    </a:cubicBezTo>
                    <a:cubicBezTo>
                      <a:pt x="11408" y="8377"/>
                      <a:pt x="11565" y="7800"/>
                      <a:pt x="11719" y="7292"/>
                    </a:cubicBezTo>
                    <a:cubicBezTo>
                      <a:pt x="11872" y="6785"/>
                      <a:pt x="11992" y="6392"/>
                      <a:pt x="12164" y="5908"/>
                    </a:cubicBezTo>
                    <a:cubicBezTo>
                      <a:pt x="12336" y="5423"/>
                      <a:pt x="12563" y="4846"/>
                      <a:pt x="12748" y="4385"/>
                    </a:cubicBezTo>
                    <a:cubicBezTo>
                      <a:pt x="12934" y="3923"/>
                      <a:pt x="13092" y="3508"/>
                      <a:pt x="13277" y="3138"/>
                    </a:cubicBezTo>
                    <a:cubicBezTo>
                      <a:pt x="13463" y="2769"/>
                      <a:pt x="13658" y="2492"/>
                      <a:pt x="13862" y="2169"/>
                    </a:cubicBezTo>
                    <a:cubicBezTo>
                      <a:pt x="14066" y="1846"/>
                      <a:pt x="14279" y="1477"/>
                      <a:pt x="14502" y="1200"/>
                    </a:cubicBezTo>
                    <a:cubicBezTo>
                      <a:pt x="14725" y="923"/>
                      <a:pt x="14929" y="692"/>
                      <a:pt x="15198" y="508"/>
                    </a:cubicBezTo>
                    <a:cubicBezTo>
                      <a:pt x="15467" y="323"/>
                      <a:pt x="15829" y="162"/>
                      <a:pt x="16116" y="92"/>
                    </a:cubicBezTo>
                    <a:cubicBezTo>
                      <a:pt x="16404" y="23"/>
                      <a:pt x="16659" y="0"/>
                      <a:pt x="16924" y="92"/>
                    </a:cubicBezTo>
                    <a:cubicBezTo>
                      <a:pt x="17188" y="185"/>
                      <a:pt x="17453" y="392"/>
                      <a:pt x="17703" y="646"/>
                    </a:cubicBezTo>
                    <a:cubicBezTo>
                      <a:pt x="17954" y="900"/>
                      <a:pt x="18227" y="1338"/>
                      <a:pt x="18427" y="1615"/>
                    </a:cubicBezTo>
                    <a:cubicBezTo>
                      <a:pt x="18626" y="1892"/>
                      <a:pt x="18733" y="2008"/>
                      <a:pt x="18900" y="2308"/>
                    </a:cubicBezTo>
                    <a:cubicBezTo>
                      <a:pt x="19067" y="2608"/>
                      <a:pt x="19243" y="2977"/>
                      <a:pt x="19429" y="3415"/>
                    </a:cubicBezTo>
                    <a:cubicBezTo>
                      <a:pt x="19614" y="3854"/>
                      <a:pt x="19823" y="4408"/>
                      <a:pt x="20013" y="4938"/>
                    </a:cubicBezTo>
                    <a:cubicBezTo>
                      <a:pt x="20204" y="5469"/>
                      <a:pt x="20426" y="6138"/>
                      <a:pt x="20570" y="6600"/>
                    </a:cubicBezTo>
                    <a:cubicBezTo>
                      <a:pt x="20714" y="7062"/>
                      <a:pt x="20784" y="7408"/>
                      <a:pt x="20876" y="7708"/>
                    </a:cubicBezTo>
                    <a:cubicBezTo>
                      <a:pt x="20969" y="8008"/>
                      <a:pt x="21039" y="8077"/>
                      <a:pt x="21127" y="8400"/>
                    </a:cubicBezTo>
                    <a:cubicBezTo>
                      <a:pt x="21215" y="8723"/>
                      <a:pt x="21326" y="9346"/>
                      <a:pt x="21405" y="9646"/>
                    </a:cubicBezTo>
                    <a:cubicBezTo>
                      <a:pt x="21484" y="9946"/>
                      <a:pt x="21542" y="10073"/>
                      <a:pt x="21600" y="10200"/>
                    </a:cubicBezTo>
                  </a:path>
                </a:pathLst>
              </a:custGeom>
              <a:noFill/>
              <a:ln w="28440">
                <a:solidFill>
                  <a:srgbClr val="e200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4505400" y="2091960"/>
                <a:ext cx="3695760" cy="739440"/>
              </a:xfrm>
              <a:custGeom>
                <a:avLst/>
                <a:gdLst/>
                <a:ahLst/>
                <a:rect l="l" t="t" r="r" b="b"/>
                <a:pathLst>
                  <a:path w="21600" h="21535">
                    <a:moveTo>
                      <a:pt x="0" y="10615"/>
                    </a:moveTo>
                    <a:cubicBezTo>
                      <a:pt x="114" y="11088"/>
                      <a:pt x="223" y="11562"/>
                      <a:pt x="334" y="12000"/>
                    </a:cubicBezTo>
                    <a:cubicBezTo>
                      <a:pt x="445" y="12438"/>
                      <a:pt x="552" y="12854"/>
                      <a:pt x="668" y="13246"/>
                    </a:cubicBezTo>
                    <a:cubicBezTo>
                      <a:pt x="784" y="13638"/>
                      <a:pt x="1030" y="14354"/>
                      <a:pt x="1030" y="14354"/>
                    </a:cubicBezTo>
                    <a:cubicBezTo>
                      <a:pt x="1178" y="14815"/>
                      <a:pt x="1378" y="15508"/>
                      <a:pt x="1559" y="16015"/>
                    </a:cubicBezTo>
                    <a:cubicBezTo>
                      <a:pt x="1740" y="16523"/>
                      <a:pt x="1916" y="16892"/>
                      <a:pt x="2115" y="17400"/>
                    </a:cubicBezTo>
                    <a:cubicBezTo>
                      <a:pt x="2315" y="17908"/>
                      <a:pt x="2533" y="18623"/>
                      <a:pt x="2756" y="19062"/>
                    </a:cubicBezTo>
                    <a:cubicBezTo>
                      <a:pt x="2978" y="19500"/>
                      <a:pt x="3187" y="19685"/>
                      <a:pt x="3452" y="20031"/>
                    </a:cubicBezTo>
                    <a:cubicBezTo>
                      <a:pt x="3716" y="20377"/>
                      <a:pt x="4073" y="20885"/>
                      <a:pt x="4342" y="21138"/>
                    </a:cubicBezTo>
                    <a:cubicBezTo>
                      <a:pt x="4611" y="21392"/>
                      <a:pt x="4820" y="21508"/>
                      <a:pt x="5066" y="21554"/>
                    </a:cubicBezTo>
                    <a:cubicBezTo>
                      <a:pt x="5312" y="21600"/>
                      <a:pt x="5581" y="21508"/>
                      <a:pt x="5818" y="21415"/>
                    </a:cubicBezTo>
                    <a:cubicBezTo>
                      <a:pt x="6054" y="21323"/>
                      <a:pt x="6249" y="21208"/>
                      <a:pt x="6486" y="21000"/>
                    </a:cubicBezTo>
                    <a:cubicBezTo>
                      <a:pt x="6722" y="20792"/>
                      <a:pt x="7014" y="20469"/>
                      <a:pt x="7237" y="20169"/>
                    </a:cubicBezTo>
                    <a:cubicBezTo>
                      <a:pt x="7460" y="19869"/>
                      <a:pt x="7613" y="19569"/>
                      <a:pt x="7822" y="19200"/>
                    </a:cubicBezTo>
                    <a:cubicBezTo>
                      <a:pt x="8030" y="18831"/>
                      <a:pt x="8313" y="18346"/>
                      <a:pt x="8490" y="17954"/>
                    </a:cubicBezTo>
                    <a:cubicBezTo>
                      <a:pt x="8666" y="17562"/>
                      <a:pt x="8717" y="17262"/>
                      <a:pt x="8879" y="16846"/>
                    </a:cubicBezTo>
                    <a:cubicBezTo>
                      <a:pt x="9042" y="16431"/>
                      <a:pt x="9288" y="15969"/>
                      <a:pt x="9464" y="15462"/>
                    </a:cubicBezTo>
                    <a:cubicBezTo>
                      <a:pt x="9640" y="14954"/>
                      <a:pt x="9793" y="14285"/>
                      <a:pt x="9937" y="13800"/>
                    </a:cubicBezTo>
                    <a:cubicBezTo>
                      <a:pt x="10081" y="13315"/>
                      <a:pt x="10327" y="12554"/>
                      <a:pt x="10327" y="12554"/>
                    </a:cubicBezTo>
                    <a:cubicBezTo>
                      <a:pt x="10396" y="12254"/>
                      <a:pt x="10591" y="11354"/>
                      <a:pt x="10744" y="10754"/>
                    </a:cubicBezTo>
                    <a:cubicBezTo>
                      <a:pt x="10897" y="10154"/>
                      <a:pt x="11245" y="8954"/>
                      <a:pt x="11245" y="8954"/>
                    </a:cubicBezTo>
                    <a:cubicBezTo>
                      <a:pt x="11408" y="8377"/>
                      <a:pt x="11565" y="7800"/>
                      <a:pt x="11719" y="7292"/>
                    </a:cubicBezTo>
                    <a:cubicBezTo>
                      <a:pt x="11872" y="6785"/>
                      <a:pt x="11992" y="6392"/>
                      <a:pt x="12164" y="5908"/>
                    </a:cubicBezTo>
                    <a:cubicBezTo>
                      <a:pt x="12336" y="5423"/>
                      <a:pt x="12563" y="4846"/>
                      <a:pt x="12748" y="4385"/>
                    </a:cubicBezTo>
                    <a:cubicBezTo>
                      <a:pt x="12934" y="3923"/>
                      <a:pt x="13092" y="3508"/>
                      <a:pt x="13277" y="3138"/>
                    </a:cubicBezTo>
                    <a:cubicBezTo>
                      <a:pt x="13463" y="2769"/>
                      <a:pt x="13658" y="2492"/>
                      <a:pt x="13862" y="2169"/>
                    </a:cubicBezTo>
                    <a:cubicBezTo>
                      <a:pt x="14066" y="1846"/>
                      <a:pt x="14279" y="1477"/>
                      <a:pt x="14502" y="1200"/>
                    </a:cubicBezTo>
                    <a:cubicBezTo>
                      <a:pt x="14725" y="923"/>
                      <a:pt x="14929" y="692"/>
                      <a:pt x="15198" y="508"/>
                    </a:cubicBezTo>
                    <a:cubicBezTo>
                      <a:pt x="15467" y="323"/>
                      <a:pt x="15829" y="162"/>
                      <a:pt x="16116" y="92"/>
                    </a:cubicBezTo>
                    <a:cubicBezTo>
                      <a:pt x="16404" y="23"/>
                      <a:pt x="16659" y="0"/>
                      <a:pt x="16924" y="92"/>
                    </a:cubicBezTo>
                    <a:cubicBezTo>
                      <a:pt x="17188" y="185"/>
                      <a:pt x="17453" y="392"/>
                      <a:pt x="17703" y="646"/>
                    </a:cubicBezTo>
                    <a:cubicBezTo>
                      <a:pt x="17954" y="900"/>
                      <a:pt x="18227" y="1338"/>
                      <a:pt x="18427" y="1615"/>
                    </a:cubicBezTo>
                    <a:cubicBezTo>
                      <a:pt x="18626" y="1892"/>
                      <a:pt x="18733" y="2008"/>
                      <a:pt x="18900" y="2308"/>
                    </a:cubicBezTo>
                    <a:cubicBezTo>
                      <a:pt x="19067" y="2608"/>
                      <a:pt x="19243" y="2977"/>
                      <a:pt x="19429" y="3415"/>
                    </a:cubicBezTo>
                    <a:cubicBezTo>
                      <a:pt x="19614" y="3854"/>
                      <a:pt x="19823" y="4408"/>
                      <a:pt x="20013" y="4938"/>
                    </a:cubicBezTo>
                    <a:cubicBezTo>
                      <a:pt x="20204" y="5469"/>
                      <a:pt x="20426" y="6138"/>
                      <a:pt x="20570" y="6600"/>
                    </a:cubicBezTo>
                    <a:cubicBezTo>
                      <a:pt x="20714" y="7062"/>
                      <a:pt x="20784" y="7408"/>
                      <a:pt x="20876" y="7708"/>
                    </a:cubicBezTo>
                    <a:cubicBezTo>
                      <a:pt x="20969" y="8008"/>
                      <a:pt x="21039" y="8077"/>
                      <a:pt x="21127" y="8400"/>
                    </a:cubicBezTo>
                    <a:cubicBezTo>
                      <a:pt x="21215" y="8723"/>
                      <a:pt x="21326" y="9346"/>
                      <a:pt x="21405" y="9646"/>
                    </a:cubicBezTo>
                    <a:cubicBezTo>
                      <a:pt x="21484" y="9946"/>
                      <a:pt x="21542" y="10073"/>
                      <a:pt x="21600" y="10200"/>
                    </a:cubicBezTo>
                  </a:path>
                </a:pathLst>
              </a:custGeom>
              <a:noFill/>
              <a:ln w="28440">
                <a:solidFill>
                  <a:srgbClr val="e200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" name=""/>
            <p:cNvGrpSpPr/>
            <p:nvPr/>
          </p:nvGrpSpPr>
          <p:grpSpPr>
            <a:xfrm>
              <a:off x="1365480" y="2108160"/>
              <a:ext cx="7378200" cy="772200"/>
              <a:chOff x="1365480" y="2108160"/>
              <a:chExt cx="7378200" cy="772200"/>
            </a:xfrm>
          </p:grpSpPr>
          <p:sp>
            <p:nvSpPr>
              <p:cNvPr id="609" name=""/>
              <p:cNvSpPr/>
              <p:nvPr/>
            </p:nvSpPr>
            <p:spPr>
              <a:xfrm>
                <a:off x="1365480" y="2139480"/>
                <a:ext cx="3694680" cy="740880"/>
              </a:xfrm>
              <a:custGeom>
                <a:avLst/>
                <a:gdLst/>
                <a:ahLst/>
                <a:rect l="l" t="t" r="r" b="b"/>
                <a:pathLst>
                  <a:path w="21600" h="21535">
                    <a:moveTo>
                      <a:pt x="0" y="10615"/>
                    </a:moveTo>
                    <a:cubicBezTo>
                      <a:pt x="114" y="11088"/>
                      <a:pt x="223" y="11562"/>
                      <a:pt x="334" y="12000"/>
                    </a:cubicBezTo>
                    <a:cubicBezTo>
                      <a:pt x="445" y="12438"/>
                      <a:pt x="552" y="12854"/>
                      <a:pt x="668" y="13246"/>
                    </a:cubicBezTo>
                    <a:cubicBezTo>
                      <a:pt x="784" y="13638"/>
                      <a:pt x="1030" y="14354"/>
                      <a:pt x="1030" y="14354"/>
                    </a:cubicBezTo>
                    <a:cubicBezTo>
                      <a:pt x="1178" y="14815"/>
                      <a:pt x="1378" y="15508"/>
                      <a:pt x="1559" y="16015"/>
                    </a:cubicBezTo>
                    <a:cubicBezTo>
                      <a:pt x="1740" y="16523"/>
                      <a:pt x="1916" y="16892"/>
                      <a:pt x="2115" y="17400"/>
                    </a:cubicBezTo>
                    <a:cubicBezTo>
                      <a:pt x="2315" y="17908"/>
                      <a:pt x="2533" y="18623"/>
                      <a:pt x="2756" y="19062"/>
                    </a:cubicBezTo>
                    <a:cubicBezTo>
                      <a:pt x="2978" y="19500"/>
                      <a:pt x="3187" y="19685"/>
                      <a:pt x="3452" y="20031"/>
                    </a:cubicBezTo>
                    <a:cubicBezTo>
                      <a:pt x="3716" y="20377"/>
                      <a:pt x="4073" y="20885"/>
                      <a:pt x="4342" y="21138"/>
                    </a:cubicBezTo>
                    <a:cubicBezTo>
                      <a:pt x="4611" y="21392"/>
                      <a:pt x="4820" y="21508"/>
                      <a:pt x="5066" y="21554"/>
                    </a:cubicBezTo>
                    <a:cubicBezTo>
                      <a:pt x="5312" y="21600"/>
                      <a:pt x="5581" y="21508"/>
                      <a:pt x="5818" y="21415"/>
                    </a:cubicBezTo>
                    <a:cubicBezTo>
                      <a:pt x="6054" y="21323"/>
                      <a:pt x="6249" y="21208"/>
                      <a:pt x="6486" y="21000"/>
                    </a:cubicBezTo>
                    <a:cubicBezTo>
                      <a:pt x="6722" y="20792"/>
                      <a:pt x="7014" y="20469"/>
                      <a:pt x="7237" y="20169"/>
                    </a:cubicBezTo>
                    <a:cubicBezTo>
                      <a:pt x="7460" y="19869"/>
                      <a:pt x="7613" y="19569"/>
                      <a:pt x="7822" y="19200"/>
                    </a:cubicBezTo>
                    <a:cubicBezTo>
                      <a:pt x="8030" y="18831"/>
                      <a:pt x="8313" y="18346"/>
                      <a:pt x="8490" y="17954"/>
                    </a:cubicBezTo>
                    <a:cubicBezTo>
                      <a:pt x="8666" y="17562"/>
                      <a:pt x="8717" y="17262"/>
                      <a:pt x="8879" y="16846"/>
                    </a:cubicBezTo>
                    <a:cubicBezTo>
                      <a:pt x="9042" y="16431"/>
                      <a:pt x="9288" y="15969"/>
                      <a:pt x="9464" y="15462"/>
                    </a:cubicBezTo>
                    <a:cubicBezTo>
                      <a:pt x="9640" y="14954"/>
                      <a:pt x="9793" y="14285"/>
                      <a:pt x="9937" y="13800"/>
                    </a:cubicBezTo>
                    <a:cubicBezTo>
                      <a:pt x="10081" y="13315"/>
                      <a:pt x="10327" y="12554"/>
                      <a:pt x="10327" y="12554"/>
                    </a:cubicBezTo>
                    <a:cubicBezTo>
                      <a:pt x="10396" y="12254"/>
                      <a:pt x="10591" y="11354"/>
                      <a:pt x="10744" y="10754"/>
                    </a:cubicBezTo>
                    <a:cubicBezTo>
                      <a:pt x="10897" y="10154"/>
                      <a:pt x="11245" y="8954"/>
                      <a:pt x="11245" y="8954"/>
                    </a:cubicBezTo>
                    <a:cubicBezTo>
                      <a:pt x="11408" y="8377"/>
                      <a:pt x="11565" y="7800"/>
                      <a:pt x="11719" y="7292"/>
                    </a:cubicBezTo>
                    <a:cubicBezTo>
                      <a:pt x="11872" y="6785"/>
                      <a:pt x="11992" y="6392"/>
                      <a:pt x="12164" y="5908"/>
                    </a:cubicBezTo>
                    <a:cubicBezTo>
                      <a:pt x="12336" y="5423"/>
                      <a:pt x="12563" y="4846"/>
                      <a:pt x="12748" y="4385"/>
                    </a:cubicBezTo>
                    <a:cubicBezTo>
                      <a:pt x="12934" y="3923"/>
                      <a:pt x="13092" y="3508"/>
                      <a:pt x="13277" y="3138"/>
                    </a:cubicBezTo>
                    <a:cubicBezTo>
                      <a:pt x="13463" y="2769"/>
                      <a:pt x="13658" y="2492"/>
                      <a:pt x="13862" y="2169"/>
                    </a:cubicBezTo>
                    <a:cubicBezTo>
                      <a:pt x="14066" y="1846"/>
                      <a:pt x="14279" y="1477"/>
                      <a:pt x="14502" y="1200"/>
                    </a:cubicBezTo>
                    <a:cubicBezTo>
                      <a:pt x="14725" y="923"/>
                      <a:pt x="14929" y="692"/>
                      <a:pt x="15198" y="508"/>
                    </a:cubicBezTo>
                    <a:cubicBezTo>
                      <a:pt x="15467" y="323"/>
                      <a:pt x="15829" y="162"/>
                      <a:pt x="16116" y="92"/>
                    </a:cubicBezTo>
                    <a:cubicBezTo>
                      <a:pt x="16404" y="23"/>
                      <a:pt x="16659" y="0"/>
                      <a:pt x="16924" y="92"/>
                    </a:cubicBezTo>
                    <a:cubicBezTo>
                      <a:pt x="17188" y="185"/>
                      <a:pt x="17453" y="392"/>
                      <a:pt x="17703" y="646"/>
                    </a:cubicBezTo>
                    <a:cubicBezTo>
                      <a:pt x="17954" y="900"/>
                      <a:pt x="18227" y="1338"/>
                      <a:pt x="18427" y="1615"/>
                    </a:cubicBezTo>
                    <a:cubicBezTo>
                      <a:pt x="18626" y="1892"/>
                      <a:pt x="18733" y="2008"/>
                      <a:pt x="18900" y="2308"/>
                    </a:cubicBezTo>
                    <a:cubicBezTo>
                      <a:pt x="19067" y="2608"/>
                      <a:pt x="19243" y="2977"/>
                      <a:pt x="19429" y="3415"/>
                    </a:cubicBezTo>
                    <a:cubicBezTo>
                      <a:pt x="19614" y="3854"/>
                      <a:pt x="19823" y="4408"/>
                      <a:pt x="20013" y="4938"/>
                    </a:cubicBezTo>
                    <a:cubicBezTo>
                      <a:pt x="20204" y="5469"/>
                      <a:pt x="20426" y="6138"/>
                      <a:pt x="20570" y="6600"/>
                    </a:cubicBezTo>
                    <a:cubicBezTo>
                      <a:pt x="20714" y="7062"/>
                      <a:pt x="20784" y="7408"/>
                      <a:pt x="20876" y="7708"/>
                    </a:cubicBezTo>
                    <a:cubicBezTo>
                      <a:pt x="20969" y="8008"/>
                      <a:pt x="21039" y="8077"/>
                      <a:pt x="21127" y="8400"/>
                    </a:cubicBezTo>
                    <a:cubicBezTo>
                      <a:pt x="21215" y="8723"/>
                      <a:pt x="21326" y="9346"/>
                      <a:pt x="21405" y="9646"/>
                    </a:cubicBezTo>
                    <a:cubicBezTo>
                      <a:pt x="21484" y="9946"/>
                      <a:pt x="21542" y="10073"/>
                      <a:pt x="21600" y="10200"/>
                    </a:cubicBezTo>
                  </a:path>
                </a:pathLst>
              </a:custGeom>
              <a:noFill/>
              <a:ln w="28440">
                <a:solidFill>
                  <a:srgbClr val="e2001a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047200" y="2108160"/>
                <a:ext cx="3696480" cy="739080"/>
              </a:xfrm>
              <a:custGeom>
                <a:avLst/>
                <a:gdLst/>
                <a:ahLst/>
                <a:rect l="l" t="t" r="r" b="b"/>
                <a:pathLst>
                  <a:path w="21600" h="21535">
                    <a:moveTo>
                      <a:pt x="0" y="10615"/>
                    </a:moveTo>
                    <a:cubicBezTo>
                      <a:pt x="114" y="11088"/>
                      <a:pt x="223" y="11562"/>
                      <a:pt x="334" y="12000"/>
                    </a:cubicBezTo>
                    <a:cubicBezTo>
                      <a:pt x="445" y="12438"/>
                      <a:pt x="552" y="12854"/>
                      <a:pt x="668" y="13246"/>
                    </a:cubicBezTo>
                    <a:cubicBezTo>
                      <a:pt x="784" y="13638"/>
                      <a:pt x="1030" y="14354"/>
                      <a:pt x="1030" y="14354"/>
                    </a:cubicBezTo>
                    <a:cubicBezTo>
                      <a:pt x="1178" y="14815"/>
                      <a:pt x="1378" y="15508"/>
                      <a:pt x="1559" y="16015"/>
                    </a:cubicBezTo>
                    <a:cubicBezTo>
                      <a:pt x="1740" y="16523"/>
                      <a:pt x="1916" y="16892"/>
                      <a:pt x="2115" y="17400"/>
                    </a:cubicBezTo>
                    <a:cubicBezTo>
                      <a:pt x="2315" y="17908"/>
                      <a:pt x="2533" y="18623"/>
                      <a:pt x="2756" y="19062"/>
                    </a:cubicBezTo>
                    <a:cubicBezTo>
                      <a:pt x="2978" y="19500"/>
                      <a:pt x="3187" y="19685"/>
                      <a:pt x="3452" y="20031"/>
                    </a:cubicBezTo>
                    <a:cubicBezTo>
                      <a:pt x="3716" y="20377"/>
                      <a:pt x="4073" y="20885"/>
                      <a:pt x="4342" y="21138"/>
                    </a:cubicBezTo>
                    <a:cubicBezTo>
                      <a:pt x="4611" y="21392"/>
                      <a:pt x="4820" y="21508"/>
                      <a:pt x="5066" y="21554"/>
                    </a:cubicBezTo>
                    <a:cubicBezTo>
                      <a:pt x="5312" y="21600"/>
                      <a:pt x="5581" y="21508"/>
                      <a:pt x="5818" y="21415"/>
                    </a:cubicBezTo>
                    <a:cubicBezTo>
                      <a:pt x="6054" y="21323"/>
                      <a:pt x="6249" y="21208"/>
                      <a:pt x="6486" y="21000"/>
                    </a:cubicBezTo>
                    <a:cubicBezTo>
                      <a:pt x="6722" y="20792"/>
                      <a:pt x="7014" y="20469"/>
                      <a:pt x="7237" y="20169"/>
                    </a:cubicBezTo>
                    <a:cubicBezTo>
                      <a:pt x="7460" y="19869"/>
                      <a:pt x="7613" y="19569"/>
                      <a:pt x="7822" y="19200"/>
                    </a:cubicBezTo>
                    <a:cubicBezTo>
                      <a:pt x="8030" y="18831"/>
                      <a:pt x="8313" y="18346"/>
                      <a:pt x="8490" y="17954"/>
                    </a:cubicBezTo>
                    <a:cubicBezTo>
                      <a:pt x="8666" y="17562"/>
                      <a:pt x="8717" y="17262"/>
                      <a:pt x="8879" y="16846"/>
                    </a:cubicBezTo>
                    <a:cubicBezTo>
                      <a:pt x="9042" y="16431"/>
                      <a:pt x="9288" y="15969"/>
                      <a:pt x="9464" y="15462"/>
                    </a:cubicBezTo>
                    <a:cubicBezTo>
                      <a:pt x="9640" y="14954"/>
                      <a:pt x="9793" y="14285"/>
                      <a:pt x="9937" y="13800"/>
                    </a:cubicBezTo>
                    <a:cubicBezTo>
                      <a:pt x="10081" y="13315"/>
                      <a:pt x="10327" y="12554"/>
                      <a:pt x="10327" y="12554"/>
                    </a:cubicBezTo>
                    <a:cubicBezTo>
                      <a:pt x="10396" y="12254"/>
                      <a:pt x="10591" y="11354"/>
                      <a:pt x="10744" y="10754"/>
                    </a:cubicBezTo>
                    <a:cubicBezTo>
                      <a:pt x="10897" y="10154"/>
                      <a:pt x="11245" y="8954"/>
                      <a:pt x="11245" y="8954"/>
                    </a:cubicBezTo>
                    <a:cubicBezTo>
                      <a:pt x="11408" y="8377"/>
                      <a:pt x="11565" y="7800"/>
                      <a:pt x="11719" y="7292"/>
                    </a:cubicBezTo>
                    <a:cubicBezTo>
                      <a:pt x="11872" y="6785"/>
                      <a:pt x="11992" y="6392"/>
                      <a:pt x="12164" y="5908"/>
                    </a:cubicBezTo>
                    <a:cubicBezTo>
                      <a:pt x="12336" y="5423"/>
                      <a:pt x="12563" y="4846"/>
                      <a:pt x="12748" y="4385"/>
                    </a:cubicBezTo>
                    <a:cubicBezTo>
                      <a:pt x="12934" y="3923"/>
                      <a:pt x="13092" y="3508"/>
                      <a:pt x="13277" y="3138"/>
                    </a:cubicBezTo>
                    <a:cubicBezTo>
                      <a:pt x="13463" y="2769"/>
                      <a:pt x="13658" y="2492"/>
                      <a:pt x="13862" y="2169"/>
                    </a:cubicBezTo>
                    <a:cubicBezTo>
                      <a:pt x="14066" y="1846"/>
                      <a:pt x="14279" y="1477"/>
                      <a:pt x="14502" y="1200"/>
                    </a:cubicBezTo>
                    <a:cubicBezTo>
                      <a:pt x="14725" y="923"/>
                      <a:pt x="14929" y="692"/>
                      <a:pt x="15198" y="508"/>
                    </a:cubicBezTo>
                    <a:cubicBezTo>
                      <a:pt x="15467" y="323"/>
                      <a:pt x="15829" y="162"/>
                      <a:pt x="16116" y="92"/>
                    </a:cubicBezTo>
                    <a:cubicBezTo>
                      <a:pt x="16404" y="23"/>
                      <a:pt x="16659" y="0"/>
                      <a:pt x="16924" y="92"/>
                    </a:cubicBezTo>
                    <a:cubicBezTo>
                      <a:pt x="17188" y="185"/>
                      <a:pt x="17453" y="392"/>
                      <a:pt x="17703" y="646"/>
                    </a:cubicBezTo>
                    <a:cubicBezTo>
                      <a:pt x="17954" y="900"/>
                      <a:pt x="18227" y="1338"/>
                      <a:pt x="18427" y="1615"/>
                    </a:cubicBezTo>
                    <a:cubicBezTo>
                      <a:pt x="18626" y="1892"/>
                      <a:pt x="18733" y="2008"/>
                      <a:pt x="18900" y="2308"/>
                    </a:cubicBezTo>
                    <a:cubicBezTo>
                      <a:pt x="19067" y="2608"/>
                      <a:pt x="19243" y="2977"/>
                      <a:pt x="19429" y="3415"/>
                    </a:cubicBezTo>
                    <a:cubicBezTo>
                      <a:pt x="19614" y="3854"/>
                      <a:pt x="19823" y="4408"/>
                      <a:pt x="20013" y="4938"/>
                    </a:cubicBezTo>
                    <a:cubicBezTo>
                      <a:pt x="20204" y="5469"/>
                      <a:pt x="20426" y="6138"/>
                      <a:pt x="20570" y="6600"/>
                    </a:cubicBezTo>
                    <a:cubicBezTo>
                      <a:pt x="20714" y="7062"/>
                      <a:pt x="20784" y="7408"/>
                      <a:pt x="20876" y="7708"/>
                    </a:cubicBezTo>
                    <a:cubicBezTo>
                      <a:pt x="20969" y="8008"/>
                      <a:pt x="21039" y="8077"/>
                      <a:pt x="21127" y="8400"/>
                    </a:cubicBezTo>
                    <a:cubicBezTo>
                      <a:pt x="21215" y="8723"/>
                      <a:pt x="21326" y="9346"/>
                      <a:pt x="21405" y="9646"/>
                    </a:cubicBezTo>
                    <a:cubicBezTo>
                      <a:pt x="21484" y="9946"/>
                      <a:pt x="21542" y="10073"/>
                      <a:pt x="21600" y="10200"/>
                    </a:cubicBezTo>
                  </a:path>
                </a:pathLst>
              </a:custGeom>
              <a:noFill/>
              <a:ln w="28440">
                <a:solidFill>
                  <a:srgbClr val="e2001a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1994040" y="2124000"/>
              <a:ext cx="7378200" cy="774000"/>
              <a:chOff x="1994040" y="2124000"/>
              <a:chExt cx="7378200" cy="774000"/>
            </a:xfrm>
          </p:grpSpPr>
          <p:sp>
            <p:nvSpPr>
              <p:cNvPr id="612" name=""/>
              <p:cNvSpPr/>
              <p:nvPr/>
            </p:nvSpPr>
            <p:spPr>
              <a:xfrm>
                <a:off x="1994040" y="2155680"/>
                <a:ext cx="3694680" cy="742320"/>
              </a:xfrm>
              <a:custGeom>
                <a:avLst/>
                <a:gdLst/>
                <a:ahLst/>
                <a:rect l="l" t="t" r="r" b="b"/>
                <a:pathLst>
                  <a:path w="21600" h="21535">
                    <a:moveTo>
                      <a:pt x="0" y="10615"/>
                    </a:moveTo>
                    <a:cubicBezTo>
                      <a:pt x="114" y="11088"/>
                      <a:pt x="223" y="11562"/>
                      <a:pt x="334" y="12000"/>
                    </a:cubicBezTo>
                    <a:cubicBezTo>
                      <a:pt x="445" y="12438"/>
                      <a:pt x="552" y="12854"/>
                      <a:pt x="668" y="13246"/>
                    </a:cubicBezTo>
                    <a:cubicBezTo>
                      <a:pt x="784" y="13638"/>
                      <a:pt x="1030" y="14354"/>
                      <a:pt x="1030" y="14354"/>
                    </a:cubicBezTo>
                    <a:cubicBezTo>
                      <a:pt x="1178" y="14815"/>
                      <a:pt x="1378" y="15508"/>
                      <a:pt x="1559" y="16015"/>
                    </a:cubicBezTo>
                    <a:cubicBezTo>
                      <a:pt x="1740" y="16523"/>
                      <a:pt x="1916" y="16892"/>
                      <a:pt x="2115" y="17400"/>
                    </a:cubicBezTo>
                    <a:cubicBezTo>
                      <a:pt x="2315" y="17908"/>
                      <a:pt x="2533" y="18623"/>
                      <a:pt x="2756" y="19062"/>
                    </a:cubicBezTo>
                    <a:cubicBezTo>
                      <a:pt x="2978" y="19500"/>
                      <a:pt x="3187" y="19685"/>
                      <a:pt x="3452" y="20031"/>
                    </a:cubicBezTo>
                    <a:cubicBezTo>
                      <a:pt x="3716" y="20377"/>
                      <a:pt x="4073" y="20885"/>
                      <a:pt x="4342" y="21138"/>
                    </a:cubicBezTo>
                    <a:cubicBezTo>
                      <a:pt x="4611" y="21392"/>
                      <a:pt x="4820" y="21508"/>
                      <a:pt x="5066" y="21554"/>
                    </a:cubicBezTo>
                    <a:cubicBezTo>
                      <a:pt x="5312" y="21600"/>
                      <a:pt x="5581" y="21508"/>
                      <a:pt x="5818" y="21415"/>
                    </a:cubicBezTo>
                    <a:cubicBezTo>
                      <a:pt x="6054" y="21323"/>
                      <a:pt x="6249" y="21208"/>
                      <a:pt x="6486" y="21000"/>
                    </a:cubicBezTo>
                    <a:cubicBezTo>
                      <a:pt x="6722" y="20792"/>
                      <a:pt x="7014" y="20469"/>
                      <a:pt x="7237" y="20169"/>
                    </a:cubicBezTo>
                    <a:cubicBezTo>
                      <a:pt x="7460" y="19869"/>
                      <a:pt x="7613" y="19569"/>
                      <a:pt x="7822" y="19200"/>
                    </a:cubicBezTo>
                    <a:cubicBezTo>
                      <a:pt x="8030" y="18831"/>
                      <a:pt x="8313" y="18346"/>
                      <a:pt x="8490" y="17954"/>
                    </a:cubicBezTo>
                    <a:cubicBezTo>
                      <a:pt x="8666" y="17562"/>
                      <a:pt x="8717" y="17262"/>
                      <a:pt x="8879" y="16846"/>
                    </a:cubicBezTo>
                    <a:cubicBezTo>
                      <a:pt x="9042" y="16431"/>
                      <a:pt x="9288" y="15969"/>
                      <a:pt x="9464" y="15462"/>
                    </a:cubicBezTo>
                    <a:cubicBezTo>
                      <a:pt x="9640" y="14954"/>
                      <a:pt x="9793" y="14285"/>
                      <a:pt x="9937" y="13800"/>
                    </a:cubicBezTo>
                    <a:cubicBezTo>
                      <a:pt x="10081" y="13315"/>
                      <a:pt x="10327" y="12554"/>
                      <a:pt x="10327" y="12554"/>
                    </a:cubicBezTo>
                    <a:cubicBezTo>
                      <a:pt x="10396" y="12254"/>
                      <a:pt x="10591" y="11354"/>
                      <a:pt x="10744" y="10754"/>
                    </a:cubicBezTo>
                    <a:cubicBezTo>
                      <a:pt x="10897" y="10154"/>
                      <a:pt x="11245" y="8954"/>
                      <a:pt x="11245" y="8954"/>
                    </a:cubicBezTo>
                    <a:cubicBezTo>
                      <a:pt x="11408" y="8377"/>
                      <a:pt x="11565" y="7800"/>
                      <a:pt x="11719" y="7292"/>
                    </a:cubicBezTo>
                    <a:cubicBezTo>
                      <a:pt x="11872" y="6785"/>
                      <a:pt x="11992" y="6392"/>
                      <a:pt x="12164" y="5908"/>
                    </a:cubicBezTo>
                    <a:cubicBezTo>
                      <a:pt x="12336" y="5423"/>
                      <a:pt x="12563" y="4846"/>
                      <a:pt x="12748" y="4385"/>
                    </a:cubicBezTo>
                    <a:cubicBezTo>
                      <a:pt x="12934" y="3923"/>
                      <a:pt x="13092" y="3508"/>
                      <a:pt x="13277" y="3138"/>
                    </a:cubicBezTo>
                    <a:cubicBezTo>
                      <a:pt x="13463" y="2769"/>
                      <a:pt x="13658" y="2492"/>
                      <a:pt x="13862" y="2169"/>
                    </a:cubicBezTo>
                    <a:cubicBezTo>
                      <a:pt x="14066" y="1846"/>
                      <a:pt x="14279" y="1477"/>
                      <a:pt x="14502" y="1200"/>
                    </a:cubicBezTo>
                    <a:cubicBezTo>
                      <a:pt x="14725" y="923"/>
                      <a:pt x="14929" y="692"/>
                      <a:pt x="15198" y="508"/>
                    </a:cubicBezTo>
                    <a:cubicBezTo>
                      <a:pt x="15467" y="323"/>
                      <a:pt x="15829" y="162"/>
                      <a:pt x="16116" y="92"/>
                    </a:cubicBezTo>
                    <a:cubicBezTo>
                      <a:pt x="16404" y="23"/>
                      <a:pt x="16659" y="0"/>
                      <a:pt x="16924" y="92"/>
                    </a:cubicBezTo>
                    <a:cubicBezTo>
                      <a:pt x="17188" y="185"/>
                      <a:pt x="17453" y="392"/>
                      <a:pt x="17703" y="646"/>
                    </a:cubicBezTo>
                    <a:cubicBezTo>
                      <a:pt x="17954" y="900"/>
                      <a:pt x="18227" y="1338"/>
                      <a:pt x="18427" y="1615"/>
                    </a:cubicBezTo>
                    <a:cubicBezTo>
                      <a:pt x="18626" y="1892"/>
                      <a:pt x="18733" y="2008"/>
                      <a:pt x="18900" y="2308"/>
                    </a:cubicBezTo>
                    <a:cubicBezTo>
                      <a:pt x="19067" y="2608"/>
                      <a:pt x="19243" y="2977"/>
                      <a:pt x="19429" y="3415"/>
                    </a:cubicBezTo>
                    <a:cubicBezTo>
                      <a:pt x="19614" y="3854"/>
                      <a:pt x="19823" y="4408"/>
                      <a:pt x="20013" y="4938"/>
                    </a:cubicBezTo>
                    <a:cubicBezTo>
                      <a:pt x="20204" y="5469"/>
                      <a:pt x="20426" y="6138"/>
                      <a:pt x="20570" y="6600"/>
                    </a:cubicBezTo>
                    <a:cubicBezTo>
                      <a:pt x="20714" y="7062"/>
                      <a:pt x="20784" y="7408"/>
                      <a:pt x="20876" y="7708"/>
                    </a:cubicBezTo>
                    <a:cubicBezTo>
                      <a:pt x="20969" y="8008"/>
                      <a:pt x="21039" y="8077"/>
                      <a:pt x="21127" y="8400"/>
                    </a:cubicBezTo>
                    <a:cubicBezTo>
                      <a:pt x="21215" y="8723"/>
                      <a:pt x="21326" y="9346"/>
                      <a:pt x="21405" y="9646"/>
                    </a:cubicBezTo>
                    <a:cubicBezTo>
                      <a:pt x="21484" y="9946"/>
                      <a:pt x="21542" y="10073"/>
                      <a:pt x="21600" y="10200"/>
                    </a:cubicBezTo>
                  </a:path>
                </a:pathLst>
              </a:custGeom>
              <a:noFill/>
              <a:ln w="28440">
                <a:solidFill>
                  <a:srgbClr val="e2001a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675760" y="2124000"/>
                <a:ext cx="3696480" cy="740520"/>
              </a:xfrm>
              <a:custGeom>
                <a:avLst/>
                <a:gdLst/>
                <a:ahLst/>
                <a:rect l="l" t="t" r="r" b="b"/>
                <a:pathLst>
                  <a:path w="21600" h="21535">
                    <a:moveTo>
                      <a:pt x="0" y="10615"/>
                    </a:moveTo>
                    <a:cubicBezTo>
                      <a:pt x="114" y="11088"/>
                      <a:pt x="223" y="11562"/>
                      <a:pt x="334" y="12000"/>
                    </a:cubicBezTo>
                    <a:cubicBezTo>
                      <a:pt x="445" y="12438"/>
                      <a:pt x="552" y="12854"/>
                      <a:pt x="668" y="13246"/>
                    </a:cubicBezTo>
                    <a:cubicBezTo>
                      <a:pt x="784" y="13638"/>
                      <a:pt x="1030" y="14354"/>
                      <a:pt x="1030" y="14354"/>
                    </a:cubicBezTo>
                    <a:cubicBezTo>
                      <a:pt x="1178" y="14815"/>
                      <a:pt x="1378" y="15508"/>
                      <a:pt x="1559" y="16015"/>
                    </a:cubicBezTo>
                    <a:cubicBezTo>
                      <a:pt x="1740" y="16523"/>
                      <a:pt x="1916" y="16892"/>
                      <a:pt x="2115" y="17400"/>
                    </a:cubicBezTo>
                    <a:cubicBezTo>
                      <a:pt x="2315" y="17908"/>
                      <a:pt x="2533" y="18623"/>
                      <a:pt x="2756" y="19062"/>
                    </a:cubicBezTo>
                    <a:cubicBezTo>
                      <a:pt x="2978" y="19500"/>
                      <a:pt x="3187" y="19685"/>
                      <a:pt x="3452" y="20031"/>
                    </a:cubicBezTo>
                    <a:cubicBezTo>
                      <a:pt x="3716" y="20377"/>
                      <a:pt x="4073" y="20885"/>
                      <a:pt x="4342" y="21138"/>
                    </a:cubicBezTo>
                    <a:cubicBezTo>
                      <a:pt x="4611" y="21392"/>
                      <a:pt x="4820" y="21508"/>
                      <a:pt x="5066" y="21554"/>
                    </a:cubicBezTo>
                    <a:cubicBezTo>
                      <a:pt x="5312" y="21600"/>
                      <a:pt x="5581" y="21508"/>
                      <a:pt x="5818" y="21415"/>
                    </a:cubicBezTo>
                    <a:cubicBezTo>
                      <a:pt x="6054" y="21323"/>
                      <a:pt x="6249" y="21208"/>
                      <a:pt x="6486" y="21000"/>
                    </a:cubicBezTo>
                    <a:cubicBezTo>
                      <a:pt x="6722" y="20792"/>
                      <a:pt x="7014" y="20469"/>
                      <a:pt x="7237" y="20169"/>
                    </a:cubicBezTo>
                    <a:cubicBezTo>
                      <a:pt x="7460" y="19869"/>
                      <a:pt x="7613" y="19569"/>
                      <a:pt x="7822" y="19200"/>
                    </a:cubicBezTo>
                    <a:cubicBezTo>
                      <a:pt x="8030" y="18831"/>
                      <a:pt x="8313" y="18346"/>
                      <a:pt x="8490" y="17954"/>
                    </a:cubicBezTo>
                    <a:cubicBezTo>
                      <a:pt x="8666" y="17562"/>
                      <a:pt x="8717" y="17262"/>
                      <a:pt x="8879" y="16846"/>
                    </a:cubicBezTo>
                    <a:cubicBezTo>
                      <a:pt x="9042" y="16431"/>
                      <a:pt x="9288" y="15969"/>
                      <a:pt x="9464" y="15462"/>
                    </a:cubicBezTo>
                    <a:cubicBezTo>
                      <a:pt x="9640" y="14954"/>
                      <a:pt x="9793" y="14285"/>
                      <a:pt x="9937" y="13800"/>
                    </a:cubicBezTo>
                    <a:cubicBezTo>
                      <a:pt x="10081" y="13315"/>
                      <a:pt x="10327" y="12554"/>
                      <a:pt x="10327" y="12554"/>
                    </a:cubicBezTo>
                    <a:cubicBezTo>
                      <a:pt x="10396" y="12254"/>
                      <a:pt x="10591" y="11354"/>
                      <a:pt x="10744" y="10754"/>
                    </a:cubicBezTo>
                    <a:cubicBezTo>
                      <a:pt x="10897" y="10154"/>
                      <a:pt x="11245" y="8954"/>
                      <a:pt x="11245" y="8954"/>
                    </a:cubicBezTo>
                    <a:cubicBezTo>
                      <a:pt x="11408" y="8377"/>
                      <a:pt x="11565" y="7800"/>
                      <a:pt x="11719" y="7292"/>
                    </a:cubicBezTo>
                    <a:cubicBezTo>
                      <a:pt x="11872" y="6785"/>
                      <a:pt x="11992" y="6392"/>
                      <a:pt x="12164" y="5908"/>
                    </a:cubicBezTo>
                    <a:cubicBezTo>
                      <a:pt x="12336" y="5423"/>
                      <a:pt x="12563" y="4846"/>
                      <a:pt x="12748" y="4385"/>
                    </a:cubicBezTo>
                    <a:cubicBezTo>
                      <a:pt x="12934" y="3923"/>
                      <a:pt x="13092" y="3508"/>
                      <a:pt x="13277" y="3138"/>
                    </a:cubicBezTo>
                    <a:cubicBezTo>
                      <a:pt x="13463" y="2769"/>
                      <a:pt x="13658" y="2492"/>
                      <a:pt x="13862" y="2169"/>
                    </a:cubicBezTo>
                    <a:cubicBezTo>
                      <a:pt x="14066" y="1846"/>
                      <a:pt x="14279" y="1477"/>
                      <a:pt x="14502" y="1200"/>
                    </a:cubicBezTo>
                    <a:cubicBezTo>
                      <a:pt x="14725" y="923"/>
                      <a:pt x="14929" y="692"/>
                      <a:pt x="15198" y="508"/>
                    </a:cubicBezTo>
                    <a:cubicBezTo>
                      <a:pt x="15467" y="323"/>
                      <a:pt x="15829" y="162"/>
                      <a:pt x="16116" y="92"/>
                    </a:cubicBezTo>
                    <a:cubicBezTo>
                      <a:pt x="16404" y="23"/>
                      <a:pt x="16659" y="0"/>
                      <a:pt x="16924" y="92"/>
                    </a:cubicBezTo>
                    <a:cubicBezTo>
                      <a:pt x="17188" y="185"/>
                      <a:pt x="17453" y="392"/>
                      <a:pt x="17703" y="646"/>
                    </a:cubicBezTo>
                    <a:cubicBezTo>
                      <a:pt x="17954" y="900"/>
                      <a:pt x="18227" y="1338"/>
                      <a:pt x="18427" y="1615"/>
                    </a:cubicBezTo>
                    <a:cubicBezTo>
                      <a:pt x="18626" y="1892"/>
                      <a:pt x="18733" y="2008"/>
                      <a:pt x="18900" y="2308"/>
                    </a:cubicBezTo>
                    <a:cubicBezTo>
                      <a:pt x="19067" y="2608"/>
                      <a:pt x="19243" y="2977"/>
                      <a:pt x="19429" y="3415"/>
                    </a:cubicBezTo>
                    <a:cubicBezTo>
                      <a:pt x="19614" y="3854"/>
                      <a:pt x="19823" y="4408"/>
                      <a:pt x="20013" y="4938"/>
                    </a:cubicBezTo>
                    <a:cubicBezTo>
                      <a:pt x="20204" y="5469"/>
                      <a:pt x="20426" y="6138"/>
                      <a:pt x="20570" y="6600"/>
                    </a:cubicBezTo>
                    <a:cubicBezTo>
                      <a:pt x="20714" y="7062"/>
                      <a:pt x="20784" y="7408"/>
                      <a:pt x="20876" y="7708"/>
                    </a:cubicBezTo>
                    <a:cubicBezTo>
                      <a:pt x="20969" y="8008"/>
                      <a:pt x="21039" y="8077"/>
                      <a:pt x="21127" y="8400"/>
                    </a:cubicBezTo>
                    <a:cubicBezTo>
                      <a:pt x="21215" y="8723"/>
                      <a:pt x="21326" y="9346"/>
                      <a:pt x="21405" y="9646"/>
                    </a:cubicBezTo>
                    <a:cubicBezTo>
                      <a:pt x="21484" y="9946"/>
                      <a:pt x="21542" y="10073"/>
                      <a:pt x="21600" y="10200"/>
                    </a:cubicBezTo>
                  </a:path>
                </a:pathLst>
              </a:custGeom>
              <a:noFill/>
              <a:ln w="28440">
                <a:solidFill>
                  <a:srgbClr val="e2001a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4776840" y="1914480"/>
              <a:ext cx="542880" cy="1080"/>
            </a:xfrm>
            <a:prstGeom prst="line">
              <a:avLst/>
            </a:prstGeom>
            <a:ln w="9360">
              <a:solidFill>
                <a:srgbClr val="e2001a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776840" y="1555920"/>
              <a:ext cx="1800" cy="1439640"/>
            </a:xfrm>
            <a:prstGeom prst="line">
              <a:avLst/>
            </a:prstGeom>
            <a:ln w="9360">
              <a:solidFill>
                <a:srgbClr val="e200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1987560" y="2274840"/>
              <a:ext cx="7378560" cy="502200"/>
              <a:chOff x="1987560" y="2274840"/>
              <a:chExt cx="7378560" cy="502200"/>
            </a:xfrm>
          </p:grpSpPr>
          <p:sp>
            <p:nvSpPr>
              <p:cNvPr id="617" name=""/>
              <p:cNvSpPr/>
              <p:nvPr/>
            </p:nvSpPr>
            <p:spPr>
              <a:xfrm>
                <a:off x="1987560" y="2295000"/>
                <a:ext cx="3694680" cy="482040"/>
              </a:xfrm>
              <a:custGeom>
                <a:avLst/>
                <a:gdLst/>
                <a:ahLst/>
                <a:rect l="l" t="t" r="r" b="b"/>
                <a:pathLst>
                  <a:path w="21600" h="21535">
                    <a:moveTo>
                      <a:pt x="0" y="10615"/>
                    </a:moveTo>
                    <a:cubicBezTo>
                      <a:pt x="114" y="11088"/>
                      <a:pt x="223" y="11562"/>
                      <a:pt x="334" y="12000"/>
                    </a:cubicBezTo>
                    <a:cubicBezTo>
                      <a:pt x="445" y="12438"/>
                      <a:pt x="552" y="12854"/>
                      <a:pt x="668" y="13246"/>
                    </a:cubicBezTo>
                    <a:cubicBezTo>
                      <a:pt x="784" y="13638"/>
                      <a:pt x="1030" y="14354"/>
                      <a:pt x="1030" y="14354"/>
                    </a:cubicBezTo>
                    <a:cubicBezTo>
                      <a:pt x="1178" y="14815"/>
                      <a:pt x="1378" y="15508"/>
                      <a:pt x="1559" y="16015"/>
                    </a:cubicBezTo>
                    <a:cubicBezTo>
                      <a:pt x="1740" y="16523"/>
                      <a:pt x="1916" y="16892"/>
                      <a:pt x="2115" y="17400"/>
                    </a:cubicBezTo>
                    <a:cubicBezTo>
                      <a:pt x="2315" y="17908"/>
                      <a:pt x="2533" y="18623"/>
                      <a:pt x="2756" y="19062"/>
                    </a:cubicBezTo>
                    <a:cubicBezTo>
                      <a:pt x="2978" y="19500"/>
                      <a:pt x="3187" y="19685"/>
                      <a:pt x="3452" y="20031"/>
                    </a:cubicBezTo>
                    <a:cubicBezTo>
                      <a:pt x="3716" y="20377"/>
                      <a:pt x="4073" y="20885"/>
                      <a:pt x="4342" y="21138"/>
                    </a:cubicBezTo>
                    <a:cubicBezTo>
                      <a:pt x="4611" y="21392"/>
                      <a:pt x="4820" y="21508"/>
                      <a:pt x="5066" y="21554"/>
                    </a:cubicBezTo>
                    <a:cubicBezTo>
                      <a:pt x="5312" y="21600"/>
                      <a:pt x="5581" y="21508"/>
                      <a:pt x="5818" y="21415"/>
                    </a:cubicBezTo>
                    <a:cubicBezTo>
                      <a:pt x="6054" y="21323"/>
                      <a:pt x="6249" y="21208"/>
                      <a:pt x="6486" y="21000"/>
                    </a:cubicBezTo>
                    <a:cubicBezTo>
                      <a:pt x="6722" y="20792"/>
                      <a:pt x="7014" y="20469"/>
                      <a:pt x="7237" y="20169"/>
                    </a:cubicBezTo>
                    <a:cubicBezTo>
                      <a:pt x="7460" y="19869"/>
                      <a:pt x="7613" y="19569"/>
                      <a:pt x="7822" y="19200"/>
                    </a:cubicBezTo>
                    <a:cubicBezTo>
                      <a:pt x="8030" y="18831"/>
                      <a:pt x="8313" y="18346"/>
                      <a:pt x="8490" y="17954"/>
                    </a:cubicBezTo>
                    <a:cubicBezTo>
                      <a:pt x="8666" y="17562"/>
                      <a:pt x="8717" y="17262"/>
                      <a:pt x="8879" y="16846"/>
                    </a:cubicBezTo>
                    <a:cubicBezTo>
                      <a:pt x="9042" y="16431"/>
                      <a:pt x="9288" y="15969"/>
                      <a:pt x="9464" y="15462"/>
                    </a:cubicBezTo>
                    <a:cubicBezTo>
                      <a:pt x="9640" y="14954"/>
                      <a:pt x="9793" y="14285"/>
                      <a:pt x="9937" y="13800"/>
                    </a:cubicBezTo>
                    <a:cubicBezTo>
                      <a:pt x="10081" y="13315"/>
                      <a:pt x="10327" y="12554"/>
                      <a:pt x="10327" y="12554"/>
                    </a:cubicBezTo>
                    <a:cubicBezTo>
                      <a:pt x="10396" y="12254"/>
                      <a:pt x="10591" y="11354"/>
                      <a:pt x="10744" y="10754"/>
                    </a:cubicBezTo>
                    <a:cubicBezTo>
                      <a:pt x="10897" y="10154"/>
                      <a:pt x="11245" y="8954"/>
                      <a:pt x="11245" y="8954"/>
                    </a:cubicBezTo>
                    <a:cubicBezTo>
                      <a:pt x="11408" y="8377"/>
                      <a:pt x="11565" y="7800"/>
                      <a:pt x="11719" y="7292"/>
                    </a:cubicBezTo>
                    <a:cubicBezTo>
                      <a:pt x="11872" y="6785"/>
                      <a:pt x="11992" y="6392"/>
                      <a:pt x="12164" y="5908"/>
                    </a:cubicBezTo>
                    <a:cubicBezTo>
                      <a:pt x="12336" y="5423"/>
                      <a:pt x="12563" y="4846"/>
                      <a:pt x="12748" y="4385"/>
                    </a:cubicBezTo>
                    <a:cubicBezTo>
                      <a:pt x="12934" y="3923"/>
                      <a:pt x="13092" y="3508"/>
                      <a:pt x="13277" y="3138"/>
                    </a:cubicBezTo>
                    <a:cubicBezTo>
                      <a:pt x="13463" y="2769"/>
                      <a:pt x="13658" y="2492"/>
                      <a:pt x="13862" y="2169"/>
                    </a:cubicBezTo>
                    <a:cubicBezTo>
                      <a:pt x="14066" y="1846"/>
                      <a:pt x="14279" y="1477"/>
                      <a:pt x="14502" y="1200"/>
                    </a:cubicBezTo>
                    <a:cubicBezTo>
                      <a:pt x="14725" y="923"/>
                      <a:pt x="14929" y="692"/>
                      <a:pt x="15198" y="508"/>
                    </a:cubicBezTo>
                    <a:cubicBezTo>
                      <a:pt x="15467" y="323"/>
                      <a:pt x="15829" y="162"/>
                      <a:pt x="16116" y="92"/>
                    </a:cubicBezTo>
                    <a:cubicBezTo>
                      <a:pt x="16404" y="23"/>
                      <a:pt x="16659" y="0"/>
                      <a:pt x="16924" y="92"/>
                    </a:cubicBezTo>
                    <a:cubicBezTo>
                      <a:pt x="17188" y="185"/>
                      <a:pt x="17453" y="392"/>
                      <a:pt x="17703" y="646"/>
                    </a:cubicBezTo>
                    <a:cubicBezTo>
                      <a:pt x="17954" y="900"/>
                      <a:pt x="18227" y="1338"/>
                      <a:pt x="18427" y="1615"/>
                    </a:cubicBezTo>
                    <a:cubicBezTo>
                      <a:pt x="18626" y="1892"/>
                      <a:pt x="18733" y="2008"/>
                      <a:pt x="18900" y="2308"/>
                    </a:cubicBezTo>
                    <a:cubicBezTo>
                      <a:pt x="19067" y="2608"/>
                      <a:pt x="19243" y="2977"/>
                      <a:pt x="19429" y="3415"/>
                    </a:cubicBezTo>
                    <a:cubicBezTo>
                      <a:pt x="19614" y="3854"/>
                      <a:pt x="19823" y="4408"/>
                      <a:pt x="20013" y="4938"/>
                    </a:cubicBezTo>
                    <a:cubicBezTo>
                      <a:pt x="20204" y="5469"/>
                      <a:pt x="20426" y="6138"/>
                      <a:pt x="20570" y="6600"/>
                    </a:cubicBezTo>
                    <a:cubicBezTo>
                      <a:pt x="20714" y="7062"/>
                      <a:pt x="20784" y="7408"/>
                      <a:pt x="20876" y="7708"/>
                    </a:cubicBezTo>
                    <a:cubicBezTo>
                      <a:pt x="20969" y="8008"/>
                      <a:pt x="21039" y="8077"/>
                      <a:pt x="21127" y="8400"/>
                    </a:cubicBezTo>
                    <a:cubicBezTo>
                      <a:pt x="21215" y="8723"/>
                      <a:pt x="21326" y="9346"/>
                      <a:pt x="21405" y="9646"/>
                    </a:cubicBezTo>
                    <a:cubicBezTo>
                      <a:pt x="21484" y="9946"/>
                      <a:pt x="21542" y="10073"/>
                      <a:pt x="21600" y="10200"/>
                    </a:cubicBezTo>
                  </a:path>
                </a:pathLst>
              </a:custGeom>
              <a:noFill/>
              <a:ln w="9360">
                <a:solidFill>
                  <a:srgbClr val="0070c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669640" y="2274840"/>
                <a:ext cx="3696480" cy="480240"/>
              </a:xfrm>
              <a:custGeom>
                <a:avLst/>
                <a:gdLst/>
                <a:ahLst/>
                <a:rect l="l" t="t" r="r" b="b"/>
                <a:pathLst>
                  <a:path w="21600" h="21535">
                    <a:moveTo>
                      <a:pt x="0" y="10615"/>
                    </a:moveTo>
                    <a:cubicBezTo>
                      <a:pt x="114" y="11088"/>
                      <a:pt x="223" y="11562"/>
                      <a:pt x="334" y="12000"/>
                    </a:cubicBezTo>
                    <a:cubicBezTo>
                      <a:pt x="445" y="12438"/>
                      <a:pt x="552" y="12854"/>
                      <a:pt x="668" y="13246"/>
                    </a:cubicBezTo>
                    <a:cubicBezTo>
                      <a:pt x="784" y="13638"/>
                      <a:pt x="1030" y="14354"/>
                      <a:pt x="1030" y="14354"/>
                    </a:cubicBezTo>
                    <a:cubicBezTo>
                      <a:pt x="1178" y="14815"/>
                      <a:pt x="1378" y="15508"/>
                      <a:pt x="1559" y="16015"/>
                    </a:cubicBezTo>
                    <a:cubicBezTo>
                      <a:pt x="1740" y="16523"/>
                      <a:pt x="1916" y="16892"/>
                      <a:pt x="2115" y="17400"/>
                    </a:cubicBezTo>
                    <a:cubicBezTo>
                      <a:pt x="2315" y="17908"/>
                      <a:pt x="2533" y="18623"/>
                      <a:pt x="2756" y="19062"/>
                    </a:cubicBezTo>
                    <a:cubicBezTo>
                      <a:pt x="2978" y="19500"/>
                      <a:pt x="3187" y="19685"/>
                      <a:pt x="3452" y="20031"/>
                    </a:cubicBezTo>
                    <a:cubicBezTo>
                      <a:pt x="3716" y="20377"/>
                      <a:pt x="4073" y="20885"/>
                      <a:pt x="4342" y="21138"/>
                    </a:cubicBezTo>
                    <a:cubicBezTo>
                      <a:pt x="4611" y="21392"/>
                      <a:pt x="4820" y="21508"/>
                      <a:pt x="5066" y="21554"/>
                    </a:cubicBezTo>
                    <a:cubicBezTo>
                      <a:pt x="5312" y="21600"/>
                      <a:pt x="5581" y="21508"/>
                      <a:pt x="5818" y="21415"/>
                    </a:cubicBezTo>
                    <a:cubicBezTo>
                      <a:pt x="6054" y="21323"/>
                      <a:pt x="6249" y="21208"/>
                      <a:pt x="6486" y="21000"/>
                    </a:cubicBezTo>
                    <a:cubicBezTo>
                      <a:pt x="6722" y="20792"/>
                      <a:pt x="7014" y="20469"/>
                      <a:pt x="7237" y="20169"/>
                    </a:cubicBezTo>
                    <a:cubicBezTo>
                      <a:pt x="7460" y="19869"/>
                      <a:pt x="7613" y="19569"/>
                      <a:pt x="7822" y="19200"/>
                    </a:cubicBezTo>
                    <a:cubicBezTo>
                      <a:pt x="8030" y="18831"/>
                      <a:pt x="8313" y="18346"/>
                      <a:pt x="8490" y="17954"/>
                    </a:cubicBezTo>
                    <a:cubicBezTo>
                      <a:pt x="8666" y="17562"/>
                      <a:pt x="8717" y="17262"/>
                      <a:pt x="8879" y="16846"/>
                    </a:cubicBezTo>
                    <a:cubicBezTo>
                      <a:pt x="9042" y="16431"/>
                      <a:pt x="9288" y="15969"/>
                      <a:pt x="9464" y="15462"/>
                    </a:cubicBezTo>
                    <a:cubicBezTo>
                      <a:pt x="9640" y="14954"/>
                      <a:pt x="9793" y="14285"/>
                      <a:pt x="9937" y="13800"/>
                    </a:cubicBezTo>
                    <a:cubicBezTo>
                      <a:pt x="10081" y="13315"/>
                      <a:pt x="10327" y="12554"/>
                      <a:pt x="10327" y="12554"/>
                    </a:cubicBezTo>
                    <a:cubicBezTo>
                      <a:pt x="10396" y="12254"/>
                      <a:pt x="10591" y="11354"/>
                      <a:pt x="10744" y="10754"/>
                    </a:cubicBezTo>
                    <a:cubicBezTo>
                      <a:pt x="10897" y="10154"/>
                      <a:pt x="11245" y="8954"/>
                      <a:pt x="11245" y="8954"/>
                    </a:cubicBezTo>
                    <a:cubicBezTo>
                      <a:pt x="11408" y="8377"/>
                      <a:pt x="11565" y="7800"/>
                      <a:pt x="11719" y="7292"/>
                    </a:cubicBezTo>
                    <a:cubicBezTo>
                      <a:pt x="11872" y="6785"/>
                      <a:pt x="11992" y="6392"/>
                      <a:pt x="12164" y="5908"/>
                    </a:cubicBezTo>
                    <a:cubicBezTo>
                      <a:pt x="12336" y="5423"/>
                      <a:pt x="12563" y="4846"/>
                      <a:pt x="12748" y="4385"/>
                    </a:cubicBezTo>
                    <a:cubicBezTo>
                      <a:pt x="12934" y="3923"/>
                      <a:pt x="13092" y="3508"/>
                      <a:pt x="13277" y="3138"/>
                    </a:cubicBezTo>
                    <a:cubicBezTo>
                      <a:pt x="13463" y="2769"/>
                      <a:pt x="13658" y="2492"/>
                      <a:pt x="13862" y="2169"/>
                    </a:cubicBezTo>
                    <a:cubicBezTo>
                      <a:pt x="14066" y="1846"/>
                      <a:pt x="14279" y="1477"/>
                      <a:pt x="14502" y="1200"/>
                    </a:cubicBezTo>
                    <a:cubicBezTo>
                      <a:pt x="14725" y="923"/>
                      <a:pt x="14929" y="692"/>
                      <a:pt x="15198" y="508"/>
                    </a:cubicBezTo>
                    <a:cubicBezTo>
                      <a:pt x="15467" y="323"/>
                      <a:pt x="15829" y="162"/>
                      <a:pt x="16116" y="92"/>
                    </a:cubicBezTo>
                    <a:cubicBezTo>
                      <a:pt x="16404" y="23"/>
                      <a:pt x="16659" y="0"/>
                      <a:pt x="16924" y="92"/>
                    </a:cubicBezTo>
                    <a:cubicBezTo>
                      <a:pt x="17188" y="185"/>
                      <a:pt x="17453" y="392"/>
                      <a:pt x="17703" y="646"/>
                    </a:cubicBezTo>
                    <a:cubicBezTo>
                      <a:pt x="17954" y="900"/>
                      <a:pt x="18227" y="1338"/>
                      <a:pt x="18427" y="1615"/>
                    </a:cubicBezTo>
                    <a:cubicBezTo>
                      <a:pt x="18626" y="1892"/>
                      <a:pt x="18733" y="2008"/>
                      <a:pt x="18900" y="2308"/>
                    </a:cubicBezTo>
                    <a:cubicBezTo>
                      <a:pt x="19067" y="2608"/>
                      <a:pt x="19243" y="2977"/>
                      <a:pt x="19429" y="3415"/>
                    </a:cubicBezTo>
                    <a:cubicBezTo>
                      <a:pt x="19614" y="3854"/>
                      <a:pt x="19823" y="4408"/>
                      <a:pt x="20013" y="4938"/>
                    </a:cubicBezTo>
                    <a:cubicBezTo>
                      <a:pt x="20204" y="5469"/>
                      <a:pt x="20426" y="6138"/>
                      <a:pt x="20570" y="6600"/>
                    </a:cubicBezTo>
                    <a:cubicBezTo>
                      <a:pt x="20714" y="7062"/>
                      <a:pt x="20784" y="7408"/>
                      <a:pt x="20876" y="7708"/>
                    </a:cubicBezTo>
                    <a:cubicBezTo>
                      <a:pt x="20969" y="8008"/>
                      <a:pt x="21039" y="8077"/>
                      <a:pt x="21127" y="8400"/>
                    </a:cubicBezTo>
                    <a:cubicBezTo>
                      <a:pt x="21215" y="8723"/>
                      <a:pt x="21326" y="9346"/>
                      <a:pt x="21405" y="9646"/>
                    </a:cubicBezTo>
                    <a:cubicBezTo>
                      <a:pt x="21484" y="9946"/>
                      <a:pt x="21542" y="10073"/>
                      <a:pt x="21600" y="10200"/>
                    </a:cubicBezTo>
                  </a:path>
                </a:pathLst>
              </a:custGeom>
              <a:noFill/>
              <a:ln w="9360">
                <a:solidFill>
                  <a:srgbClr val="0070c0"/>
                </a:solidFill>
                <a:prstDash val="dashDot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830520" y="2242800"/>
              <a:ext cx="7377120" cy="502560"/>
              <a:chOff x="830520" y="2242800"/>
              <a:chExt cx="7377120" cy="502560"/>
            </a:xfrm>
          </p:grpSpPr>
          <p:sp>
            <p:nvSpPr>
              <p:cNvPr id="620" name=""/>
              <p:cNvSpPr/>
              <p:nvPr/>
            </p:nvSpPr>
            <p:spPr>
              <a:xfrm>
                <a:off x="830520" y="2262960"/>
                <a:ext cx="3693960" cy="482400"/>
              </a:xfrm>
              <a:custGeom>
                <a:avLst/>
                <a:gdLst/>
                <a:ahLst/>
                <a:rect l="l" t="t" r="r" b="b"/>
                <a:pathLst>
                  <a:path w="21600" h="21535">
                    <a:moveTo>
                      <a:pt x="0" y="10615"/>
                    </a:moveTo>
                    <a:cubicBezTo>
                      <a:pt x="114" y="11088"/>
                      <a:pt x="223" y="11562"/>
                      <a:pt x="334" y="12000"/>
                    </a:cubicBezTo>
                    <a:cubicBezTo>
                      <a:pt x="445" y="12438"/>
                      <a:pt x="552" y="12854"/>
                      <a:pt x="668" y="13246"/>
                    </a:cubicBezTo>
                    <a:cubicBezTo>
                      <a:pt x="784" y="13638"/>
                      <a:pt x="1030" y="14354"/>
                      <a:pt x="1030" y="14354"/>
                    </a:cubicBezTo>
                    <a:cubicBezTo>
                      <a:pt x="1178" y="14815"/>
                      <a:pt x="1378" y="15508"/>
                      <a:pt x="1559" y="16015"/>
                    </a:cubicBezTo>
                    <a:cubicBezTo>
                      <a:pt x="1740" y="16523"/>
                      <a:pt x="1916" y="16892"/>
                      <a:pt x="2115" y="17400"/>
                    </a:cubicBezTo>
                    <a:cubicBezTo>
                      <a:pt x="2315" y="17908"/>
                      <a:pt x="2533" y="18623"/>
                      <a:pt x="2756" y="19062"/>
                    </a:cubicBezTo>
                    <a:cubicBezTo>
                      <a:pt x="2978" y="19500"/>
                      <a:pt x="3187" y="19685"/>
                      <a:pt x="3452" y="20031"/>
                    </a:cubicBezTo>
                    <a:cubicBezTo>
                      <a:pt x="3716" y="20377"/>
                      <a:pt x="4073" y="20885"/>
                      <a:pt x="4342" y="21138"/>
                    </a:cubicBezTo>
                    <a:cubicBezTo>
                      <a:pt x="4611" y="21392"/>
                      <a:pt x="4820" y="21508"/>
                      <a:pt x="5066" y="21554"/>
                    </a:cubicBezTo>
                    <a:cubicBezTo>
                      <a:pt x="5312" y="21600"/>
                      <a:pt x="5581" y="21508"/>
                      <a:pt x="5818" y="21415"/>
                    </a:cubicBezTo>
                    <a:cubicBezTo>
                      <a:pt x="6054" y="21323"/>
                      <a:pt x="6249" y="21208"/>
                      <a:pt x="6486" y="21000"/>
                    </a:cubicBezTo>
                    <a:cubicBezTo>
                      <a:pt x="6722" y="20792"/>
                      <a:pt x="7014" y="20469"/>
                      <a:pt x="7237" y="20169"/>
                    </a:cubicBezTo>
                    <a:cubicBezTo>
                      <a:pt x="7460" y="19869"/>
                      <a:pt x="7613" y="19569"/>
                      <a:pt x="7822" y="19200"/>
                    </a:cubicBezTo>
                    <a:cubicBezTo>
                      <a:pt x="8030" y="18831"/>
                      <a:pt x="8313" y="18346"/>
                      <a:pt x="8490" y="17954"/>
                    </a:cubicBezTo>
                    <a:cubicBezTo>
                      <a:pt x="8666" y="17562"/>
                      <a:pt x="8717" y="17262"/>
                      <a:pt x="8879" y="16846"/>
                    </a:cubicBezTo>
                    <a:cubicBezTo>
                      <a:pt x="9042" y="16431"/>
                      <a:pt x="9288" y="15969"/>
                      <a:pt x="9464" y="15462"/>
                    </a:cubicBezTo>
                    <a:cubicBezTo>
                      <a:pt x="9640" y="14954"/>
                      <a:pt x="9793" y="14285"/>
                      <a:pt x="9937" y="13800"/>
                    </a:cubicBezTo>
                    <a:cubicBezTo>
                      <a:pt x="10081" y="13315"/>
                      <a:pt x="10327" y="12554"/>
                      <a:pt x="10327" y="12554"/>
                    </a:cubicBezTo>
                    <a:cubicBezTo>
                      <a:pt x="10396" y="12254"/>
                      <a:pt x="10591" y="11354"/>
                      <a:pt x="10744" y="10754"/>
                    </a:cubicBezTo>
                    <a:cubicBezTo>
                      <a:pt x="10897" y="10154"/>
                      <a:pt x="11245" y="8954"/>
                      <a:pt x="11245" y="8954"/>
                    </a:cubicBezTo>
                    <a:cubicBezTo>
                      <a:pt x="11408" y="8377"/>
                      <a:pt x="11565" y="7800"/>
                      <a:pt x="11719" y="7292"/>
                    </a:cubicBezTo>
                    <a:cubicBezTo>
                      <a:pt x="11872" y="6785"/>
                      <a:pt x="11992" y="6392"/>
                      <a:pt x="12164" y="5908"/>
                    </a:cubicBezTo>
                    <a:cubicBezTo>
                      <a:pt x="12336" y="5423"/>
                      <a:pt x="12563" y="4846"/>
                      <a:pt x="12748" y="4385"/>
                    </a:cubicBezTo>
                    <a:cubicBezTo>
                      <a:pt x="12934" y="3923"/>
                      <a:pt x="13092" y="3508"/>
                      <a:pt x="13277" y="3138"/>
                    </a:cubicBezTo>
                    <a:cubicBezTo>
                      <a:pt x="13463" y="2769"/>
                      <a:pt x="13658" y="2492"/>
                      <a:pt x="13862" y="2169"/>
                    </a:cubicBezTo>
                    <a:cubicBezTo>
                      <a:pt x="14066" y="1846"/>
                      <a:pt x="14279" y="1477"/>
                      <a:pt x="14502" y="1200"/>
                    </a:cubicBezTo>
                    <a:cubicBezTo>
                      <a:pt x="14725" y="923"/>
                      <a:pt x="14929" y="692"/>
                      <a:pt x="15198" y="508"/>
                    </a:cubicBezTo>
                    <a:cubicBezTo>
                      <a:pt x="15467" y="323"/>
                      <a:pt x="15829" y="162"/>
                      <a:pt x="16116" y="92"/>
                    </a:cubicBezTo>
                    <a:cubicBezTo>
                      <a:pt x="16404" y="23"/>
                      <a:pt x="16659" y="0"/>
                      <a:pt x="16924" y="92"/>
                    </a:cubicBezTo>
                    <a:cubicBezTo>
                      <a:pt x="17188" y="185"/>
                      <a:pt x="17453" y="392"/>
                      <a:pt x="17703" y="646"/>
                    </a:cubicBezTo>
                    <a:cubicBezTo>
                      <a:pt x="17954" y="900"/>
                      <a:pt x="18227" y="1338"/>
                      <a:pt x="18427" y="1615"/>
                    </a:cubicBezTo>
                    <a:cubicBezTo>
                      <a:pt x="18626" y="1892"/>
                      <a:pt x="18733" y="2008"/>
                      <a:pt x="18900" y="2308"/>
                    </a:cubicBezTo>
                    <a:cubicBezTo>
                      <a:pt x="19067" y="2608"/>
                      <a:pt x="19243" y="2977"/>
                      <a:pt x="19429" y="3415"/>
                    </a:cubicBezTo>
                    <a:cubicBezTo>
                      <a:pt x="19614" y="3854"/>
                      <a:pt x="19823" y="4408"/>
                      <a:pt x="20013" y="4938"/>
                    </a:cubicBezTo>
                    <a:cubicBezTo>
                      <a:pt x="20204" y="5469"/>
                      <a:pt x="20426" y="6138"/>
                      <a:pt x="20570" y="6600"/>
                    </a:cubicBezTo>
                    <a:cubicBezTo>
                      <a:pt x="20714" y="7062"/>
                      <a:pt x="20784" y="7408"/>
                      <a:pt x="20876" y="7708"/>
                    </a:cubicBezTo>
                    <a:cubicBezTo>
                      <a:pt x="20969" y="8008"/>
                      <a:pt x="21039" y="8077"/>
                      <a:pt x="21127" y="8400"/>
                    </a:cubicBezTo>
                    <a:cubicBezTo>
                      <a:pt x="21215" y="8723"/>
                      <a:pt x="21326" y="9346"/>
                      <a:pt x="21405" y="9646"/>
                    </a:cubicBezTo>
                    <a:cubicBezTo>
                      <a:pt x="21484" y="9946"/>
                      <a:pt x="21542" y="10073"/>
                      <a:pt x="21600" y="10200"/>
                    </a:cubicBezTo>
                  </a:path>
                </a:pathLst>
              </a:cu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4511880" y="2242800"/>
                <a:ext cx="3695760" cy="480600"/>
              </a:xfrm>
              <a:custGeom>
                <a:avLst/>
                <a:gdLst/>
                <a:ahLst/>
                <a:rect l="l" t="t" r="r" b="b"/>
                <a:pathLst>
                  <a:path w="21600" h="21535">
                    <a:moveTo>
                      <a:pt x="0" y="10615"/>
                    </a:moveTo>
                    <a:cubicBezTo>
                      <a:pt x="114" y="11088"/>
                      <a:pt x="223" y="11562"/>
                      <a:pt x="334" y="12000"/>
                    </a:cubicBezTo>
                    <a:cubicBezTo>
                      <a:pt x="445" y="12438"/>
                      <a:pt x="552" y="12854"/>
                      <a:pt x="668" y="13246"/>
                    </a:cubicBezTo>
                    <a:cubicBezTo>
                      <a:pt x="784" y="13638"/>
                      <a:pt x="1030" y="14354"/>
                      <a:pt x="1030" y="14354"/>
                    </a:cubicBezTo>
                    <a:cubicBezTo>
                      <a:pt x="1178" y="14815"/>
                      <a:pt x="1378" y="15508"/>
                      <a:pt x="1559" y="16015"/>
                    </a:cubicBezTo>
                    <a:cubicBezTo>
                      <a:pt x="1740" y="16523"/>
                      <a:pt x="1916" y="16892"/>
                      <a:pt x="2115" y="17400"/>
                    </a:cubicBezTo>
                    <a:cubicBezTo>
                      <a:pt x="2315" y="17908"/>
                      <a:pt x="2533" y="18623"/>
                      <a:pt x="2756" y="19062"/>
                    </a:cubicBezTo>
                    <a:cubicBezTo>
                      <a:pt x="2978" y="19500"/>
                      <a:pt x="3187" y="19685"/>
                      <a:pt x="3452" y="20031"/>
                    </a:cubicBezTo>
                    <a:cubicBezTo>
                      <a:pt x="3716" y="20377"/>
                      <a:pt x="4073" y="20885"/>
                      <a:pt x="4342" y="21138"/>
                    </a:cubicBezTo>
                    <a:cubicBezTo>
                      <a:pt x="4611" y="21392"/>
                      <a:pt x="4820" y="21508"/>
                      <a:pt x="5066" y="21554"/>
                    </a:cubicBezTo>
                    <a:cubicBezTo>
                      <a:pt x="5312" y="21600"/>
                      <a:pt x="5581" y="21508"/>
                      <a:pt x="5818" y="21415"/>
                    </a:cubicBezTo>
                    <a:cubicBezTo>
                      <a:pt x="6054" y="21323"/>
                      <a:pt x="6249" y="21208"/>
                      <a:pt x="6486" y="21000"/>
                    </a:cubicBezTo>
                    <a:cubicBezTo>
                      <a:pt x="6722" y="20792"/>
                      <a:pt x="7014" y="20469"/>
                      <a:pt x="7237" y="20169"/>
                    </a:cubicBezTo>
                    <a:cubicBezTo>
                      <a:pt x="7460" y="19869"/>
                      <a:pt x="7613" y="19569"/>
                      <a:pt x="7822" y="19200"/>
                    </a:cubicBezTo>
                    <a:cubicBezTo>
                      <a:pt x="8030" y="18831"/>
                      <a:pt x="8313" y="18346"/>
                      <a:pt x="8490" y="17954"/>
                    </a:cubicBezTo>
                    <a:cubicBezTo>
                      <a:pt x="8666" y="17562"/>
                      <a:pt x="8717" y="17262"/>
                      <a:pt x="8879" y="16846"/>
                    </a:cubicBezTo>
                    <a:cubicBezTo>
                      <a:pt x="9042" y="16431"/>
                      <a:pt x="9288" y="15969"/>
                      <a:pt x="9464" y="15462"/>
                    </a:cubicBezTo>
                    <a:cubicBezTo>
                      <a:pt x="9640" y="14954"/>
                      <a:pt x="9793" y="14285"/>
                      <a:pt x="9937" y="13800"/>
                    </a:cubicBezTo>
                    <a:cubicBezTo>
                      <a:pt x="10081" y="13315"/>
                      <a:pt x="10327" y="12554"/>
                      <a:pt x="10327" y="12554"/>
                    </a:cubicBezTo>
                    <a:cubicBezTo>
                      <a:pt x="10396" y="12254"/>
                      <a:pt x="10591" y="11354"/>
                      <a:pt x="10744" y="10754"/>
                    </a:cubicBezTo>
                    <a:cubicBezTo>
                      <a:pt x="10897" y="10154"/>
                      <a:pt x="11245" y="8954"/>
                      <a:pt x="11245" y="8954"/>
                    </a:cubicBezTo>
                    <a:cubicBezTo>
                      <a:pt x="11408" y="8377"/>
                      <a:pt x="11565" y="7800"/>
                      <a:pt x="11719" y="7292"/>
                    </a:cubicBezTo>
                    <a:cubicBezTo>
                      <a:pt x="11872" y="6785"/>
                      <a:pt x="11992" y="6392"/>
                      <a:pt x="12164" y="5908"/>
                    </a:cubicBezTo>
                    <a:cubicBezTo>
                      <a:pt x="12336" y="5423"/>
                      <a:pt x="12563" y="4846"/>
                      <a:pt x="12748" y="4385"/>
                    </a:cubicBezTo>
                    <a:cubicBezTo>
                      <a:pt x="12934" y="3923"/>
                      <a:pt x="13092" y="3508"/>
                      <a:pt x="13277" y="3138"/>
                    </a:cubicBezTo>
                    <a:cubicBezTo>
                      <a:pt x="13463" y="2769"/>
                      <a:pt x="13658" y="2492"/>
                      <a:pt x="13862" y="2169"/>
                    </a:cubicBezTo>
                    <a:cubicBezTo>
                      <a:pt x="14066" y="1846"/>
                      <a:pt x="14279" y="1477"/>
                      <a:pt x="14502" y="1200"/>
                    </a:cubicBezTo>
                    <a:cubicBezTo>
                      <a:pt x="14725" y="923"/>
                      <a:pt x="14929" y="692"/>
                      <a:pt x="15198" y="508"/>
                    </a:cubicBezTo>
                    <a:cubicBezTo>
                      <a:pt x="15467" y="323"/>
                      <a:pt x="15829" y="162"/>
                      <a:pt x="16116" y="92"/>
                    </a:cubicBezTo>
                    <a:cubicBezTo>
                      <a:pt x="16404" y="23"/>
                      <a:pt x="16659" y="0"/>
                      <a:pt x="16924" y="92"/>
                    </a:cubicBezTo>
                    <a:cubicBezTo>
                      <a:pt x="17188" y="185"/>
                      <a:pt x="17453" y="392"/>
                      <a:pt x="17703" y="646"/>
                    </a:cubicBezTo>
                    <a:cubicBezTo>
                      <a:pt x="17954" y="900"/>
                      <a:pt x="18227" y="1338"/>
                      <a:pt x="18427" y="1615"/>
                    </a:cubicBezTo>
                    <a:cubicBezTo>
                      <a:pt x="18626" y="1892"/>
                      <a:pt x="18733" y="2008"/>
                      <a:pt x="18900" y="2308"/>
                    </a:cubicBezTo>
                    <a:cubicBezTo>
                      <a:pt x="19067" y="2608"/>
                      <a:pt x="19243" y="2977"/>
                      <a:pt x="19429" y="3415"/>
                    </a:cubicBezTo>
                    <a:cubicBezTo>
                      <a:pt x="19614" y="3854"/>
                      <a:pt x="19823" y="4408"/>
                      <a:pt x="20013" y="4938"/>
                    </a:cubicBezTo>
                    <a:cubicBezTo>
                      <a:pt x="20204" y="5469"/>
                      <a:pt x="20426" y="6138"/>
                      <a:pt x="20570" y="6600"/>
                    </a:cubicBezTo>
                    <a:cubicBezTo>
                      <a:pt x="20714" y="7062"/>
                      <a:pt x="20784" y="7408"/>
                      <a:pt x="20876" y="7708"/>
                    </a:cubicBezTo>
                    <a:cubicBezTo>
                      <a:pt x="20969" y="8008"/>
                      <a:pt x="21039" y="8077"/>
                      <a:pt x="21127" y="8400"/>
                    </a:cubicBezTo>
                    <a:cubicBezTo>
                      <a:pt x="21215" y="8723"/>
                      <a:pt x="21326" y="9346"/>
                      <a:pt x="21405" y="9646"/>
                    </a:cubicBezTo>
                    <a:cubicBezTo>
                      <a:pt x="21484" y="9946"/>
                      <a:pt x="21542" y="10073"/>
                      <a:pt x="21600" y="10200"/>
                    </a:cubicBezTo>
                  </a:path>
                </a:pathLst>
              </a:cu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2" name=""/>
            <p:cNvSpPr/>
            <p:nvPr/>
          </p:nvSpPr>
          <p:spPr>
            <a:xfrm>
              <a:off x="8480520" y="2647800"/>
              <a:ext cx="195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115760" y="1722240"/>
              <a:ext cx="602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2001a"/>
                  </a:solidFill>
                  <a:latin typeface="Arial"/>
                  <a:ea typeface="Arial"/>
                </a:rPr>
                <a:t>u(t,z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464240" y="2644560"/>
              <a:ext cx="525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70c0"/>
                  </a:solidFill>
                  <a:latin typeface="Arial"/>
                  <a:ea typeface="Arial"/>
                </a:rPr>
                <a:t>i(t,z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24040" y="2501640"/>
              <a:ext cx="8221680" cy="1440"/>
            </a:xfrm>
            <a:prstGeom prst="line">
              <a:avLst/>
            </a:prstGeom>
            <a:ln w="936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6" name=""/>
          <p:cNvGrpSpPr/>
          <p:nvPr/>
        </p:nvGrpSpPr>
        <p:grpSpPr>
          <a:xfrm>
            <a:off x="781200" y="3776760"/>
            <a:ext cx="8512920" cy="2235240"/>
            <a:chOff x="781200" y="3776760"/>
            <a:chExt cx="8512920" cy="2235240"/>
          </a:xfrm>
        </p:grpSpPr>
        <p:sp>
          <p:nvSpPr>
            <p:cNvPr id="627" name=""/>
            <p:cNvSpPr/>
            <p:nvPr/>
          </p:nvSpPr>
          <p:spPr>
            <a:xfrm>
              <a:off x="781200" y="5137200"/>
              <a:ext cx="8222760" cy="1800"/>
            </a:xfrm>
            <a:prstGeom prst="line">
              <a:avLst/>
            </a:prstGeom>
            <a:ln w="936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8" name=""/>
            <p:cNvGrpSpPr/>
            <p:nvPr/>
          </p:nvGrpSpPr>
          <p:grpSpPr>
            <a:xfrm>
              <a:off x="1025640" y="4457880"/>
              <a:ext cx="7379280" cy="1310760"/>
              <a:chOff x="1025640" y="4457880"/>
              <a:chExt cx="7379280" cy="1310760"/>
            </a:xfrm>
          </p:grpSpPr>
          <p:sp>
            <p:nvSpPr>
              <p:cNvPr id="629" name=""/>
              <p:cNvSpPr/>
              <p:nvPr/>
            </p:nvSpPr>
            <p:spPr>
              <a:xfrm>
                <a:off x="1025640" y="4513320"/>
                <a:ext cx="3695040" cy="1255320"/>
              </a:xfrm>
              <a:custGeom>
                <a:avLst/>
                <a:gdLst/>
                <a:ahLst/>
                <a:rect l="l" t="t" r="r" b="b"/>
                <a:pathLst>
                  <a:path w="21600" h="21535">
                    <a:moveTo>
                      <a:pt x="0" y="10615"/>
                    </a:moveTo>
                    <a:cubicBezTo>
                      <a:pt x="114" y="11088"/>
                      <a:pt x="223" y="11562"/>
                      <a:pt x="334" y="12000"/>
                    </a:cubicBezTo>
                    <a:cubicBezTo>
                      <a:pt x="445" y="12438"/>
                      <a:pt x="552" y="12854"/>
                      <a:pt x="668" y="13246"/>
                    </a:cubicBezTo>
                    <a:cubicBezTo>
                      <a:pt x="784" y="13638"/>
                      <a:pt x="1030" y="14354"/>
                      <a:pt x="1030" y="14354"/>
                    </a:cubicBezTo>
                    <a:cubicBezTo>
                      <a:pt x="1178" y="14815"/>
                      <a:pt x="1378" y="15508"/>
                      <a:pt x="1559" y="16015"/>
                    </a:cubicBezTo>
                    <a:cubicBezTo>
                      <a:pt x="1740" y="16523"/>
                      <a:pt x="1916" y="16892"/>
                      <a:pt x="2115" y="17400"/>
                    </a:cubicBezTo>
                    <a:cubicBezTo>
                      <a:pt x="2315" y="17908"/>
                      <a:pt x="2533" y="18623"/>
                      <a:pt x="2756" y="19062"/>
                    </a:cubicBezTo>
                    <a:cubicBezTo>
                      <a:pt x="2978" y="19500"/>
                      <a:pt x="3187" y="19685"/>
                      <a:pt x="3452" y="20031"/>
                    </a:cubicBezTo>
                    <a:cubicBezTo>
                      <a:pt x="3716" y="20377"/>
                      <a:pt x="4073" y="20885"/>
                      <a:pt x="4342" y="21138"/>
                    </a:cubicBezTo>
                    <a:cubicBezTo>
                      <a:pt x="4611" y="21392"/>
                      <a:pt x="4820" y="21508"/>
                      <a:pt x="5066" y="21554"/>
                    </a:cubicBezTo>
                    <a:cubicBezTo>
                      <a:pt x="5312" y="21600"/>
                      <a:pt x="5581" y="21508"/>
                      <a:pt x="5818" y="21415"/>
                    </a:cubicBezTo>
                    <a:cubicBezTo>
                      <a:pt x="6054" y="21323"/>
                      <a:pt x="6249" y="21208"/>
                      <a:pt x="6486" y="21000"/>
                    </a:cubicBezTo>
                    <a:cubicBezTo>
                      <a:pt x="6722" y="20792"/>
                      <a:pt x="7014" y="20469"/>
                      <a:pt x="7237" y="20169"/>
                    </a:cubicBezTo>
                    <a:cubicBezTo>
                      <a:pt x="7460" y="19869"/>
                      <a:pt x="7613" y="19569"/>
                      <a:pt x="7822" y="19200"/>
                    </a:cubicBezTo>
                    <a:cubicBezTo>
                      <a:pt x="8030" y="18831"/>
                      <a:pt x="8313" y="18346"/>
                      <a:pt x="8490" y="17954"/>
                    </a:cubicBezTo>
                    <a:cubicBezTo>
                      <a:pt x="8666" y="17562"/>
                      <a:pt x="8717" y="17262"/>
                      <a:pt x="8879" y="16846"/>
                    </a:cubicBezTo>
                    <a:cubicBezTo>
                      <a:pt x="9042" y="16431"/>
                      <a:pt x="9288" y="15969"/>
                      <a:pt x="9464" y="15462"/>
                    </a:cubicBezTo>
                    <a:cubicBezTo>
                      <a:pt x="9640" y="14954"/>
                      <a:pt x="9793" y="14285"/>
                      <a:pt x="9937" y="13800"/>
                    </a:cubicBezTo>
                    <a:cubicBezTo>
                      <a:pt x="10081" y="13315"/>
                      <a:pt x="10327" y="12554"/>
                      <a:pt x="10327" y="12554"/>
                    </a:cubicBezTo>
                    <a:cubicBezTo>
                      <a:pt x="10396" y="12254"/>
                      <a:pt x="10591" y="11354"/>
                      <a:pt x="10744" y="10754"/>
                    </a:cubicBezTo>
                    <a:cubicBezTo>
                      <a:pt x="10897" y="10154"/>
                      <a:pt x="11245" y="8954"/>
                      <a:pt x="11245" y="8954"/>
                    </a:cubicBezTo>
                    <a:cubicBezTo>
                      <a:pt x="11408" y="8377"/>
                      <a:pt x="11565" y="7800"/>
                      <a:pt x="11719" y="7292"/>
                    </a:cubicBezTo>
                    <a:cubicBezTo>
                      <a:pt x="11872" y="6785"/>
                      <a:pt x="11992" y="6392"/>
                      <a:pt x="12164" y="5908"/>
                    </a:cubicBezTo>
                    <a:cubicBezTo>
                      <a:pt x="12336" y="5423"/>
                      <a:pt x="12563" y="4846"/>
                      <a:pt x="12748" y="4385"/>
                    </a:cubicBezTo>
                    <a:cubicBezTo>
                      <a:pt x="12934" y="3923"/>
                      <a:pt x="13092" y="3508"/>
                      <a:pt x="13277" y="3138"/>
                    </a:cubicBezTo>
                    <a:cubicBezTo>
                      <a:pt x="13463" y="2769"/>
                      <a:pt x="13658" y="2492"/>
                      <a:pt x="13862" y="2169"/>
                    </a:cubicBezTo>
                    <a:cubicBezTo>
                      <a:pt x="14066" y="1846"/>
                      <a:pt x="14279" y="1477"/>
                      <a:pt x="14502" y="1200"/>
                    </a:cubicBezTo>
                    <a:cubicBezTo>
                      <a:pt x="14725" y="923"/>
                      <a:pt x="14929" y="692"/>
                      <a:pt x="15198" y="508"/>
                    </a:cubicBezTo>
                    <a:cubicBezTo>
                      <a:pt x="15467" y="323"/>
                      <a:pt x="15829" y="162"/>
                      <a:pt x="16116" y="92"/>
                    </a:cubicBezTo>
                    <a:cubicBezTo>
                      <a:pt x="16404" y="23"/>
                      <a:pt x="16659" y="0"/>
                      <a:pt x="16924" y="92"/>
                    </a:cubicBezTo>
                    <a:cubicBezTo>
                      <a:pt x="17188" y="185"/>
                      <a:pt x="17453" y="392"/>
                      <a:pt x="17703" y="646"/>
                    </a:cubicBezTo>
                    <a:cubicBezTo>
                      <a:pt x="17954" y="900"/>
                      <a:pt x="18227" y="1338"/>
                      <a:pt x="18427" y="1615"/>
                    </a:cubicBezTo>
                    <a:cubicBezTo>
                      <a:pt x="18626" y="1892"/>
                      <a:pt x="18733" y="2008"/>
                      <a:pt x="18900" y="2308"/>
                    </a:cubicBezTo>
                    <a:cubicBezTo>
                      <a:pt x="19067" y="2608"/>
                      <a:pt x="19243" y="2977"/>
                      <a:pt x="19429" y="3415"/>
                    </a:cubicBezTo>
                    <a:cubicBezTo>
                      <a:pt x="19614" y="3854"/>
                      <a:pt x="19823" y="4408"/>
                      <a:pt x="20013" y="4938"/>
                    </a:cubicBezTo>
                    <a:cubicBezTo>
                      <a:pt x="20204" y="5469"/>
                      <a:pt x="20426" y="6138"/>
                      <a:pt x="20570" y="6600"/>
                    </a:cubicBezTo>
                    <a:cubicBezTo>
                      <a:pt x="20714" y="7062"/>
                      <a:pt x="20784" y="7408"/>
                      <a:pt x="20876" y="7708"/>
                    </a:cubicBezTo>
                    <a:cubicBezTo>
                      <a:pt x="20969" y="8008"/>
                      <a:pt x="21039" y="8077"/>
                      <a:pt x="21127" y="8400"/>
                    </a:cubicBezTo>
                    <a:cubicBezTo>
                      <a:pt x="21215" y="8723"/>
                      <a:pt x="21326" y="9346"/>
                      <a:pt x="21405" y="9646"/>
                    </a:cubicBezTo>
                    <a:cubicBezTo>
                      <a:pt x="21484" y="9946"/>
                      <a:pt x="21542" y="10073"/>
                      <a:pt x="21600" y="10200"/>
                    </a:cubicBezTo>
                  </a:path>
                </a:pathLst>
              </a:custGeom>
              <a:noFill/>
              <a:ln w="28440">
                <a:solidFill>
                  <a:srgbClr val="e200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4708080" y="4457880"/>
                <a:ext cx="3696840" cy="1253520"/>
              </a:xfrm>
              <a:custGeom>
                <a:avLst/>
                <a:gdLst/>
                <a:ahLst/>
                <a:rect l="l" t="t" r="r" b="b"/>
                <a:pathLst>
                  <a:path w="21600" h="21535">
                    <a:moveTo>
                      <a:pt x="0" y="10615"/>
                    </a:moveTo>
                    <a:cubicBezTo>
                      <a:pt x="114" y="11088"/>
                      <a:pt x="223" y="11562"/>
                      <a:pt x="334" y="12000"/>
                    </a:cubicBezTo>
                    <a:cubicBezTo>
                      <a:pt x="445" y="12438"/>
                      <a:pt x="552" y="12854"/>
                      <a:pt x="668" y="13246"/>
                    </a:cubicBezTo>
                    <a:cubicBezTo>
                      <a:pt x="784" y="13638"/>
                      <a:pt x="1030" y="14354"/>
                      <a:pt x="1030" y="14354"/>
                    </a:cubicBezTo>
                    <a:cubicBezTo>
                      <a:pt x="1178" y="14815"/>
                      <a:pt x="1378" y="15508"/>
                      <a:pt x="1559" y="16015"/>
                    </a:cubicBezTo>
                    <a:cubicBezTo>
                      <a:pt x="1740" y="16523"/>
                      <a:pt x="1916" y="16892"/>
                      <a:pt x="2115" y="17400"/>
                    </a:cubicBezTo>
                    <a:cubicBezTo>
                      <a:pt x="2315" y="17908"/>
                      <a:pt x="2533" y="18623"/>
                      <a:pt x="2756" y="19062"/>
                    </a:cubicBezTo>
                    <a:cubicBezTo>
                      <a:pt x="2978" y="19500"/>
                      <a:pt x="3187" y="19685"/>
                      <a:pt x="3452" y="20031"/>
                    </a:cubicBezTo>
                    <a:cubicBezTo>
                      <a:pt x="3716" y="20377"/>
                      <a:pt x="4073" y="20885"/>
                      <a:pt x="4342" y="21138"/>
                    </a:cubicBezTo>
                    <a:cubicBezTo>
                      <a:pt x="4611" y="21392"/>
                      <a:pt x="4820" y="21508"/>
                      <a:pt x="5066" y="21554"/>
                    </a:cubicBezTo>
                    <a:cubicBezTo>
                      <a:pt x="5312" y="21600"/>
                      <a:pt x="5581" y="21508"/>
                      <a:pt x="5818" y="21415"/>
                    </a:cubicBezTo>
                    <a:cubicBezTo>
                      <a:pt x="6054" y="21323"/>
                      <a:pt x="6249" y="21208"/>
                      <a:pt x="6486" y="21000"/>
                    </a:cubicBezTo>
                    <a:cubicBezTo>
                      <a:pt x="6722" y="20792"/>
                      <a:pt x="7014" y="20469"/>
                      <a:pt x="7237" y="20169"/>
                    </a:cubicBezTo>
                    <a:cubicBezTo>
                      <a:pt x="7460" y="19869"/>
                      <a:pt x="7613" y="19569"/>
                      <a:pt x="7822" y="19200"/>
                    </a:cubicBezTo>
                    <a:cubicBezTo>
                      <a:pt x="8030" y="18831"/>
                      <a:pt x="8313" y="18346"/>
                      <a:pt x="8490" y="17954"/>
                    </a:cubicBezTo>
                    <a:cubicBezTo>
                      <a:pt x="8666" y="17562"/>
                      <a:pt x="8717" y="17262"/>
                      <a:pt x="8879" y="16846"/>
                    </a:cubicBezTo>
                    <a:cubicBezTo>
                      <a:pt x="9042" y="16431"/>
                      <a:pt x="9288" y="15969"/>
                      <a:pt x="9464" y="15462"/>
                    </a:cubicBezTo>
                    <a:cubicBezTo>
                      <a:pt x="9640" y="14954"/>
                      <a:pt x="9793" y="14285"/>
                      <a:pt x="9937" y="13800"/>
                    </a:cubicBezTo>
                    <a:cubicBezTo>
                      <a:pt x="10081" y="13315"/>
                      <a:pt x="10327" y="12554"/>
                      <a:pt x="10327" y="12554"/>
                    </a:cubicBezTo>
                    <a:cubicBezTo>
                      <a:pt x="10396" y="12254"/>
                      <a:pt x="10591" y="11354"/>
                      <a:pt x="10744" y="10754"/>
                    </a:cubicBezTo>
                    <a:cubicBezTo>
                      <a:pt x="10897" y="10154"/>
                      <a:pt x="11245" y="8954"/>
                      <a:pt x="11245" y="8954"/>
                    </a:cubicBezTo>
                    <a:cubicBezTo>
                      <a:pt x="11408" y="8377"/>
                      <a:pt x="11565" y="7800"/>
                      <a:pt x="11719" y="7292"/>
                    </a:cubicBezTo>
                    <a:cubicBezTo>
                      <a:pt x="11872" y="6785"/>
                      <a:pt x="11992" y="6392"/>
                      <a:pt x="12164" y="5908"/>
                    </a:cubicBezTo>
                    <a:cubicBezTo>
                      <a:pt x="12336" y="5423"/>
                      <a:pt x="12563" y="4846"/>
                      <a:pt x="12748" y="4385"/>
                    </a:cubicBezTo>
                    <a:cubicBezTo>
                      <a:pt x="12934" y="3923"/>
                      <a:pt x="13092" y="3508"/>
                      <a:pt x="13277" y="3138"/>
                    </a:cubicBezTo>
                    <a:cubicBezTo>
                      <a:pt x="13463" y="2769"/>
                      <a:pt x="13658" y="2492"/>
                      <a:pt x="13862" y="2169"/>
                    </a:cubicBezTo>
                    <a:cubicBezTo>
                      <a:pt x="14066" y="1846"/>
                      <a:pt x="14279" y="1477"/>
                      <a:pt x="14502" y="1200"/>
                    </a:cubicBezTo>
                    <a:cubicBezTo>
                      <a:pt x="14725" y="923"/>
                      <a:pt x="14929" y="692"/>
                      <a:pt x="15198" y="508"/>
                    </a:cubicBezTo>
                    <a:cubicBezTo>
                      <a:pt x="15467" y="323"/>
                      <a:pt x="15829" y="162"/>
                      <a:pt x="16116" y="92"/>
                    </a:cubicBezTo>
                    <a:cubicBezTo>
                      <a:pt x="16404" y="23"/>
                      <a:pt x="16659" y="0"/>
                      <a:pt x="16924" y="92"/>
                    </a:cubicBezTo>
                    <a:cubicBezTo>
                      <a:pt x="17188" y="185"/>
                      <a:pt x="17453" y="392"/>
                      <a:pt x="17703" y="646"/>
                    </a:cubicBezTo>
                    <a:cubicBezTo>
                      <a:pt x="17954" y="900"/>
                      <a:pt x="18227" y="1338"/>
                      <a:pt x="18427" y="1615"/>
                    </a:cubicBezTo>
                    <a:cubicBezTo>
                      <a:pt x="18626" y="1892"/>
                      <a:pt x="18733" y="2008"/>
                      <a:pt x="18900" y="2308"/>
                    </a:cubicBezTo>
                    <a:cubicBezTo>
                      <a:pt x="19067" y="2608"/>
                      <a:pt x="19243" y="2977"/>
                      <a:pt x="19429" y="3415"/>
                    </a:cubicBezTo>
                    <a:cubicBezTo>
                      <a:pt x="19614" y="3854"/>
                      <a:pt x="19823" y="4408"/>
                      <a:pt x="20013" y="4938"/>
                    </a:cubicBezTo>
                    <a:cubicBezTo>
                      <a:pt x="20204" y="5469"/>
                      <a:pt x="20426" y="6138"/>
                      <a:pt x="20570" y="6600"/>
                    </a:cubicBezTo>
                    <a:cubicBezTo>
                      <a:pt x="20714" y="7062"/>
                      <a:pt x="20784" y="7408"/>
                      <a:pt x="20876" y="7708"/>
                    </a:cubicBezTo>
                    <a:cubicBezTo>
                      <a:pt x="20969" y="8008"/>
                      <a:pt x="21039" y="8077"/>
                      <a:pt x="21127" y="8400"/>
                    </a:cubicBezTo>
                    <a:cubicBezTo>
                      <a:pt x="21215" y="8723"/>
                      <a:pt x="21326" y="9346"/>
                      <a:pt x="21405" y="9646"/>
                    </a:cubicBezTo>
                    <a:cubicBezTo>
                      <a:pt x="21484" y="9946"/>
                      <a:pt x="21542" y="10073"/>
                      <a:pt x="21600" y="10200"/>
                    </a:cubicBezTo>
                  </a:path>
                </a:pathLst>
              </a:custGeom>
              <a:noFill/>
              <a:ln w="28440">
                <a:solidFill>
                  <a:srgbClr val="e2001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1" name=""/>
            <p:cNvGrpSpPr/>
            <p:nvPr/>
          </p:nvGrpSpPr>
          <p:grpSpPr>
            <a:xfrm>
              <a:off x="1914840" y="4722840"/>
              <a:ext cx="7379280" cy="812880"/>
              <a:chOff x="1914840" y="4722840"/>
              <a:chExt cx="7379280" cy="812880"/>
            </a:xfrm>
          </p:grpSpPr>
          <p:sp>
            <p:nvSpPr>
              <p:cNvPr id="632" name=""/>
              <p:cNvSpPr/>
              <p:nvPr/>
            </p:nvSpPr>
            <p:spPr>
              <a:xfrm>
                <a:off x="1914840" y="4756320"/>
                <a:ext cx="3695040" cy="779400"/>
              </a:xfrm>
              <a:custGeom>
                <a:avLst/>
                <a:gdLst/>
                <a:ahLst/>
                <a:rect l="l" t="t" r="r" b="b"/>
                <a:pathLst>
                  <a:path w="21600" h="21535">
                    <a:moveTo>
                      <a:pt x="0" y="10615"/>
                    </a:moveTo>
                    <a:cubicBezTo>
                      <a:pt x="114" y="11088"/>
                      <a:pt x="223" y="11562"/>
                      <a:pt x="334" y="12000"/>
                    </a:cubicBezTo>
                    <a:cubicBezTo>
                      <a:pt x="445" y="12438"/>
                      <a:pt x="552" y="12854"/>
                      <a:pt x="668" y="13246"/>
                    </a:cubicBezTo>
                    <a:cubicBezTo>
                      <a:pt x="784" y="13638"/>
                      <a:pt x="1030" y="14354"/>
                      <a:pt x="1030" y="14354"/>
                    </a:cubicBezTo>
                    <a:cubicBezTo>
                      <a:pt x="1178" y="14815"/>
                      <a:pt x="1378" y="15508"/>
                      <a:pt x="1559" y="16015"/>
                    </a:cubicBezTo>
                    <a:cubicBezTo>
                      <a:pt x="1740" y="16523"/>
                      <a:pt x="1916" y="16892"/>
                      <a:pt x="2115" y="17400"/>
                    </a:cubicBezTo>
                    <a:cubicBezTo>
                      <a:pt x="2315" y="17908"/>
                      <a:pt x="2533" y="18623"/>
                      <a:pt x="2756" y="19062"/>
                    </a:cubicBezTo>
                    <a:cubicBezTo>
                      <a:pt x="2978" y="19500"/>
                      <a:pt x="3187" y="19685"/>
                      <a:pt x="3452" y="20031"/>
                    </a:cubicBezTo>
                    <a:cubicBezTo>
                      <a:pt x="3716" y="20377"/>
                      <a:pt x="4073" y="20885"/>
                      <a:pt x="4342" y="21138"/>
                    </a:cubicBezTo>
                    <a:cubicBezTo>
                      <a:pt x="4611" y="21392"/>
                      <a:pt x="4820" y="21508"/>
                      <a:pt x="5066" y="21554"/>
                    </a:cubicBezTo>
                    <a:cubicBezTo>
                      <a:pt x="5312" y="21600"/>
                      <a:pt x="5581" y="21508"/>
                      <a:pt x="5818" y="21415"/>
                    </a:cubicBezTo>
                    <a:cubicBezTo>
                      <a:pt x="6054" y="21323"/>
                      <a:pt x="6249" y="21208"/>
                      <a:pt x="6486" y="21000"/>
                    </a:cubicBezTo>
                    <a:cubicBezTo>
                      <a:pt x="6722" y="20792"/>
                      <a:pt x="7014" y="20469"/>
                      <a:pt x="7237" y="20169"/>
                    </a:cubicBezTo>
                    <a:cubicBezTo>
                      <a:pt x="7460" y="19869"/>
                      <a:pt x="7613" y="19569"/>
                      <a:pt x="7822" y="19200"/>
                    </a:cubicBezTo>
                    <a:cubicBezTo>
                      <a:pt x="8030" y="18831"/>
                      <a:pt x="8313" y="18346"/>
                      <a:pt x="8490" y="17954"/>
                    </a:cubicBezTo>
                    <a:cubicBezTo>
                      <a:pt x="8666" y="17562"/>
                      <a:pt x="8717" y="17262"/>
                      <a:pt x="8879" y="16846"/>
                    </a:cubicBezTo>
                    <a:cubicBezTo>
                      <a:pt x="9042" y="16431"/>
                      <a:pt x="9288" y="15969"/>
                      <a:pt x="9464" y="15462"/>
                    </a:cubicBezTo>
                    <a:cubicBezTo>
                      <a:pt x="9640" y="14954"/>
                      <a:pt x="9793" y="14285"/>
                      <a:pt x="9937" y="13800"/>
                    </a:cubicBezTo>
                    <a:cubicBezTo>
                      <a:pt x="10081" y="13315"/>
                      <a:pt x="10327" y="12554"/>
                      <a:pt x="10327" y="12554"/>
                    </a:cubicBezTo>
                    <a:cubicBezTo>
                      <a:pt x="10396" y="12254"/>
                      <a:pt x="10591" y="11354"/>
                      <a:pt x="10744" y="10754"/>
                    </a:cubicBezTo>
                    <a:cubicBezTo>
                      <a:pt x="10897" y="10154"/>
                      <a:pt x="11245" y="8954"/>
                      <a:pt x="11245" y="8954"/>
                    </a:cubicBezTo>
                    <a:cubicBezTo>
                      <a:pt x="11408" y="8377"/>
                      <a:pt x="11565" y="7800"/>
                      <a:pt x="11719" y="7292"/>
                    </a:cubicBezTo>
                    <a:cubicBezTo>
                      <a:pt x="11872" y="6785"/>
                      <a:pt x="11992" y="6392"/>
                      <a:pt x="12164" y="5908"/>
                    </a:cubicBezTo>
                    <a:cubicBezTo>
                      <a:pt x="12336" y="5423"/>
                      <a:pt x="12563" y="4846"/>
                      <a:pt x="12748" y="4385"/>
                    </a:cubicBezTo>
                    <a:cubicBezTo>
                      <a:pt x="12934" y="3923"/>
                      <a:pt x="13092" y="3508"/>
                      <a:pt x="13277" y="3138"/>
                    </a:cubicBezTo>
                    <a:cubicBezTo>
                      <a:pt x="13463" y="2769"/>
                      <a:pt x="13658" y="2492"/>
                      <a:pt x="13862" y="2169"/>
                    </a:cubicBezTo>
                    <a:cubicBezTo>
                      <a:pt x="14066" y="1846"/>
                      <a:pt x="14279" y="1477"/>
                      <a:pt x="14502" y="1200"/>
                    </a:cubicBezTo>
                    <a:cubicBezTo>
                      <a:pt x="14725" y="923"/>
                      <a:pt x="14929" y="692"/>
                      <a:pt x="15198" y="508"/>
                    </a:cubicBezTo>
                    <a:cubicBezTo>
                      <a:pt x="15467" y="323"/>
                      <a:pt x="15829" y="162"/>
                      <a:pt x="16116" y="92"/>
                    </a:cubicBezTo>
                    <a:cubicBezTo>
                      <a:pt x="16404" y="23"/>
                      <a:pt x="16659" y="0"/>
                      <a:pt x="16924" y="92"/>
                    </a:cubicBezTo>
                    <a:cubicBezTo>
                      <a:pt x="17188" y="185"/>
                      <a:pt x="17453" y="392"/>
                      <a:pt x="17703" y="646"/>
                    </a:cubicBezTo>
                    <a:cubicBezTo>
                      <a:pt x="17954" y="900"/>
                      <a:pt x="18227" y="1338"/>
                      <a:pt x="18427" y="1615"/>
                    </a:cubicBezTo>
                    <a:cubicBezTo>
                      <a:pt x="18626" y="1892"/>
                      <a:pt x="18733" y="2008"/>
                      <a:pt x="18900" y="2308"/>
                    </a:cubicBezTo>
                    <a:cubicBezTo>
                      <a:pt x="19067" y="2608"/>
                      <a:pt x="19243" y="2977"/>
                      <a:pt x="19429" y="3415"/>
                    </a:cubicBezTo>
                    <a:cubicBezTo>
                      <a:pt x="19614" y="3854"/>
                      <a:pt x="19823" y="4408"/>
                      <a:pt x="20013" y="4938"/>
                    </a:cubicBezTo>
                    <a:cubicBezTo>
                      <a:pt x="20204" y="5469"/>
                      <a:pt x="20426" y="6138"/>
                      <a:pt x="20570" y="6600"/>
                    </a:cubicBezTo>
                    <a:cubicBezTo>
                      <a:pt x="20714" y="7062"/>
                      <a:pt x="20784" y="7408"/>
                      <a:pt x="20876" y="7708"/>
                    </a:cubicBezTo>
                    <a:cubicBezTo>
                      <a:pt x="20969" y="8008"/>
                      <a:pt x="21039" y="8077"/>
                      <a:pt x="21127" y="8400"/>
                    </a:cubicBezTo>
                    <a:cubicBezTo>
                      <a:pt x="21215" y="8723"/>
                      <a:pt x="21326" y="9346"/>
                      <a:pt x="21405" y="9646"/>
                    </a:cubicBezTo>
                    <a:cubicBezTo>
                      <a:pt x="21484" y="9946"/>
                      <a:pt x="21542" y="10073"/>
                      <a:pt x="21600" y="10200"/>
                    </a:cubicBezTo>
                  </a:path>
                </a:pathLst>
              </a:cu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597280" y="4722840"/>
                <a:ext cx="3696840" cy="777960"/>
              </a:xfrm>
              <a:custGeom>
                <a:avLst/>
                <a:gdLst/>
                <a:ahLst/>
                <a:rect l="l" t="t" r="r" b="b"/>
                <a:pathLst>
                  <a:path w="21600" h="21535">
                    <a:moveTo>
                      <a:pt x="0" y="10615"/>
                    </a:moveTo>
                    <a:cubicBezTo>
                      <a:pt x="114" y="11088"/>
                      <a:pt x="223" y="11562"/>
                      <a:pt x="334" y="12000"/>
                    </a:cubicBezTo>
                    <a:cubicBezTo>
                      <a:pt x="445" y="12438"/>
                      <a:pt x="552" y="12854"/>
                      <a:pt x="668" y="13246"/>
                    </a:cubicBezTo>
                    <a:cubicBezTo>
                      <a:pt x="784" y="13638"/>
                      <a:pt x="1030" y="14354"/>
                      <a:pt x="1030" y="14354"/>
                    </a:cubicBezTo>
                    <a:cubicBezTo>
                      <a:pt x="1178" y="14815"/>
                      <a:pt x="1378" y="15508"/>
                      <a:pt x="1559" y="16015"/>
                    </a:cubicBezTo>
                    <a:cubicBezTo>
                      <a:pt x="1740" y="16523"/>
                      <a:pt x="1916" y="16892"/>
                      <a:pt x="2115" y="17400"/>
                    </a:cubicBezTo>
                    <a:cubicBezTo>
                      <a:pt x="2315" y="17908"/>
                      <a:pt x="2533" y="18623"/>
                      <a:pt x="2756" y="19062"/>
                    </a:cubicBezTo>
                    <a:cubicBezTo>
                      <a:pt x="2978" y="19500"/>
                      <a:pt x="3187" y="19685"/>
                      <a:pt x="3452" y="20031"/>
                    </a:cubicBezTo>
                    <a:cubicBezTo>
                      <a:pt x="3716" y="20377"/>
                      <a:pt x="4073" y="20885"/>
                      <a:pt x="4342" y="21138"/>
                    </a:cubicBezTo>
                    <a:cubicBezTo>
                      <a:pt x="4611" y="21392"/>
                      <a:pt x="4820" y="21508"/>
                      <a:pt x="5066" y="21554"/>
                    </a:cubicBezTo>
                    <a:cubicBezTo>
                      <a:pt x="5312" y="21600"/>
                      <a:pt x="5581" y="21508"/>
                      <a:pt x="5818" y="21415"/>
                    </a:cubicBezTo>
                    <a:cubicBezTo>
                      <a:pt x="6054" y="21323"/>
                      <a:pt x="6249" y="21208"/>
                      <a:pt x="6486" y="21000"/>
                    </a:cubicBezTo>
                    <a:cubicBezTo>
                      <a:pt x="6722" y="20792"/>
                      <a:pt x="7014" y="20469"/>
                      <a:pt x="7237" y="20169"/>
                    </a:cubicBezTo>
                    <a:cubicBezTo>
                      <a:pt x="7460" y="19869"/>
                      <a:pt x="7613" y="19569"/>
                      <a:pt x="7822" y="19200"/>
                    </a:cubicBezTo>
                    <a:cubicBezTo>
                      <a:pt x="8030" y="18831"/>
                      <a:pt x="8313" y="18346"/>
                      <a:pt x="8490" y="17954"/>
                    </a:cubicBezTo>
                    <a:cubicBezTo>
                      <a:pt x="8666" y="17562"/>
                      <a:pt x="8717" y="17262"/>
                      <a:pt x="8879" y="16846"/>
                    </a:cubicBezTo>
                    <a:cubicBezTo>
                      <a:pt x="9042" y="16431"/>
                      <a:pt x="9288" y="15969"/>
                      <a:pt x="9464" y="15462"/>
                    </a:cubicBezTo>
                    <a:cubicBezTo>
                      <a:pt x="9640" y="14954"/>
                      <a:pt x="9793" y="14285"/>
                      <a:pt x="9937" y="13800"/>
                    </a:cubicBezTo>
                    <a:cubicBezTo>
                      <a:pt x="10081" y="13315"/>
                      <a:pt x="10327" y="12554"/>
                      <a:pt x="10327" y="12554"/>
                    </a:cubicBezTo>
                    <a:cubicBezTo>
                      <a:pt x="10396" y="12254"/>
                      <a:pt x="10591" y="11354"/>
                      <a:pt x="10744" y="10754"/>
                    </a:cubicBezTo>
                    <a:cubicBezTo>
                      <a:pt x="10897" y="10154"/>
                      <a:pt x="11245" y="8954"/>
                      <a:pt x="11245" y="8954"/>
                    </a:cubicBezTo>
                    <a:cubicBezTo>
                      <a:pt x="11408" y="8377"/>
                      <a:pt x="11565" y="7800"/>
                      <a:pt x="11719" y="7292"/>
                    </a:cubicBezTo>
                    <a:cubicBezTo>
                      <a:pt x="11872" y="6785"/>
                      <a:pt x="11992" y="6392"/>
                      <a:pt x="12164" y="5908"/>
                    </a:cubicBezTo>
                    <a:cubicBezTo>
                      <a:pt x="12336" y="5423"/>
                      <a:pt x="12563" y="4846"/>
                      <a:pt x="12748" y="4385"/>
                    </a:cubicBezTo>
                    <a:cubicBezTo>
                      <a:pt x="12934" y="3923"/>
                      <a:pt x="13092" y="3508"/>
                      <a:pt x="13277" y="3138"/>
                    </a:cubicBezTo>
                    <a:cubicBezTo>
                      <a:pt x="13463" y="2769"/>
                      <a:pt x="13658" y="2492"/>
                      <a:pt x="13862" y="2169"/>
                    </a:cubicBezTo>
                    <a:cubicBezTo>
                      <a:pt x="14066" y="1846"/>
                      <a:pt x="14279" y="1477"/>
                      <a:pt x="14502" y="1200"/>
                    </a:cubicBezTo>
                    <a:cubicBezTo>
                      <a:pt x="14725" y="923"/>
                      <a:pt x="14929" y="692"/>
                      <a:pt x="15198" y="508"/>
                    </a:cubicBezTo>
                    <a:cubicBezTo>
                      <a:pt x="15467" y="323"/>
                      <a:pt x="15829" y="162"/>
                      <a:pt x="16116" y="92"/>
                    </a:cubicBezTo>
                    <a:cubicBezTo>
                      <a:pt x="16404" y="23"/>
                      <a:pt x="16659" y="0"/>
                      <a:pt x="16924" y="92"/>
                    </a:cubicBezTo>
                    <a:cubicBezTo>
                      <a:pt x="17188" y="185"/>
                      <a:pt x="17453" y="392"/>
                      <a:pt x="17703" y="646"/>
                    </a:cubicBezTo>
                    <a:cubicBezTo>
                      <a:pt x="17954" y="900"/>
                      <a:pt x="18227" y="1338"/>
                      <a:pt x="18427" y="1615"/>
                    </a:cubicBezTo>
                    <a:cubicBezTo>
                      <a:pt x="18626" y="1892"/>
                      <a:pt x="18733" y="2008"/>
                      <a:pt x="18900" y="2308"/>
                    </a:cubicBezTo>
                    <a:cubicBezTo>
                      <a:pt x="19067" y="2608"/>
                      <a:pt x="19243" y="2977"/>
                      <a:pt x="19429" y="3415"/>
                    </a:cubicBezTo>
                    <a:cubicBezTo>
                      <a:pt x="19614" y="3854"/>
                      <a:pt x="19823" y="4408"/>
                      <a:pt x="20013" y="4938"/>
                    </a:cubicBezTo>
                    <a:cubicBezTo>
                      <a:pt x="20204" y="5469"/>
                      <a:pt x="20426" y="6138"/>
                      <a:pt x="20570" y="6600"/>
                    </a:cubicBezTo>
                    <a:cubicBezTo>
                      <a:pt x="20714" y="7062"/>
                      <a:pt x="20784" y="7408"/>
                      <a:pt x="20876" y="7708"/>
                    </a:cubicBezTo>
                    <a:cubicBezTo>
                      <a:pt x="20969" y="8008"/>
                      <a:pt x="21039" y="8077"/>
                      <a:pt x="21127" y="8400"/>
                    </a:cubicBezTo>
                    <a:cubicBezTo>
                      <a:pt x="21215" y="8723"/>
                      <a:pt x="21326" y="9346"/>
                      <a:pt x="21405" y="9646"/>
                    </a:cubicBezTo>
                    <a:cubicBezTo>
                      <a:pt x="21484" y="9946"/>
                      <a:pt x="21542" y="10073"/>
                      <a:pt x="21600" y="10200"/>
                    </a:cubicBezTo>
                  </a:path>
                </a:pathLst>
              </a:custGeom>
              <a:noFill/>
              <a:ln w="9360">
                <a:solidFill>
                  <a:srgbClr val="007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4" name=""/>
            <p:cNvSpPr/>
            <p:nvPr/>
          </p:nvSpPr>
          <p:spPr>
            <a:xfrm>
              <a:off x="8740440" y="5259600"/>
              <a:ext cx="195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170600" y="4273560"/>
              <a:ext cx="424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2001a"/>
                  </a:solidFill>
                  <a:latin typeface="Arial"/>
                  <a:ea typeface="Arial"/>
                </a:rPr>
                <a:t>u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417280" y="4707000"/>
              <a:ext cx="34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70c0"/>
                  </a:solidFill>
                  <a:latin typeface="Arial"/>
                  <a:ea typeface="Arial"/>
                </a:rPr>
                <a:t>i(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7" name=""/>
            <p:cNvGrpSpPr/>
            <p:nvPr/>
          </p:nvGrpSpPr>
          <p:grpSpPr>
            <a:xfrm>
              <a:off x="998640" y="4458240"/>
              <a:ext cx="7377840" cy="1310760"/>
              <a:chOff x="998640" y="4458240"/>
              <a:chExt cx="7377840" cy="1310760"/>
            </a:xfrm>
          </p:grpSpPr>
          <p:sp>
            <p:nvSpPr>
              <p:cNvPr id="638" name=""/>
              <p:cNvSpPr/>
              <p:nvPr/>
            </p:nvSpPr>
            <p:spPr>
              <a:xfrm flipH="1" rot="10800000">
                <a:off x="998640" y="4458240"/>
                <a:ext cx="3694320" cy="1255320"/>
              </a:xfrm>
              <a:custGeom>
                <a:avLst/>
                <a:gdLst/>
                <a:ahLst/>
                <a:rect l="l" t="t" r="r" b="b"/>
                <a:pathLst>
                  <a:path w="21600" h="21535">
                    <a:moveTo>
                      <a:pt x="0" y="10615"/>
                    </a:moveTo>
                    <a:cubicBezTo>
                      <a:pt x="114" y="11088"/>
                      <a:pt x="223" y="11562"/>
                      <a:pt x="334" y="12000"/>
                    </a:cubicBezTo>
                    <a:cubicBezTo>
                      <a:pt x="445" y="12438"/>
                      <a:pt x="552" y="12854"/>
                      <a:pt x="668" y="13246"/>
                    </a:cubicBezTo>
                    <a:cubicBezTo>
                      <a:pt x="784" y="13638"/>
                      <a:pt x="1030" y="14354"/>
                      <a:pt x="1030" y="14354"/>
                    </a:cubicBezTo>
                    <a:cubicBezTo>
                      <a:pt x="1178" y="14815"/>
                      <a:pt x="1378" y="15508"/>
                      <a:pt x="1559" y="16015"/>
                    </a:cubicBezTo>
                    <a:cubicBezTo>
                      <a:pt x="1740" y="16523"/>
                      <a:pt x="1916" y="16892"/>
                      <a:pt x="2115" y="17400"/>
                    </a:cubicBezTo>
                    <a:cubicBezTo>
                      <a:pt x="2315" y="17908"/>
                      <a:pt x="2533" y="18623"/>
                      <a:pt x="2756" y="19062"/>
                    </a:cubicBezTo>
                    <a:cubicBezTo>
                      <a:pt x="2978" y="19500"/>
                      <a:pt x="3187" y="19685"/>
                      <a:pt x="3452" y="20031"/>
                    </a:cubicBezTo>
                    <a:cubicBezTo>
                      <a:pt x="3716" y="20377"/>
                      <a:pt x="4073" y="20885"/>
                      <a:pt x="4342" y="21138"/>
                    </a:cubicBezTo>
                    <a:cubicBezTo>
                      <a:pt x="4611" y="21392"/>
                      <a:pt x="4820" y="21508"/>
                      <a:pt x="5066" y="21554"/>
                    </a:cubicBezTo>
                    <a:cubicBezTo>
                      <a:pt x="5312" y="21600"/>
                      <a:pt x="5581" y="21508"/>
                      <a:pt x="5818" y="21415"/>
                    </a:cubicBezTo>
                    <a:cubicBezTo>
                      <a:pt x="6054" y="21323"/>
                      <a:pt x="6249" y="21208"/>
                      <a:pt x="6486" y="21000"/>
                    </a:cubicBezTo>
                    <a:cubicBezTo>
                      <a:pt x="6722" y="20792"/>
                      <a:pt x="7014" y="20469"/>
                      <a:pt x="7237" y="20169"/>
                    </a:cubicBezTo>
                    <a:cubicBezTo>
                      <a:pt x="7460" y="19869"/>
                      <a:pt x="7613" y="19569"/>
                      <a:pt x="7822" y="19200"/>
                    </a:cubicBezTo>
                    <a:cubicBezTo>
                      <a:pt x="8030" y="18831"/>
                      <a:pt x="8313" y="18346"/>
                      <a:pt x="8490" y="17954"/>
                    </a:cubicBezTo>
                    <a:cubicBezTo>
                      <a:pt x="8666" y="17562"/>
                      <a:pt x="8717" y="17262"/>
                      <a:pt x="8879" y="16846"/>
                    </a:cubicBezTo>
                    <a:cubicBezTo>
                      <a:pt x="9042" y="16431"/>
                      <a:pt x="9288" y="15969"/>
                      <a:pt x="9464" y="15462"/>
                    </a:cubicBezTo>
                    <a:cubicBezTo>
                      <a:pt x="9640" y="14954"/>
                      <a:pt x="9793" y="14285"/>
                      <a:pt x="9937" y="13800"/>
                    </a:cubicBezTo>
                    <a:cubicBezTo>
                      <a:pt x="10081" y="13315"/>
                      <a:pt x="10327" y="12554"/>
                      <a:pt x="10327" y="12554"/>
                    </a:cubicBezTo>
                    <a:cubicBezTo>
                      <a:pt x="10396" y="12254"/>
                      <a:pt x="10591" y="11354"/>
                      <a:pt x="10744" y="10754"/>
                    </a:cubicBezTo>
                    <a:cubicBezTo>
                      <a:pt x="10897" y="10154"/>
                      <a:pt x="11245" y="8954"/>
                      <a:pt x="11245" y="8954"/>
                    </a:cubicBezTo>
                    <a:cubicBezTo>
                      <a:pt x="11408" y="8377"/>
                      <a:pt x="11565" y="7800"/>
                      <a:pt x="11719" y="7292"/>
                    </a:cubicBezTo>
                    <a:cubicBezTo>
                      <a:pt x="11872" y="6785"/>
                      <a:pt x="11992" y="6392"/>
                      <a:pt x="12164" y="5908"/>
                    </a:cubicBezTo>
                    <a:cubicBezTo>
                      <a:pt x="12336" y="5423"/>
                      <a:pt x="12563" y="4846"/>
                      <a:pt x="12748" y="4385"/>
                    </a:cubicBezTo>
                    <a:cubicBezTo>
                      <a:pt x="12934" y="3923"/>
                      <a:pt x="13092" y="3508"/>
                      <a:pt x="13277" y="3138"/>
                    </a:cubicBezTo>
                    <a:cubicBezTo>
                      <a:pt x="13463" y="2769"/>
                      <a:pt x="13658" y="2492"/>
                      <a:pt x="13862" y="2169"/>
                    </a:cubicBezTo>
                    <a:cubicBezTo>
                      <a:pt x="14066" y="1846"/>
                      <a:pt x="14279" y="1477"/>
                      <a:pt x="14502" y="1200"/>
                    </a:cubicBezTo>
                    <a:cubicBezTo>
                      <a:pt x="14725" y="923"/>
                      <a:pt x="14929" y="692"/>
                      <a:pt x="15198" y="508"/>
                    </a:cubicBezTo>
                    <a:cubicBezTo>
                      <a:pt x="15467" y="323"/>
                      <a:pt x="15829" y="162"/>
                      <a:pt x="16116" y="92"/>
                    </a:cubicBezTo>
                    <a:cubicBezTo>
                      <a:pt x="16404" y="23"/>
                      <a:pt x="16659" y="0"/>
                      <a:pt x="16924" y="92"/>
                    </a:cubicBezTo>
                    <a:cubicBezTo>
                      <a:pt x="17188" y="185"/>
                      <a:pt x="17453" y="392"/>
                      <a:pt x="17703" y="646"/>
                    </a:cubicBezTo>
                    <a:cubicBezTo>
                      <a:pt x="17954" y="900"/>
                      <a:pt x="18227" y="1338"/>
                      <a:pt x="18427" y="1615"/>
                    </a:cubicBezTo>
                    <a:cubicBezTo>
                      <a:pt x="18626" y="1892"/>
                      <a:pt x="18733" y="2008"/>
                      <a:pt x="18900" y="2308"/>
                    </a:cubicBezTo>
                    <a:cubicBezTo>
                      <a:pt x="19067" y="2608"/>
                      <a:pt x="19243" y="2977"/>
                      <a:pt x="19429" y="3415"/>
                    </a:cubicBezTo>
                    <a:cubicBezTo>
                      <a:pt x="19614" y="3854"/>
                      <a:pt x="19823" y="4408"/>
                      <a:pt x="20013" y="4938"/>
                    </a:cubicBezTo>
                    <a:cubicBezTo>
                      <a:pt x="20204" y="5469"/>
                      <a:pt x="20426" y="6138"/>
                      <a:pt x="20570" y="6600"/>
                    </a:cubicBezTo>
                    <a:cubicBezTo>
                      <a:pt x="20714" y="7062"/>
                      <a:pt x="20784" y="7408"/>
                      <a:pt x="20876" y="7708"/>
                    </a:cubicBezTo>
                    <a:cubicBezTo>
                      <a:pt x="20969" y="8008"/>
                      <a:pt x="21039" y="8077"/>
                      <a:pt x="21127" y="8400"/>
                    </a:cubicBezTo>
                    <a:cubicBezTo>
                      <a:pt x="21215" y="8723"/>
                      <a:pt x="21326" y="9346"/>
                      <a:pt x="21405" y="9646"/>
                    </a:cubicBezTo>
                    <a:cubicBezTo>
                      <a:pt x="21484" y="9946"/>
                      <a:pt x="21542" y="10073"/>
                      <a:pt x="21600" y="10200"/>
                    </a:cubicBezTo>
                  </a:path>
                </a:pathLst>
              </a:custGeom>
              <a:noFill/>
              <a:ln w="28440">
                <a:solidFill>
                  <a:srgbClr val="e2001a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flipH="1" rot="10800000">
                <a:off x="4680000" y="4515480"/>
                <a:ext cx="3696120" cy="1253520"/>
              </a:xfrm>
              <a:custGeom>
                <a:avLst/>
                <a:gdLst/>
                <a:ahLst/>
                <a:rect l="l" t="t" r="r" b="b"/>
                <a:pathLst>
                  <a:path w="21600" h="21535">
                    <a:moveTo>
                      <a:pt x="0" y="10615"/>
                    </a:moveTo>
                    <a:cubicBezTo>
                      <a:pt x="114" y="11088"/>
                      <a:pt x="223" y="11562"/>
                      <a:pt x="334" y="12000"/>
                    </a:cubicBezTo>
                    <a:cubicBezTo>
                      <a:pt x="445" y="12438"/>
                      <a:pt x="552" y="12854"/>
                      <a:pt x="668" y="13246"/>
                    </a:cubicBezTo>
                    <a:cubicBezTo>
                      <a:pt x="784" y="13638"/>
                      <a:pt x="1030" y="14354"/>
                      <a:pt x="1030" y="14354"/>
                    </a:cubicBezTo>
                    <a:cubicBezTo>
                      <a:pt x="1178" y="14815"/>
                      <a:pt x="1378" y="15508"/>
                      <a:pt x="1559" y="16015"/>
                    </a:cubicBezTo>
                    <a:cubicBezTo>
                      <a:pt x="1740" y="16523"/>
                      <a:pt x="1916" y="16892"/>
                      <a:pt x="2115" y="17400"/>
                    </a:cubicBezTo>
                    <a:cubicBezTo>
                      <a:pt x="2315" y="17908"/>
                      <a:pt x="2533" y="18623"/>
                      <a:pt x="2756" y="19062"/>
                    </a:cubicBezTo>
                    <a:cubicBezTo>
                      <a:pt x="2978" y="19500"/>
                      <a:pt x="3187" y="19685"/>
                      <a:pt x="3452" y="20031"/>
                    </a:cubicBezTo>
                    <a:cubicBezTo>
                      <a:pt x="3716" y="20377"/>
                      <a:pt x="4073" y="20885"/>
                      <a:pt x="4342" y="21138"/>
                    </a:cubicBezTo>
                    <a:cubicBezTo>
                      <a:pt x="4611" y="21392"/>
                      <a:pt x="4820" y="21508"/>
                      <a:pt x="5066" y="21554"/>
                    </a:cubicBezTo>
                    <a:cubicBezTo>
                      <a:pt x="5312" y="21600"/>
                      <a:pt x="5581" y="21508"/>
                      <a:pt x="5818" y="21415"/>
                    </a:cubicBezTo>
                    <a:cubicBezTo>
                      <a:pt x="6054" y="21323"/>
                      <a:pt x="6249" y="21208"/>
                      <a:pt x="6486" y="21000"/>
                    </a:cubicBezTo>
                    <a:cubicBezTo>
                      <a:pt x="6722" y="20792"/>
                      <a:pt x="7014" y="20469"/>
                      <a:pt x="7237" y="20169"/>
                    </a:cubicBezTo>
                    <a:cubicBezTo>
                      <a:pt x="7460" y="19869"/>
                      <a:pt x="7613" y="19569"/>
                      <a:pt x="7822" y="19200"/>
                    </a:cubicBezTo>
                    <a:cubicBezTo>
                      <a:pt x="8030" y="18831"/>
                      <a:pt x="8313" y="18346"/>
                      <a:pt x="8490" y="17954"/>
                    </a:cubicBezTo>
                    <a:cubicBezTo>
                      <a:pt x="8666" y="17562"/>
                      <a:pt x="8717" y="17262"/>
                      <a:pt x="8879" y="16846"/>
                    </a:cubicBezTo>
                    <a:cubicBezTo>
                      <a:pt x="9042" y="16431"/>
                      <a:pt x="9288" y="15969"/>
                      <a:pt x="9464" y="15462"/>
                    </a:cubicBezTo>
                    <a:cubicBezTo>
                      <a:pt x="9640" y="14954"/>
                      <a:pt x="9793" y="14285"/>
                      <a:pt x="9937" y="13800"/>
                    </a:cubicBezTo>
                    <a:cubicBezTo>
                      <a:pt x="10081" y="13315"/>
                      <a:pt x="10327" y="12554"/>
                      <a:pt x="10327" y="12554"/>
                    </a:cubicBezTo>
                    <a:cubicBezTo>
                      <a:pt x="10396" y="12254"/>
                      <a:pt x="10591" y="11354"/>
                      <a:pt x="10744" y="10754"/>
                    </a:cubicBezTo>
                    <a:cubicBezTo>
                      <a:pt x="10897" y="10154"/>
                      <a:pt x="11245" y="8954"/>
                      <a:pt x="11245" y="8954"/>
                    </a:cubicBezTo>
                    <a:cubicBezTo>
                      <a:pt x="11408" y="8377"/>
                      <a:pt x="11565" y="7800"/>
                      <a:pt x="11719" y="7292"/>
                    </a:cubicBezTo>
                    <a:cubicBezTo>
                      <a:pt x="11872" y="6785"/>
                      <a:pt x="11992" y="6392"/>
                      <a:pt x="12164" y="5908"/>
                    </a:cubicBezTo>
                    <a:cubicBezTo>
                      <a:pt x="12336" y="5423"/>
                      <a:pt x="12563" y="4846"/>
                      <a:pt x="12748" y="4385"/>
                    </a:cubicBezTo>
                    <a:cubicBezTo>
                      <a:pt x="12934" y="3923"/>
                      <a:pt x="13092" y="3508"/>
                      <a:pt x="13277" y="3138"/>
                    </a:cubicBezTo>
                    <a:cubicBezTo>
                      <a:pt x="13463" y="2769"/>
                      <a:pt x="13658" y="2492"/>
                      <a:pt x="13862" y="2169"/>
                    </a:cubicBezTo>
                    <a:cubicBezTo>
                      <a:pt x="14066" y="1846"/>
                      <a:pt x="14279" y="1477"/>
                      <a:pt x="14502" y="1200"/>
                    </a:cubicBezTo>
                    <a:cubicBezTo>
                      <a:pt x="14725" y="923"/>
                      <a:pt x="14929" y="692"/>
                      <a:pt x="15198" y="508"/>
                    </a:cubicBezTo>
                    <a:cubicBezTo>
                      <a:pt x="15467" y="323"/>
                      <a:pt x="15829" y="162"/>
                      <a:pt x="16116" y="92"/>
                    </a:cubicBezTo>
                    <a:cubicBezTo>
                      <a:pt x="16404" y="23"/>
                      <a:pt x="16659" y="0"/>
                      <a:pt x="16924" y="92"/>
                    </a:cubicBezTo>
                    <a:cubicBezTo>
                      <a:pt x="17188" y="185"/>
                      <a:pt x="17453" y="392"/>
                      <a:pt x="17703" y="646"/>
                    </a:cubicBezTo>
                    <a:cubicBezTo>
                      <a:pt x="17954" y="900"/>
                      <a:pt x="18227" y="1338"/>
                      <a:pt x="18427" y="1615"/>
                    </a:cubicBezTo>
                    <a:cubicBezTo>
                      <a:pt x="18626" y="1892"/>
                      <a:pt x="18733" y="2008"/>
                      <a:pt x="18900" y="2308"/>
                    </a:cubicBezTo>
                    <a:cubicBezTo>
                      <a:pt x="19067" y="2608"/>
                      <a:pt x="19243" y="2977"/>
                      <a:pt x="19429" y="3415"/>
                    </a:cubicBezTo>
                    <a:cubicBezTo>
                      <a:pt x="19614" y="3854"/>
                      <a:pt x="19823" y="4408"/>
                      <a:pt x="20013" y="4938"/>
                    </a:cubicBezTo>
                    <a:cubicBezTo>
                      <a:pt x="20204" y="5469"/>
                      <a:pt x="20426" y="6138"/>
                      <a:pt x="20570" y="6600"/>
                    </a:cubicBezTo>
                    <a:cubicBezTo>
                      <a:pt x="20714" y="7062"/>
                      <a:pt x="20784" y="7408"/>
                      <a:pt x="20876" y="7708"/>
                    </a:cubicBezTo>
                    <a:cubicBezTo>
                      <a:pt x="20969" y="8008"/>
                      <a:pt x="21039" y="8077"/>
                      <a:pt x="21127" y="8400"/>
                    </a:cubicBezTo>
                    <a:cubicBezTo>
                      <a:pt x="21215" y="8723"/>
                      <a:pt x="21326" y="9346"/>
                      <a:pt x="21405" y="9646"/>
                    </a:cubicBezTo>
                    <a:cubicBezTo>
                      <a:pt x="21484" y="9946"/>
                      <a:pt x="21542" y="10073"/>
                      <a:pt x="21600" y="10200"/>
                    </a:cubicBezTo>
                  </a:path>
                </a:pathLst>
              </a:custGeom>
              <a:noFill/>
              <a:ln w="28440">
                <a:solidFill>
                  <a:srgbClr val="e2001a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" name=""/>
            <p:cNvGrpSpPr/>
            <p:nvPr/>
          </p:nvGrpSpPr>
          <p:grpSpPr>
            <a:xfrm>
              <a:off x="1908360" y="4724640"/>
              <a:ext cx="7379280" cy="812160"/>
              <a:chOff x="1908360" y="4724640"/>
              <a:chExt cx="7379280" cy="812160"/>
            </a:xfrm>
          </p:grpSpPr>
          <p:sp>
            <p:nvSpPr>
              <p:cNvPr id="641" name=""/>
              <p:cNvSpPr/>
              <p:nvPr/>
            </p:nvSpPr>
            <p:spPr>
              <a:xfrm flipH="1" rot="10800000">
                <a:off x="1908360" y="4724640"/>
                <a:ext cx="3695040" cy="779040"/>
              </a:xfrm>
              <a:custGeom>
                <a:avLst/>
                <a:gdLst/>
                <a:ahLst/>
                <a:rect l="l" t="t" r="r" b="b"/>
                <a:pathLst>
                  <a:path w="21600" h="21535">
                    <a:moveTo>
                      <a:pt x="0" y="10615"/>
                    </a:moveTo>
                    <a:cubicBezTo>
                      <a:pt x="114" y="11088"/>
                      <a:pt x="223" y="11562"/>
                      <a:pt x="334" y="12000"/>
                    </a:cubicBezTo>
                    <a:cubicBezTo>
                      <a:pt x="445" y="12438"/>
                      <a:pt x="552" y="12854"/>
                      <a:pt x="668" y="13246"/>
                    </a:cubicBezTo>
                    <a:cubicBezTo>
                      <a:pt x="784" y="13638"/>
                      <a:pt x="1030" y="14354"/>
                      <a:pt x="1030" y="14354"/>
                    </a:cubicBezTo>
                    <a:cubicBezTo>
                      <a:pt x="1178" y="14815"/>
                      <a:pt x="1378" y="15508"/>
                      <a:pt x="1559" y="16015"/>
                    </a:cubicBezTo>
                    <a:cubicBezTo>
                      <a:pt x="1740" y="16523"/>
                      <a:pt x="1916" y="16892"/>
                      <a:pt x="2115" y="17400"/>
                    </a:cubicBezTo>
                    <a:cubicBezTo>
                      <a:pt x="2315" y="17908"/>
                      <a:pt x="2533" y="18623"/>
                      <a:pt x="2756" y="19062"/>
                    </a:cubicBezTo>
                    <a:cubicBezTo>
                      <a:pt x="2978" y="19500"/>
                      <a:pt x="3187" y="19685"/>
                      <a:pt x="3452" y="20031"/>
                    </a:cubicBezTo>
                    <a:cubicBezTo>
                      <a:pt x="3716" y="20377"/>
                      <a:pt x="4073" y="20885"/>
                      <a:pt x="4342" y="21138"/>
                    </a:cubicBezTo>
                    <a:cubicBezTo>
                      <a:pt x="4611" y="21392"/>
                      <a:pt x="4820" y="21508"/>
                      <a:pt x="5066" y="21554"/>
                    </a:cubicBezTo>
                    <a:cubicBezTo>
                      <a:pt x="5312" y="21600"/>
                      <a:pt x="5581" y="21508"/>
                      <a:pt x="5818" y="21415"/>
                    </a:cubicBezTo>
                    <a:cubicBezTo>
                      <a:pt x="6054" y="21323"/>
                      <a:pt x="6249" y="21208"/>
                      <a:pt x="6486" y="21000"/>
                    </a:cubicBezTo>
                    <a:cubicBezTo>
                      <a:pt x="6722" y="20792"/>
                      <a:pt x="7014" y="20469"/>
                      <a:pt x="7237" y="20169"/>
                    </a:cubicBezTo>
                    <a:cubicBezTo>
                      <a:pt x="7460" y="19869"/>
                      <a:pt x="7613" y="19569"/>
                      <a:pt x="7822" y="19200"/>
                    </a:cubicBezTo>
                    <a:cubicBezTo>
                      <a:pt x="8030" y="18831"/>
                      <a:pt x="8313" y="18346"/>
                      <a:pt x="8490" y="17954"/>
                    </a:cubicBezTo>
                    <a:cubicBezTo>
                      <a:pt x="8666" y="17562"/>
                      <a:pt x="8717" y="17262"/>
                      <a:pt x="8879" y="16846"/>
                    </a:cubicBezTo>
                    <a:cubicBezTo>
                      <a:pt x="9042" y="16431"/>
                      <a:pt x="9288" y="15969"/>
                      <a:pt x="9464" y="15462"/>
                    </a:cubicBezTo>
                    <a:cubicBezTo>
                      <a:pt x="9640" y="14954"/>
                      <a:pt x="9793" y="14285"/>
                      <a:pt x="9937" y="13800"/>
                    </a:cubicBezTo>
                    <a:cubicBezTo>
                      <a:pt x="10081" y="13315"/>
                      <a:pt x="10327" y="12554"/>
                      <a:pt x="10327" y="12554"/>
                    </a:cubicBezTo>
                    <a:cubicBezTo>
                      <a:pt x="10396" y="12254"/>
                      <a:pt x="10591" y="11354"/>
                      <a:pt x="10744" y="10754"/>
                    </a:cubicBezTo>
                    <a:cubicBezTo>
                      <a:pt x="10897" y="10154"/>
                      <a:pt x="11245" y="8954"/>
                      <a:pt x="11245" y="8954"/>
                    </a:cubicBezTo>
                    <a:cubicBezTo>
                      <a:pt x="11408" y="8377"/>
                      <a:pt x="11565" y="7800"/>
                      <a:pt x="11719" y="7292"/>
                    </a:cubicBezTo>
                    <a:cubicBezTo>
                      <a:pt x="11872" y="6785"/>
                      <a:pt x="11992" y="6392"/>
                      <a:pt x="12164" y="5908"/>
                    </a:cubicBezTo>
                    <a:cubicBezTo>
                      <a:pt x="12336" y="5423"/>
                      <a:pt x="12563" y="4846"/>
                      <a:pt x="12748" y="4385"/>
                    </a:cubicBezTo>
                    <a:cubicBezTo>
                      <a:pt x="12934" y="3923"/>
                      <a:pt x="13092" y="3508"/>
                      <a:pt x="13277" y="3138"/>
                    </a:cubicBezTo>
                    <a:cubicBezTo>
                      <a:pt x="13463" y="2769"/>
                      <a:pt x="13658" y="2492"/>
                      <a:pt x="13862" y="2169"/>
                    </a:cubicBezTo>
                    <a:cubicBezTo>
                      <a:pt x="14066" y="1846"/>
                      <a:pt x="14279" y="1477"/>
                      <a:pt x="14502" y="1200"/>
                    </a:cubicBezTo>
                    <a:cubicBezTo>
                      <a:pt x="14725" y="923"/>
                      <a:pt x="14929" y="692"/>
                      <a:pt x="15198" y="508"/>
                    </a:cubicBezTo>
                    <a:cubicBezTo>
                      <a:pt x="15467" y="323"/>
                      <a:pt x="15829" y="162"/>
                      <a:pt x="16116" y="92"/>
                    </a:cubicBezTo>
                    <a:cubicBezTo>
                      <a:pt x="16404" y="23"/>
                      <a:pt x="16659" y="0"/>
                      <a:pt x="16924" y="92"/>
                    </a:cubicBezTo>
                    <a:cubicBezTo>
                      <a:pt x="17188" y="185"/>
                      <a:pt x="17453" y="392"/>
                      <a:pt x="17703" y="646"/>
                    </a:cubicBezTo>
                    <a:cubicBezTo>
                      <a:pt x="17954" y="900"/>
                      <a:pt x="18227" y="1338"/>
                      <a:pt x="18427" y="1615"/>
                    </a:cubicBezTo>
                    <a:cubicBezTo>
                      <a:pt x="18626" y="1892"/>
                      <a:pt x="18733" y="2008"/>
                      <a:pt x="18900" y="2308"/>
                    </a:cubicBezTo>
                    <a:cubicBezTo>
                      <a:pt x="19067" y="2608"/>
                      <a:pt x="19243" y="2977"/>
                      <a:pt x="19429" y="3415"/>
                    </a:cubicBezTo>
                    <a:cubicBezTo>
                      <a:pt x="19614" y="3854"/>
                      <a:pt x="19823" y="4408"/>
                      <a:pt x="20013" y="4938"/>
                    </a:cubicBezTo>
                    <a:cubicBezTo>
                      <a:pt x="20204" y="5469"/>
                      <a:pt x="20426" y="6138"/>
                      <a:pt x="20570" y="6600"/>
                    </a:cubicBezTo>
                    <a:cubicBezTo>
                      <a:pt x="20714" y="7062"/>
                      <a:pt x="20784" y="7408"/>
                      <a:pt x="20876" y="7708"/>
                    </a:cubicBezTo>
                    <a:cubicBezTo>
                      <a:pt x="20969" y="8008"/>
                      <a:pt x="21039" y="8077"/>
                      <a:pt x="21127" y="8400"/>
                    </a:cubicBezTo>
                    <a:cubicBezTo>
                      <a:pt x="21215" y="8723"/>
                      <a:pt x="21326" y="9346"/>
                      <a:pt x="21405" y="9646"/>
                    </a:cubicBezTo>
                    <a:cubicBezTo>
                      <a:pt x="21484" y="9946"/>
                      <a:pt x="21542" y="10073"/>
                      <a:pt x="21600" y="10200"/>
                    </a:cubicBezTo>
                  </a:path>
                </a:pathLst>
              </a:custGeom>
              <a:noFill/>
              <a:ln w="9360">
                <a:solidFill>
                  <a:srgbClr val="0070c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flipH="1" rot="10800000">
                <a:off x="5590440" y="4759200"/>
                <a:ext cx="3696840" cy="777600"/>
              </a:xfrm>
              <a:custGeom>
                <a:avLst/>
                <a:gdLst/>
                <a:ahLst/>
                <a:rect l="l" t="t" r="r" b="b"/>
                <a:pathLst>
                  <a:path w="21600" h="21535">
                    <a:moveTo>
                      <a:pt x="0" y="10615"/>
                    </a:moveTo>
                    <a:cubicBezTo>
                      <a:pt x="114" y="11088"/>
                      <a:pt x="223" y="11562"/>
                      <a:pt x="334" y="12000"/>
                    </a:cubicBezTo>
                    <a:cubicBezTo>
                      <a:pt x="445" y="12438"/>
                      <a:pt x="552" y="12854"/>
                      <a:pt x="668" y="13246"/>
                    </a:cubicBezTo>
                    <a:cubicBezTo>
                      <a:pt x="784" y="13638"/>
                      <a:pt x="1030" y="14354"/>
                      <a:pt x="1030" y="14354"/>
                    </a:cubicBezTo>
                    <a:cubicBezTo>
                      <a:pt x="1178" y="14815"/>
                      <a:pt x="1378" y="15508"/>
                      <a:pt x="1559" y="16015"/>
                    </a:cubicBezTo>
                    <a:cubicBezTo>
                      <a:pt x="1740" y="16523"/>
                      <a:pt x="1916" y="16892"/>
                      <a:pt x="2115" y="17400"/>
                    </a:cubicBezTo>
                    <a:cubicBezTo>
                      <a:pt x="2315" y="17908"/>
                      <a:pt x="2533" y="18623"/>
                      <a:pt x="2756" y="19062"/>
                    </a:cubicBezTo>
                    <a:cubicBezTo>
                      <a:pt x="2978" y="19500"/>
                      <a:pt x="3187" y="19685"/>
                      <a:pt x="3452" y="20031"/>
                    </a:cubicBezTo>
                    <a:cubicBezTo>
                      <a:pt x="3716" y="20377"/>
                      <a:pt x="4073" y="20885"/>
                      <a:pt x="4342" y="21138"/>
                    </a:cubicBezTo>
                    <a:cubicBezTo>
                      <a:pt x="4611" y="21392"/>
                      <a:pt x="4820" y="21508"/>
                      <a:pt x="5066" y="21554"/>
                    </a:cubicBezTo>
                    <a:cubicBezTo>
                      <a:pt x="5312" y="21600"/>
                      <a:pt x="5581" y="21508"/>
                      <a:pt x="5818" y="21415"/>
                    </a:cubicBezTo>
                    <a:cubicBezTo>
                      <a:pt x="6054" y="21323"/>
                      <a:pt x="6249" y="21208"/>
                      <a:pt x="6486" y="21000"/>
                    </a:cubicBezTo>
                    <a:cubicBezTo>
                      <a:pt x="6722" y="20792"/>
                      <a:pt x="7014" y="20469"/>
                      <a:pt x="7237" y="20169"/>
                    </a:cubicBezTo>
                    <a:cubicBezTo>
                      <a:pt x="7460" y="19869"/>
                      <a:pt x="7613" y="19569"/>
                      <a:pt x="7822" y="19200"/>
                    </a:cubicBezTo>
                    <a:cubicBezTo>
                      <a:pt x="8030" y="18831"/>
                      <a:pt x="8313" y="18346"/>
                      <a:pt x="8490" y="17954"/>
                    </a:cubicBezTo>
                    <a:cubicBezTo>
                      <a:pt x="8666" y="17562"/>
                      <a:pt x="8717" y="17262"/>
                      <a:pt x="8879" y="16846"/>
                    </a:cubicBezTo>
                    <a:cubicBezTo>
                      <a:pt x="9042" y="16431"/>
                      <a:pt x="9288" y="15969"/>
                      <a:pt x="9464" y="15462"/>
                    </a:cubicBezTo>
                    <a:cubicBezTo>
                      <a:pt x="9640" y="14954"/>
                      <a:pt x="9793" y="14285"/>
                      <a:pt x="9937" y="13800"/>
                    </a:cubicBezTo>
                    <a:cubicBezTo>
                      <a:pt x="10081" y="13315"/>
                      <a:pt x="10327" y="12554"/>
                      <a:pt x="10327" y="12554"/>
                    </a:cubicBezTo>
                    <a:cubicBezTo>
                      <a:pt x="10396" y="12254"/>
                      <a:pt x="10591" y="11354"/>
                      <a:pt x="10744" y="10754"/>
                    </a:cubicBezTo>
                    <a:cubicBezTo>
                      <a:pt x="10897" y="10154"/>
                      <a:pt x="11245" y="8954"/>
                      <a:pt x="11245" y="8954"/>
                    </a:cubicBezTo>
                    <a:cubicBezTo>
                      <a:pt x="11408" y="8377"/>
                      <a:pt x="11565" y="7800"/>
                      <a:pt x="11719" y="7292"/>
                    </a:cubicBezTo>
                    <a:cubicBezTo>
                      <a:pt x="11872" y="6785"/>
                      <a:pt x="11992" y="6392"/>
                      <a:pt x="12164" y="5908"/>
                    </a:cubicBezTo>
                    <a:cubicBezTo>
                      <a:pt x="12336" y="5423"/>
                      <a:pt x="12563" y="4846"/>
                      <a:pt x="12748" y="4385"/>
                    </a:cubicBezTo>
                    <a:cubicBezTo>
                      <a:pt x="12934" y="3923"/>
                      <a:pt x="13092" y="3508"/>
                      <a:pt x="13277" y="3138"/>
                    </a:cubicBezTo>
                    <a:cubicBezTo>
                      <a:pt x="13463" y="2769"/>
                      <a:pt x="13658" y="2492"/>
                      <a:pt x="13862" y="2169"/>
                    </a:cubicBezTo>
                    <a:cubicBezTo>
                      <a:pt x="14066" y="1846"/>
                      <a:pt x="14279" y="1477"/>
                      <a:pt x="14502" y="1200"/>
                    </a:cubicBezTo>
                    <a:cubicBezTo>
                      <a:pt x="14725" y="923"/>
                      <a:pt x="14929" y="692"/>
                      <a:pt x="15198" y="508"/>
                    </a:cubicBezTo>
                    <a:cubicBezTo>
                      <a:pt x="15467" y="323"/>
                      <a:pt x="15829" y="162"/>
                      <a:pt x="16116" y="92"/>
                    </a:cubicBezTo>
                    <a:cubicBezTo>
                      <a:pt x="16404" y="23"/>
                      <a:pt x="16659" y="0"/>
                      <a:pt x="16924" y="92"/>
                    </a:cubicBezTo>
                    <a:cubicBezTo>
                      <a:pt x="17188" y="185"/>
                      <a:pt x="17453" y="392"/>
                      <a:pt x="17703" y="646"/>
                    </a:cubicBezTo>
                    <a:cubicBezTo>
                      <a:pt x="17954" y="900"/>
                      <a:pt x="18227" y="1338"/>
                      <a:pt x="18427" y="1615"/>
                    </a:cubicBezTo>
                    <a:cubicBezTo>
                      <a:pt x="18626" y="1892"/>
                      <a:pt x="18733" y="2008"/>
                      <a:pt x="18900" y="2308"/>
                    </a:cubicBezTo>
                    <a:cubicBezTo>
                      <a:pt x="19067" y="2608"/>
                      <a:pt x="19243" y="2977"/>
                      <a:pt x="19429" y="3415"/>
                    </a:cubicBezTo>
                    <a:cubicBezTo>
                      <a:pt x="19614" y="3854"/>
                      <a:pt x="19823" y="4408"/>
                      <a:pt x="20013" y="4938"/>
                    </a:cubicBezTo>
                    <a:cubicBezTo>
                      <a:pt x="20204" y="5469"/>
                      <a:pt x="20426" y="6138"/>
                      <a:pt x="20570" y="6600"/>
                    </a:cubicBezTo>
                    <a:cubicBezTo>
                      <a:pt x="20714" y="7062"/>
                      <a:pt x="20784" y="7408"/>
                      <a:pt x="20876" y="7708"/>
                    </a:cubicBezTo>
                    <a:cubicBezTo>
                      <a:pt x="20969" y="8008"/>
                      <a:pt x="21039" y="8077"/>
                      <a:pt x="21127" y="8400"/>
                    </a:cubicBezTo>
                    <a:cubicBezTo>
                      <a:pt x="21215" y="8723"/>
                      <a:pt x="21326" y="9346"/>
                      <a:pt x="21405" y="9646"/>
                    </a:cubicBezTo>
                    <a:cubicBezTo>
                      <a:pt x="21484" y="9946"/>
                      <a:pt x="21542" y="10073"/>
                      <a:pt x="21600" y="10200"/>
                    </a:cubicBezTo>
                  </a:path>
                </a:pathLst>
              </a:custGeom>
              <a:noFill/>
              <a:ln w="9360">
                <a:solidFill>
                  <a:srgbClr val="0070c0"/>
                </a:solidFill>
                <a:prstDash val="lg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3" name=""/>
            <p:cNvSpPr/>
            <p:nvPr/>
          </p:nvSpPr>
          <p:spPr>
            <a:xfrm>
              <a:off x="8405280" y="4515120"/>
              <a:ext cx="1800" cy="1496880"/>
            </a:xfrm>
            <a:prstGeom prst="line">
              <a:avLst/>
            </a:prstGeom>
            <a:ln w="9360">
              <a:solidFill>
                <a:srgbClr val="e200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440120" y="4168800"/>
              <a:ext cx="1800" cy="1843200"/>
            </a:xfrm>
            <a:prstGeom prst="line">
              <a:avLst/>
            </a:prstGeom>
            <a:ln w="936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893720" y="4145040"/>
              <a:ext cx="131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2001a"/>
                  </a:solidFill>
                  <a:latin typeface="Arial"/>
                  <a:ea typeface="Arial"/>
                </a:rPr>
                <a:t>Kurzschlu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913440" y="3776760"/>
              <a:ext cx="90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70c0"/>
                  </a:solidFill>
                  <a:latin typeface="Arial"/>
                  <a:ea typeface="Arial"/>
                </a:rPr>
                <a:t>Leerlau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A5A60-40AE-49E9-A7D1-B5B3D9ABAFF1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6413400" y="287280"/>
            <a:ext cx="2954520" cy="46836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6542280" y="6388200"/>
            <a:ext cx="271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Semester, Nachrichtentechnik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854640" y="6388200"/>
            <a:ext cx="293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llen und Leitungen, Übersicht, S. Ru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762120" y="330120"/>
            <a:ext cx="8534160" cy="4701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2001a"/>
                </a:solidFill>
                <a:latin typeface="Arial"/>
              </a:rPr>
              <a:t>Wellenwiderstand</a:t>
            </a:r>
            <a:endParaRPr b="0" lang="en-US" sz="2400" spc="-1" strike="noStrike">
              <a:solidFill>
                <a:srgbClr val="e2001a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876240" y="960480"/>
            <a:ext cx="446076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43080" indent="-343080">
              <a:lnSpc>
                <a:spcPct val="150000"/>
              </a:lnSpc>
              <a:spcBef>
                <a:spcPts val="737"/>
              </a:spcBef>
              <a:buClr>
                <a:srgbClr val="5c69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6971"/>
                </a:solidFill>
                <a:latin typeface="Arial"/>
                <a:ea typeface="Arial"/>
              </a:rPr>
              <a:t>Leitungsanfa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37"/>
              </a:spcBef>
              <a:buClr>
                <a:srgbClr val="5c69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37"/>
              </a:spcBef>
              <a:buClr>
                <a:srgbClr val="5c69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6971"/>
                </a:solidFill>
                <a:latin typeface="Arial"/>
                <a:ea typeface="Arial"/>
              </a:rPr>
              <a:t>Einlaufende Welle nimmt R</a:t>
            </a:r>
            <a:r>
              <a:rPr b="0" lang="en-US" sz="2000" spc="-1" strike="noStrike" baseline="-25000">
                <a:solidFill>
                  <a:srgbClr val="5c6971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>
                <a:solidFill>
                  <a:srgbClr val="5c6971"/>
                </a:solidFill>
                <a:latin typeface="Arial"/>
                <a:ea typeface="Arial"/>
              </a:rPr>
              <a:t> wa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6971"/>
                </a:solidFill>
                <a:latin typeface="Arial"/>
                <a:ea typeface="Arial"/>
              </a:rPr>
              <a:t>(für eine hinreichend lange Leitu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2440800" y="2708280"/>
            <a:ext cx="2714760" cy="1440"/>
          </a:xfrm>
          <a:prstGeom prst="line">
            <a:avLst/>
          </a:prstGeom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 flipV="1">
            <a:off x="2401920" y="1850760"/>
            <a:ext cx="2719440" cy="3240"/>
          </a:xfrm>
          <a:prstGeom prst="line">
            <a:avLst/>
          </a:prstGeom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555640" y="2303640"/>
            <a:ext cx="3463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 Bold"/>
                <a:ea typeface="Arial Bold"/>
              </a:rPr>
              <a:t>R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Arial Bold"/>
                <a:ea typeface="Arial Bold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5" name=""/>
          <p:cNvGrpSpPr/>
          <p:nvPr/>
        </p:nvGrpSpPr>
        <p:grpSpPr>
          <a:xfrm>
            <a:off x="897120" y="1662120"/>
            <a:ext cx="1599840" cy="1111320"/>
            <a:chOff x="897120" y="1662120"/>
            <a:chExt cx="1599840" cy="1111320"/>
          </a:xfrm>
        </p:grpSpPr>
        <p:sp>
          <p:nvSpPr>
            <p:cNvPr id="656" name=""/>
            <p:cNvSpPr/>
            <p:nvPr/>
          </p:nvSpPr>
          <p:spPr>
            <a:xfrm>
              <a:off x="1439640" y="1852560"/>
              <a:ext cx="12600" cy="854280"/>
            </a:xfrm>
            <a:prstGeom prst="line">
              <a:avLst/>
            </a:prstGeom>
            <a:ln w="1908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252440" y="2058840"/>
              <a:ext cx="374760" cy="3844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V="1">
              <a:off x="1439640" y="1852560"/>
              <a:ext cx="998640" cy="7920"/>
            </a:xfrm>
            <a:prstGeom prst="line">
              <a:avLst/>
            </a:prstGeom>
            <a:ln w="1908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382840" y="1789200"/>
              <a:ext cx="114120" cy="1141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330200" y="2058840"/>
              <a:ext cx="21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1" name=""/>
            <p:cNvGrpSpPr/>
            <p:nvPr/>
          </p:nvGrpSpPr>
          <p:grpSpPr>
            <a:xfrm>
              <a:off x="1687320" y="1662120"/>
              <a:ext cx="504360" cy="339840"/>
              <a:chOff x="1687320" y="1662120"/>
              <a:chExt cx="504360" cy="339840"/>
            </a:xfrm>
          </p:grpSpPr>
          <p:sp>
            <p:nvSpPr>
              <p:cNvPr id="662" name=""/>
              <p:cNvSpPr/>
              <p:nvPr/>
            </p:nvSpPr>
            <p:spPr>
              <a:xfrm>
                <a:off x="1687320" y="1706400"/>
                <a:ext cx="504360" cy="295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1743120" y="1662120"/>
                <a:ext cx="274320" cy="31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40680" tIns="0" bIns="0" anchor="t">
                <a:spAutoFit/>
              </a:bodyPr>
              <a:p>
                <a:pPr marL="39600">
                  <a:lnSpc>
                    <a:spcPct val="100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4" name=""/>
            <p:cNvSpPr/>
            <p:nvPr/>
          </p:nvSpPr>
          <p:spPr>
            <a:xfrm>
              <a:off x="897120" y="2030400"/>
              <a:ext cx="280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1454040" y="2714760"/>
              <a:ext cx="1001520" cy="7920"/>
            </a:xfrm>
            <a:prstGeom prst="line">
              <a:avLst/>
            </a:prstGeom>
            <a:ln w="1908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382840" y="2657520"/>
              <a:ext cx="114120" cy="115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7" name=""/>
          <p:cNvSpPr/>
          <p:nvPr/>
        </p:nvSpPr>
        <p:spPr>
          <a:xfrm>
            <a:off x="2419200" y="2060640"/>
            <a:ext cx="1800" cy="45864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513160" y="1644480"/>
            <a:ext cx="314280" cy="18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046600" y="2119320"/>
            <a:ext cx="28044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2282040" y="1419120"/>
            <a:ext cx="20448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937080" y="4309920"/>
            <a:ext cx="2594880" cy="1303200"/>
            <a:chOff x="937080" y="4309920"/>
            <a:chExt cx="2594880" cy="1303200"/>
          </a:xfrm>
        </p:grpSpPr>
        <p:sp>
          <p:nvSpPr>
            <p:cNvPr id="672" name=""/>
            <p:cNvSpPr/>
            <p:nvPr/>
          </p:nvSpPr>
          <p:spPr>
            <a:xfrm>
              <a:off x="3328560" y="4694040"/>
              <a:ext cx="1800" cy="862200"/>
            </a:xfrm>
            <a:prstGeom prst="line">
              <a:avLst/>
            </a:prstGeom>
            <a:ln w="1908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479600" y="4690800"/>
              <a:ext cx="12600" cy="857520"/>
            </a:xfrm>
            <a:prstGeom prst="line">
              <a:avLst/>
            </a:prstGeom>
            <a:ln w="1908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292400" y="4897440"/>
              <a:ext cx="374760" cy="3841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1478880" y="4700520"/>
              <a:ext cx="1855080" cy="1440"/>
            </a:xfrm>
            <a:prstGeom prst="line">
              <a:avLst/>
            </a:prstGeom>
            <a:ln w="1908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423520" y="4627440"/>
              <a:ext cx="112680" cy="1141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370160" y="4898880"/>
              <a:ext cx="21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8" name=""/>
            <p:cNvGrpSpPr/>
            <p:nvPr/>
          </p:nvGrpSpPr>
          <p:grpSpPr>
            <a:xfrm>
              <a:off x="1729440" y="4500360"/>
              <a:ext cx="502920" cy="341280"/>
              <a:chOff x="1729440" y="4500360"/>
              <a:chExt cx="502920" cy="341280"/>
            </a:xfrm>
          </p:grpSpPr>
          <p:sp>
            <p:nvSpPr>
              <p:cNvPr id="679" name=""/>
              <p:cNvSpPr/>
              <p:nvPr/>
            </p:nvSpPr>
            <p:spPr>
              <a:xfrm>
                <a:off x="1729440" y="4544640"/>
                <a:ext cx="502920" cy="297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404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784520" y="4500360"/>
                <a:ext cx="274320" cy="31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40680" tIns="0" bIns="0" anchor="t">
                <a:spAutoFit/>
              </a:bodyPr>
              <a:p>
                <a:pPr marL="39600">
                  <a:lnSpc>
                    <a:spcPct val="100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R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1" name=""/>
            <p:cNvSpPr/>
            <p:nvPr/>
          </p:nvSpPr>
          <p:spPr>
            <a:xfrm>
              <a:off x="937080" y="4868640"/>
              <a:ext cx="280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 flipV="1">
              <a:off x="1492200" y="5558760"/>
              <a:ext cx="1842480" cy="3240"/>
            </a:xfrm>
            <a:prstGeom prst="line">
              <a:avLst/>
            </a:prstGeom>
            <a:ln w="1908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423520" y="5497200"/>
              <a:ext cx="112680" cy="115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5400000">
              <a:off x="3083400" y="4885200"/>
              <a:ext cx="504720" cy="392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141000" y="4887720"/>
              <a:ext cx="3463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70c0"/>
                  </a:solidFill>
                  <a:latin typeface="Arial Bold"/>
                  <a:ea typeface="Arial Bold"/>
                </a:rPr>
                <a:t>R</a:t>
              </a:r>
              <a:r>
                <a:rPr b="0" lang="en-US" sz="1800" spc="-1" strike="noStrike" baseline="-25000">
                  <a:solidFill>
                    <a:srgbClr val="0070c0"/>
                  </a:solidFill>
                  <a:latin typeface="Arial Bold"/>
                  <a:ea typeface="Arial Bold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64720" y="4552920"/>
              <a:ext cx="31428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1600" y="4309920"/>
              <a:ext cx="2044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47360" y="4868640"/>
              <a:ext cx="1440" cy="4590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139840" y="4900320"/>
              <a:ext cx="280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5856120" y="961920"/>
            <a:ext cx="35179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2680" indent="-343080">
              <a:lnSpc>
                <a:spcPct val="150000"/>
              </a:lnSpc>
              <a:spcBef>
                <a:spcPts val="414"/>
              </a:spcBef>
              <a:buClr>
                <a:srgbClr val="5c69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6971"/>
                </a:solidFill>
                <a:latin typeface="Arial"/>
                <a:ea typeface="Arial"/>
              </a:rPr>
              <a:t>Leitungse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1" name=""/>
          <p:cNvGrpSpPr/>
          <p:nvPr/>
        </p:nvGrpSpPr>
        <p:grpSpPr>
          <a:xfrm>
            <a:off x="6334200" y="1417680"/>
            <a:ext cx="2082240" cy="1336680"/>
            <a:chOff x="6334200" y="1417680"/>
            <a:chExt cx="2082240" cy="1336680"/>
          </a:xfrm>
        </p:grpSpPr>
        <p:sp>
          <p:nvSpPr>
            <p:cNvPr id="692" name=""/>
            <p:cNvSpPr/>
            <p:nvPr/>
          </p:nvSpPr>
          <p:spPr>
            <a:xfrm>
              <a:off x="6721200" y="2705040"/>
              <a:ext cx="831600" cy="1800"/>
            </a:xfrm>
            <a:prstGeom prst="line">
              <a:avLst/>
            </a:prstGeom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796800" y="2259000"/>
              <a:ext cx="3463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70c0"/>
                  </a:solidFill>
                  <a:latin typeface="Arial Bold"/>
                  <a:ea typeface="Arial Bold"/>
                </a:rPr>
                <a:t>R</a:t>
              </a:r>
              <a:r>
                <a:rPr b="0" lang="en-US" sz="1800" spc="-1" strike="noStrike" baseline="-25000">
                  <a:solidFill>
                    <a:srgbClr val="0070c0"/>
                  </a:solidFill>
                  <a:latin typeface="Arial Bold"/>
                  <a:ea typeface="Arial Bold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572240" y="1843200"/>
              <a:ext cx="547200" cy="1440"/>
            </a:xfrm>
            <a:prstGeom prst="line">
              <a:avLst/>
            </a:prstGeom>
            <a:ln w="1908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548120" y="2700360"/>
              <a:ext cx="569880" cy="1440"/>
            </a:xfrm>
            <a:prstGeom prst="line">
              <a:avLst/>
            </a:prstGeom>
            <a:ln w="1908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>
              <a:off x="8118000" y="1843200"/>
              <a:ext cx="1080" cy="855720"/>
            </a:xfrm>
            <a:prstGeom prst="line">
              <a:avLst/>
            </a:prstGeom>
            <a:ln w="1908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5400000">
              <a:off x="7903800" y="2090880"/>
              <a:ext cx="504720" cy="3139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08480" y="2038320"/>
              <a:ext cx="507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ctr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6334200" y="1847880"/>
              <a:ext cx="309240" cy="1440"/>
            </a:xfrm>
            <a:prstGeom prst="line">
              <a:avLst/>
            </a:prstGeom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334200" y="2710080"/>
              <a:ext cx="309240" cy="1440"/>
            </a:xfrm>
            <a:prstGeom prst="line">
              <a:avLst/>
            </a:prstGeom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478280" y="2639880"/>
              <a:ext cx="114120" cy="1144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721200" y="1844640"/>
              <a:ext cx="831600" cy="1800"/>
            </a:xfrm>
            <a:prstGeom prst="line">
              <a:avLst/>
            </a:prstGeom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478280" y="1787400"/>
              <a:ext cx="114120" cy="1144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637040" y="2006640"/>
              <a:ext cx="1440" cy="4586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686360" y="1673280"/>
              <a:ext cx="31392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418160" y="1417680"/>
              <a:ext cx="20448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275240" y="2050920"/>
              <a:ext cx="2804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8" name=""/>
          <p:cNvSpPr/>
          <p:nvPr/>
        </p:nvSpPr>
        <p:spPr>
          <a:xfrm>
            <a:off x="5856120" y="3311640"/>
            <a:ext cx="3187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5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6971"/>
                </a:solidFill>
                <a:latin typeface="Arial"/>
                <a:ea typeface="Arial"/>
              </a:rPr>
              <a:t>Reflexionen für R</a:t>
            </a:r>
            <a:r>
              <a:rPr b="0" lang="en-US" sz="2000" spc="-1" strike="noStrike" baseline="-25000">
                <a:solidFill>
                  <a:srgbClr val="5c6971"/>
                </a:solidFill>
                <a:latin typeface="Arial"/>
                <a:ea typeface="Arial"/>
              </a:rPr>
              <a:t>L</a:t>
            </a:r>
            <a:r>
              <a:rPr b="0" lang="en-US" sz="2000" spc="-1" strike="noStrike">
                <a:solidFill>
                  <a:srgbClr val="5c6971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5c6971"/>
                </a:solidFill>
                <a:latin typeface="Symbol"/>
                <a:ea typeface="Symbol"/>
              </a:rPr>
              <a:t></a:t>
            </a:r>
            <a:r>
              <a:rPr b="0" lang="en-US" sz="2000" spc="-1" strike="noStrike">
                <a:solidFill>
                  <a:srgbClr val="5c6971"/>
                </a:solidFill>
                <a:latin typeface="Arial"/>
                <a:ea typeface="Arial"/>
              </a:rPr>
              <a:t>R</a:t>
            </a:r>
            <a:r>
              <a:rPr b="0" lang="en-US" sz="2000" spc="-1" strike="noStrike" baseline="-25000">
                <a:solidFill>
                  <a:srgbClr val="5c6971"/>
                </a:solidFill>
                <a:latin typeface="Arial"/>
                <a:ea typeface="Arial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8142120" y="3446640"/>
            <a:ext cx="1800" cy="199800"/>
          </a:xfrm>
          <a:prstGeom prst="line">
            <a:avLst/>
          </a:prstGeom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5907600" y="4186080"/>
            <a:ext cx="2093040" cy="1395000"/>
            <a:chOff x="5907600" y="4186080"/>
            <a:chExt cx="2093040" cy="1395000"/>
          </a:xfrm>
        </p:grpSpPr>
        <p:grpSp>
          <p:nvGrpSpPr>
            <p:cNvPr id="711" name=""/>
            <p:cNvGrpSpPr/>
            <p:nvPr/>
          </p:nvGrpSpPr>
          <p:grpSpPr>
            <a:xfrm>
              <a:off x="6457320" y="4661280"/>
              <a:ext cx="1543320" cy="919800"/>
              <a:chOff x="6457320" y="4661280"/>
              <a:chExt cx="1543320" cy="919800"/>
            </a:xfrm>
          </p:grpSpPr>
          <p:sp>
            <p:nvSpPr>
              <p:cNvPr id="712" name=""/>
              <p:cNvSpPr/>
              <p:nvPr/>
            </p:nvSpPr>
            <p:spPr>
              <a:xfrm>
                <a:off x="6457320" y="4951080"/>
                <a:ext cx="428400" cy="31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40680" tIns="0" bIns="0" anchor="t">
                <a:spAutoFit/>
              </a:bodyPr>
              <a:p>
                <a:pPr marL="39600">
                  <a:lnSpc>
                    <a:spcPct val="100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808080"/>
                    </a:solidFill>
                    <a:latin typeface="Arial"/>
                    <a:ea typeface="Arial"/>
                  </a:rPr>
                  <a:t>r</a:t>
                </a:r>
                <a:r>
                  <a:rPr b="0" lang="en-US" sz="1800" spc="-1" strike="noStrike" baseline="-25000">
                    <a:solidFill>
                      <a:srgbClr val="808080"/>
                    </a:solidFill>
                    <a:latin typeface="Arial"/>
                    <a:ea typeface="Arial"/>
                  </a:rPr>
                  <a:t>L</a:t>
                </a:r>
                <a:r>
                  <a:rPr b="0" lang="en-US" sz="1800" spc="-1" strike="noStrike">
                    <a:solidFill>
                      <a:srgbClr val="808080"/>
                    </a:solidFill>
                    <a:latin typeface="Arial"/>
                    <a:ea typeface="Arial"/>
                  </a:rPr>
                  <a:t>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025040" y="4661280"/>
                <a:ext cx="89784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40680" tIns="0" bIns="0" anchor="t">
                <a:spAutoFit/>
              </a:bodyPr>
              <a:p>
                <a:pPr marL="39600">
                  <a:lnSpc>
                    <a:spcPct val="150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c6971"/>
                    </a:solidFill>
                    <a:latin typeface="Arial"/>
                    <a:ea typeface="Arial"/>
                  </a:rPr>
                  <a:t>R</a:t>
                </a:r>
                <a:r>
                  <a:rPr b="0" lang="en-US" sz="2000" spc="-1" strike="noStrike" baseline="-25000">
                    <a:solidFill>
                      <a:srgbClr val="5c6971"/>
                    </a:solidFill>
                    <a:latin typeface="Arial"/>
                    <a:ea typeface="Arial"/>
                  </a:rPr>
                  <a:t>L</a:t>
                </a:r>
                <a:r>
                  <a:rPr b="0" lang="en-US" sz="2000" spc="-1" strike="noStrike">
                    <a:solidFill>
                      <a:srgbClr val="5c6971"/>
                    </a:solidFill>
                    <a:latin typeface="Arial"/>
                    <a:ea typeface="Arial"/>
                  </a:rPr>
                  <a:t> - R</a:t>
                </a:r>
                <a:r>
                  <a:rPr b="0" lang="en-US" sz="2000" spc="-1" strike="noStrike" baseline="-25000">
                    <a:solidFill>
                      <a:srgbClr val="5c6971"/>
                    </a:solidFill>
                    <a:latin typeface="Arial"/>
                    <a:ea typeface="Arial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024680" y="5060880"/>
                <a:ext cx="961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40680" tIns="0" bIns="0" anchor="t">
                <a:spAutoFit/>
              </a:bodyPr>
              <a:p>
                <a:pPr marL="39600">
                  <a:lnSpc>
                    <a:spcPct val="150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5c6971"/>
                    </a:solidFill>
                    <a:latin typeface="Arial"/>
                    <a:ea typeface="Arial"/>
                  </a:rPr>
                  <a:t>R</a:t>
                </a:r>
                <a:r>
                  <a:rPr b="0" lang="en-US" sz="2000" spc="-1" strike="noStrike" baseline="-25000">
                    <a:solidFill>
                      <a:srgbClr val="5c6971"/>
                    </a:solidFill>
                    <a:latin typeface="Arial"/>
                    <a:ea typeface="Arial"/>
                  </a:rPr>
                  <a:t>L</a:t>
                </a:r>
                <a:r>
                  <a:rPr b="0" lang="en-US" sz="2000" spc="-1" strike="noStrike">
                    <a:solidFill>
                      <a:srgbClr val="5c6971"/>
                    </a:solidFill>
                    <a:latin typeface="Arial"/>
                    <a:ea typeface="Arial"/>
                  </a:rPr>
                  <a:t> + R</a:t>
                </a:r>
                <a:r>
                  <a:rPr b="0" lang="en-US" sz="2000" spc="-1" strike="noStrike" baseline="-25000">
                    <a:solidFill>
                      <a:srgbClr val="5c6971"/>
                    </a:solidFill>
                    <a:latin typeface="Arial"/>
                    <a:ea typeface="Arial"/>
                  </a:rPr>
                  <a:t>W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7004520" y="5137560"/>
                <a:ext cx="996120" cy="21960"/>
              </a:xfrm>
              <a:prstGeom prst="line">
                <a:avLst/>
              </a:prstGeom>
              <a:ln w="936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6" name=""/>
            <p:cNvSpPr/>
            <p:nvPr/>
          </p:nvSpPr>
          <p:spPr>
            <a:xfrm>
              <a:off x="5907600" y="4186080"/>
              <a:ext cx="19785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5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c6971"/>
                  </a:solidFill>
                  <a:latin typeface="Arial"/>
                  <a:ea typeface="Arial"/>
                </a:rPr>
                <a:t>Reflexionsfaktor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99306-A77D-4878-B789-BE1DDF7A7263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"/>
          <p:cNvSpPr/>
          <p:nvPr/>
        </p:nvSpPr>
        <p:spPr>
          <a:xfrm>
            <a:off x="762120" y="998640"/>
            <a:ext cx="8512200" cy="49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43080" indent="-343080">
              <a:lnSpc>
                <a:spcPct val="150000"/>
              </a:lnSpc>
              <a:spcBef>
                <a:spcPts val="737"/>
              </a:spcBef>
              <a:buClr>
                <a:srgbClr val="5c69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6971"/>
                </a:solidFill>
                <a:latin typeface="Arial"/>
                <a:ea typeface="Arial"/>
              </a:rPr>
              <a:t>Periodische Funktionen in komplexer Schreibweis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) =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(j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)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mit u(t) = Re {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t)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z,t) =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(-j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β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z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(j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)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inlaufende W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z,t) =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(+j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β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z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(j</a:t>
            </a:r>
            <a:r>
              <a:rPr b="0" lang="en-US" sz="20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)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zurücklaufende We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i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/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λ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Phasenkonstante)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= c/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37"/>
              </a:spcBef>
              <a:buClr>
                <a:srgbClr val="5c69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37"/>
              </a:spcBef>
              <a:buClr>
                <a:srgbClr val="5c69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6971"/>
                </a:solidFill>
                <a:latin typeface="Arial"/>
                <a:ea typeface="Lucida Grande"/>
              </a:rPr>
              <a:t>Momentaufnahme (t = t</a:t>
            </a:r>
            <a:r>
              <a:rPr b="0" lang="en-US" sz="2000" spc="-1" strike="noStrike" baseline="-25000">
                <a:solidFill>
                  <a:srgbClr val="5c6971"/>
                </a:solidFill>
                <a:latin typeface="Arial"/>
                <a:ea typeface="Arial"/>
              </a:rPr>
              <a:t>n</a:t>
            </a:r>
            <a:r>
              <a:rPr b="0" lang="en-US" sz="2000" spc="-1" strike="noStrike">
                <a:solidFill>
                  <a:srgbClr val="5c6971"/>
                </a:solidFill>
                <a:latin typeface="Arial"/>
                <a:ea typeface="Arial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6413400" y="287280"/>
            <a:ext cx="2954520" cy="46836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6542280" y="6388200"/>
            <a:ext cx="271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Semester, Nachrichtentechnik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854640" y="6388200"/>
            <a:ext cx="293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llen und Leitungen, Übersicht, S. Ru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762120" y="330120"/>
            <a:ext cx="8534160" cy="4701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2001a"/>
                </a:solidFill>
                <a:latin typeface="Arial"/>
              </a:rPr>
              <a:t>Beschreibung von Wellen</a:t>
            </a:r>
            <a:endParaRPr b="0" lang="en-US" sz="2200" spc="-1" strike="noStrike">
              <a:solidFill>
                <a:srgbClr val="e2001a"/>
              </a:solidFill>
              <a:latin typeface="Arial"/>
            </a:endParaRPr>
          </a:p>
        </p:txBody>
      </p:sp>
      <p:grpSp>
        <p:nvGrpSpPr>
          <p:cNvPr id="722" name=""/>
          <p:cNvGrpSpPr/>
          <p:nvPr/>
        </p:nvGrpSpPr>
        <p:grpSpPr>
          <a:xfrm>
            <a:off x="5178960" y="3804840"/>
            <a:ext cx="3556800" cy="2060280"/>
            <a:chOff x="5178960" y="3804840"/>
            <a:chExt cx="3556800" cy="2060280"/>
          </a:xfrm>
        </p:grpSpPr>
        <p:sp>
          <p:nvSpPr>
            <p:cNvPr id="723" name=""/>
            <p:cNvSpPr/>
            <p:nvPr/>
          </p:nvSpPr>
          <p:spPr>
            <a:xfrm flipV="1">
              <a:off x="5538600" y="5189040"/>
              <a:ext cx="1371600" cy="1728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6168960" y="4422600"/>
              <a:ext cx="1440" cy="14425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6066720" y="4422600"/>
              <a:ext cx="2081160" cy="8485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5629320" y="4666320"/>
              <a:ext cx="1077840" cy="1078560"/>
            </a:xfrm>
            <a:prstGeom prst="ellipse">
              <a:avLst/>
            </a:prstGeom>
            <a:noFill/>
            <a:ln w="2844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842160" y="4200480"/>
              <a:ext cx="1079280" cy="1080360"/>
            </a:xfrm>
            <a:prstGeom prst="ellipse">
              <a:avLst/>
            </a:prstGeom>
            <a:noFill/>
            <a:ln w="936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 flipV="1">
              <a:off x="5851440" y="3804840"/>
              <a:ext cx="2473200" cy="9486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6261120" y="4797720"/>
              <a:ext cx="2474640" cy="9486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211960" y="4200480"/>
              <a:ext cx="195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835320" y="5173200"/>
              <a:ext cx="372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5803560" y="4313520"/>
              <a:ext cx="335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 flipH="1" flipV="1">
              <a:off x="5690880" y="4897800"/>
              <a:ext cx="477720" cy="307800"/>
            </a:xfrm>
            <a:prstGeom prst="line">
              <a:avLst/>
            </a:prstGeom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178960" y="4597560"/>
              <a:ext cx="38736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e2001a"/>
                  </a:solidFill>
                  <a:uFillTx/>
                  <a:latin typeface="Arial"/>
                  <a:ea typeface="Arial"/>
                </a:rPr>
                <a:t>u</a:t>
              </a:r>
              <a:r>
                <a:rPr b="0" lang="en-US" sz="2000" spc="-1" strike="noStrike" baseline="-25000">
                  <a:solidFill>
                    <a:srgbClr val="e2001a"/>
                  </a:solidFill>
                  <a:latin typeface="Arial"/>
                  <a:ea typeface="Arial"/>
                </a:rPr>
                <a:t>a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5690880" y="5206320"/>
              <a:ext cx="477720" cy="180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>
              <a:off x="5903640" y="5130360"/>
              <a:ext cx="531720" cy="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 flipH="1">
              <a:off x="6197040" y="5046120"/>
              <a:ext cx="427320" cy="144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6508440" y="4945680"/>
              <a:ext cx="401400" cy="180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6791040" y="4847400"/>
              <a:ext cx="315720" cy="144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7088040" y="4753800"/>
              <a:ext cx="238320" cy="144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7382880" y="4666320"/>
              <a:ext cx="181080" cy="144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V="1">
              <a:off x="7780320" y="4583160"/>
              <a:ext cx="0" cy="1260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7907400" y="4519800"/>
              <a:ext cx="110880" cy="324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719680" y="4519800"/>
              <a:ext cx="2298600" cy="68616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21600"/>
                  </a:moveTo>
                  <a:cubicBezTo>
                    <a:pt x="471" y="20872"/>
                    <a:pt x="942" y="20145"/>
                    <a:pt x="1679" y="19302"/>
                  </a:cubicBezTo>
                  <a:cubicBezTo>
                    <a:pt x="2415" y="18460"/>
                    <a:pt x="3475" y="17592"/>
                    <a:pt x="4417" y="16545"/>
                  </a:cubicBezTo>
                  <a:cubicBezTo>
                    <a:pt x="5360" y="15498"/>
                    <a:pt x="6390" y="14094"/>
                    <a:pt x="7333" y="13021"/>
                  </a:cubicBezTo>
                  <a:cubicBezTo>
                    <a:pt x="8275" y="11949"/>
                    <a:pt x="9173" y="11132"/>
                    <a:pt x="10071" y="10111"/>
                  </a:cubicBezTo>
                  <a:cubicBezTo>
                    <a:pt x="10969" y="9089"/>
                    <a:pt x="11809" y="7838"/>
                    <a:pt x="12721" y="6894"/>
                  </a:cubicBezTo>
                  <a:cubicBezTo>
                    <a:pt x="13634" y="5949"/>
                    <a:pt x="14474" y="5285"/>
                    <a:pt x="15548" y="4443"/>
                  </a:cubicBezTo>
                  <a:cubicBezTo>
                    <a:pt x="16623" y="3600"/>
                    <a:pt x="19171" y="1838"/>
                    <a:pt x="19171" y="1838"/>
                  </a:cubicBezTo>
                  <a:lnTo>
                    <a:pt x="21600" y="0"/>
                  </a:lnTo>
                </a:path>
              </a:pathLst>
            </a:custGeom>
            <a:noFill/>
            <a:ln w="9360">
              <a:solidFill>
                <a:srgbClr val="e2001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 flipH="1" flipV="1">
              <a:off x="7178760" y="4212720"/>
              <a:ext cx="196560" cy="540360"/>
            </a:xfrm>
            <a:prstGeom prst="line">
              <a:avLst/>
            </a:prstGeom>
            <a:ln w="9360">
              <a:solidFill>
                <a:srgbClr val="ff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27138-210A-4A94-9545-79E00492093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762120" y="973080"/>
            <a:ext cx="860112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5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6971"/>
                </a:solidFill>
                <a:latin typeface="Arial"/>
                <a:ea typeface="Arial"/>
              </a:rPr>
              <a:t>Allgeme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37"/>
              </a:spcBef>
              <a:buClr>
                <a:srgbClr val="5c69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6971"/>
                </a:solidFill>
                <a:latin typeface="Arial"/>
                <a:ea typeface="Arial"/>
              </a:rPr>
              <a:t>Beispiel: </a:t>
            </a:r>
            <a:r>
              <a:rPr b="0" lang="en-US" sz="2000" spc="-1" strike="noStrike">
                <a:solidFill>
                  <a:srgbClr val="5c6971"/>
                </a:solidFill>
                <a:latin typeface="Symbol"/>
                <a:ea typeface="Symbol"/>
              </a:rPr>
              <a:t>λ</a:t>
            </a:r>
            <a:r>
              <a:rPr b="0" lang="en-US" sz="2000" spc="-1" strike="noStrike">
                <a:solidFill>
                  <a:srgbClr val="5c6971"/>
                </a:solidFill>
                <a:latin typeface="Arial"/>
                <a:ea typeface="Arial"/>
              </a:rPr>
              <a:t>/4 Leitung (Viertelwellentransformat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6971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5c6971"/>
                </a:solidFill>
                <a:latin typeface="Symbol"/>
                <a:ea typeface="Symbol"/>
              </a:rPr>
              <a:t>β</a:t>
            </a:r>
            <a:r>
              <a:rPr b="0" lang="en-US" sz="2000" spc="-1" strike="noStrike">
                <a:solidFill>
                  <a:srgbClr val="5c6971"/>
                </a:solidFill>
                <a:latin typeface="Helvetica Light"/>
                <a:ea typeface="Helvetica Light"/>
              </a:rPr>
              <a:t>l</a:t>
            </a:r>
            <a:r>
              <a:rPr b="0" lang="en-US" sz="2000" spc="-1" strike="noStrike">
                <a:solidFill>
                  <a:srgbClr val="5c6971"/>
                </a:solidFill>
                <a:latin typeface="Arial"/>
                <a:ea typeface="Arial"/>
              </a:rPr>
              <a:t> = </a:t>
            </a:r>
            <a:r>
              <a:rPr b="0" lang="en-US" sz="1800" spc="-1" strike="noStrike">
                <a:solidFill>
                  <a:srgbClr val="5c6971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5c6971"/>
                </a:solidFill>
                <a:latin typeface="Symbol"/>
                <a:ea typeface="Symbol"/>
              </a:rPr>
              <a:t>∗</a:t>
            </a:r>
            <a:r>
              <a:rPr b="0" lang="en-US" sz="1800" spc="-1" strike="noStrike">
                <a:solidFill>
                  <a:srgbClr val="5c6971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5c6971"/>
                </a:solidFill>
                <a:latin typeface="Symbol"/>
                <a:ea typeface="Symbol"/>
              </a:rPr>
              <a:t>π</a:t>
            </a:r>
            <a:r>
              <a:rPr b="0" lang="en-US" sz="1800" spc="-1" strike="noStrike">
                <a:solidFill>
                  <a:srgbClr val="5c6971"/>
                </a:solidFill>
                <a:latin typeface="Arial"/>
                <a:ea typeface="Arial"/>
              </a:rPr>
              <a:t>/ </a:t>
            </a:r>
            <a:r>
              <a:rPr b="0" lang="en-US" sz="1800" spc="-1" strike="noStrike">
                <a:solidFill>
                  <a:srgbClr val="5c6971"/>
                </a:solidFill>
                <a:latin typeface="Symbol"/>
                <a:ea typeface="Symbol"/>
              </a:rPr>
              <a:t>λ∗λ</a:t>
            </a:r>
            <a:r>
              <a:rPr b="0" lang="en-US" sz="2000" spc="-1" strike="noStrike">
                <a:solidFill>
                  <a:srgbClr val="5c6971"/>
                </a:solidFill>
                <a:latin typeface="Symbol"/>
                <a:ea typeface="Symbol"/>
              </a:rPr>
              <a:t>π</a:t>
            </a:r>
            <a:r>
              <a:rPr b="0" lang="en-US" sz="2000" spc="-1" strike="noStrike">
                <a:solidFill>
                  <a:srgbClr val="5c6971"/>
                </a:solidFill>
                <a:latin typeface="Arial"/>
                <a:ea typeface="Arial"/>
              </a:rPr>
              <a:t>e</a:t>
            </a:r>
            <a:r>
              <a:rPr b="0" lang="en-US" sz="2000" spc="-1" strike="noStrike" baseline="30000">
                <a:solidFill>
                  <a:srgbClr val="5c6971"/>
                </a:solidFill>
                <a:latin typeface="Arial"/>
                <a:ea typeface="Arial"/>
              </a:rPr>
              <a:t>-j</a:t>
            </a:r>
            <a:r>
              <a:rPr b="0" lang="en-US" sz="2000" spc="-1" strike="noStrike" baseline="30000">
                <a:solidFill>
                  <a:srgbClr val="5c6971"/>
                </a:solidFill>
                <a:latin typeface="Symbol"/>
                <a:ea typeface="Symbol"/>
              </a:rPr>
              <a:t>π</a:t>
            </a:r>
            <a:r>
              <a:rPr b="0" lang="en-US" sz="2000" spc="-1" strike="noStrike">
                <a:solidFill>
                  <a:srgbClr val="5c6971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5c6971"/>
                </a:solidFill>
                <a:latin typeface="Arial"/>
                <a:ea typeface="Arial"/>
              </a:rPr>
              <a:t>= -1 </a:t>
            </a:r>
            <a:r>
              <a:rPr b="0" lang="en-US" sz="2000" spc="-1" strike="noStrike">
                <a:solidFill>
                  <a:srgbClr val="5c6971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c6971"/>
                </a:solidFill>
                <a:latin typeface="Symbol"/>
                <a:ea typeface="Symbol"/>
              </a:rPr>
              <a:t></a:t>
            </a:r>
            <a:r>
              <a:rPr b="0" lang="en-US" sz="2000" spc="-1" strike="noStrike">
                <a:solidFill>
                  <a:srgbClr val="5c6971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 u="sng">
                <a:solidFill>
                  <a:srgbClr val="5c6971"/>
                </a:solidFill>
                <a:uFillTx/>
                <a:latin typeface="Arial"/>
                <a:ea typeface="Arial"/>
              </a:rPr>
              <a:t>r</a:t>
            </a:r>
            <a:r>
              <a:rPr b="0" lang="en-US" sz="2000" spc="-1" strike="noStrike" baseline="-25000">
                <a:solidFill>
                  <a:srgbClr val="5c6971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>
                <a:solidFill>
                  <a:srgbClr val="5c6971"/>
                </a:solidFill>
                <a:latin typeface="Arial"/>
                <a:ea typeface="Arial"/>
              </a:rPr>
              <a:t> = -</a:t>
            </a:r>
            <a:r>
              <a:rPr b="0" lang="en-US" sz="2000" spc="-1" strike="noStrike" u="sng">
                <a:solidFill>
                  <a:srgbClr val="5c6971"/>
                </a:solidFill>
                <a:uFillTx/>
                <a:latin typeface="Arial"/>
                <a:ea typeface="Arial"/>
              </a:rPr>
              <a:t>r</a:t>
            </a:r>
            <a:r>
              <a:rPr b="0" lang="en-US" sz="2000" spc="-1" strike="noStrike" baseline="-25000">
                <a:solidFill>
                  <a:srgbClr val="5c6971"/>
                </a:solidFill>
                <a:latin typeface="Arial"/>
                <a:ea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5c6971"/>
                </a:solidFill>
                <a:uFillTx/>
                <a:latin typeface="Arial"/>
                <a:ea typeface="Arial"/>
              </a:rPr>
              <a:t>Z</a:t>
            </a:r>
            <a:r>
              <a:rPr b="0" lang="en-US" sz="2000" spc="-1" strike="noStrike" baseline="-25000">
                <a:solidFill>
                  <a:srgbClr val="5c6971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>
                <a:solidFill>
                  <a:srgbClr val="5c6971"/>
                </a:solidFill>
                <a:latin typeface="Arial"/>
                <a:ea typeface="Arial"/>
              </a:rPr>
              <a:t> = R</a:t>
            </a:r>
            <a:r>
              <a:rPr b="0" lang="en-US" sz="2000" spc="-1" strike="noStrike" baseline="-25000">
                <a:solidFill>
                  <a:srgbClr val="5c6971"/>
                </a:solidFill>
                <a:latin typeface="Arial"/>
                <a:ea typeface="Arial"/>
              </a:rPr>
              <a:t>W</a:t>
            </a:r>
            <a:r>
              <a:rPr b="0" lang="en-US" sz="2000" spc="-1" strike="noStrike" baseline="30000">
                <a:solidFill>
                  <a:srgbClr val="5c6971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5c6971"/>
                </a:solidFill>
                <a:latin typeface="Arial"/>
                <a:ea typeface="Arial"/>
              </a:rPr>
              <a:t>/</a:t>
            </a:r>
            <a:r>
              <a:rPr b="0" lang="en-US" sz="2000" spc="-1" strike="noStrike" u="sng">
                <a:solidFill>
                  <a:srgbClr val="5c6971"/>
                </a:solidFill>
                <a:uFillTx/>
                <a:latin typeface="Arial"/>
                <a:ea typeface="Arial"/>
              </a:rPr>
              <a:t>Z</a:t>
            </a:r>
            <a:r>
              <a:rPr b="0" lang="en-US" sz="2000" spc="-1" strike="noStrike">
                <a:solidFill>
                  <a:srgbClr val="5c6971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 baseline="-25000">
                <a:solidFill>
                  <a:srgbClr val="5c6971"/>
                </a:solidFill>
                <a:latin typeface="Arial"/>
                <a:ea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6971"/>
                </a:solidFill>
                <a:latin typeface="Arial"/>
                <a:ea typeface="Arial"/>
              </a:rPr>
              <a:t>Praktische Anwendung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395360">
              <a:lnSpc>
                <a:spcPct val="15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c6971"/>
                </a:solidFill>
                <a:latin typeface="Arial"/>
                <a:ea typeface="Arial"/>
              </a:rPr>
              <a:t>Anpassung von R</a:t>
            </a:r>
            <a:r>
              <a:rPr b="0" lang="en-US" sz="1600" spc="-1" strike="noStrike" baseline="-25000">
                <a:solidFill>
                  <a:srgbClr val="5c6971"/>
                </a:solidFill>
                <a:latin typeface="Arial"/>
                <a:ea typeface="Arial"/>
              </a:rPr>
              <a:t>L</a:t>
            </a:r>
            <a:r>
              <a:rPr b="0" lang="en-US" sz="1600" spc="-1" strike="noStrike">
                <a:solidFill>
                  <a:srgbClr val="5c6971"/>
                </a:solidFill>
                <a:latin typeface="Arial"/>
                <a:ea typeface="Arial"/>
              </a:rPr>
              <a:t> an Quellimpedanz R</a:t>
            </a:r>
            <a:r>
              <a:rPr b="0" lang="en-US" sz="1600" spc="-1" strike="noStrike" baseline="-25000">
                <a:solidFill>
                  <a:srgbClr val="5c6971"/>
                </a:solidFill>
                <a:latin typeface="Arial"/>
                <a:ea typeface="Arial"/>
              </a:rPr>
              <a:t>1</a:t>
            </a:r>
            <a:r>
              <a:rPr b="0" lang="en-US" sz="1600" spc="-1" strike="noStrike">
                <a:solidFill>
                  <a:srgbClr val="5c6971"/>
                </a:solidFill>
                <a:latin typeface="Arial"/>
                <a:ea typeface="Arial"/>
              </a:rPr>
              <a:t> durch geeigneten R</a:t>
            </a:r>
            <a:r>
              <a:rPr b="0" lang="en-US" sz="1600" spc="-1" strike="noStrike" baseline="-25000">
                <a:solidFill>
                  <a:srgbClr val="5c6971"/>
                </a:solidFill>
                <a:latin typeface="Arial"/>
                <a:ea typeface="Arial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1"/>
          <a:stretch/>
        </p:blipFill>
        <p:spPr>
          <a:xfrm>
            <a:off x="6413400" y="287280"/>
            <a:ext cx="2954520" cy="468360"/>
          </a:xfrm>
          <a:prstGeom prst="rect">
            <a:avLst/>
          </a:prstGeom>
          <a:ln w="0">
            <a:noFill/>
          </a:ln>
        </p:spPr>
      </p:pic>
      <p:sp>
        <p:nvSpPr>
          <p:cNvPr id="748" name=""/>
          <p:cNvSpPr/>
          <p:nvPr/>
        </p:nvSpPr>
        <p:spPr>
          <a:xfrm>
            <a:off x="6542280" y="6388200"/>
            <a:ext cx="271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Semester, Nachrichtentechnik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854640" y="6388200"/>
            <a:ext cx="293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llen und Leitungen, Übersicht, S. Ru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762120" y="330120"/>
            <a:ext cx="8534160" cy="4701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2001a"/>
                </a:solidFill>
                <a:latin typeface="Arial"/>
              </a:rPr>
              <a:t>Impedanztransformation</a:t>
            </a:r>
            <a:endParaRPr b="0" lang="en-US" sz="2400" spc="-1" strike="noStrike">
              <a:solidFill>
                <a:srgbClr val="e2001a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3204000" y="1469880"/>
            <a:ext cx="143892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c6971"/>
                </a:solidFill>
                <a:uFillTx/>
                <a:latin typeface="Arial"/>
                <a:ea typeface="Arial"/>
              </a:rPr>
              <a:t>r</a:t>
            </a:r>
            <a:r>
              <a:rPr b="0" lang="en-US" sz="2400" spc="-1" strike="noStrike" baseline="-25000">
                <a:solidFill>
                  <a:srgbClr val="5c6971"/>
                </a:solidFill>
                <a:latin typeface="Arial"/>
                <a:ea typeface="Arial"/>
              </a:rPr>
              <a:t>1 </a:t>
            </a:r>
            <a:r>
              <a:rPr b="0" lang="en-US" sz="2400" spc="-1" strike="noStrike">
                <a:solidFill>
                  <a:srgbClr val="5c6971"/>
                </a:solidFill>
                <a:latin typeface="Arial"/>
                <a:ea typeface="Arial"/>
              </a:rPr>
              <a:t>= </a:t>
            </a:r>
            <a:r>
              <a:rPr b="0" lang="en-US" sz="2400" spc="-1" strike="noStrike" u="sng">
                <a:solidFill>
                  <a:srgbClr val="5c6971"/>
                </a:solidFill>
                <a:uFillTx/>
                <a:latin typeface="Arial"/>
                <a:ea typeface="Arial"/>
              </a:rPr>
              <a:t>r</a:t>
            </a:r>
            <a:r>
              <a:rPr b="0" lang="en-US" sz="2400" spc="-1" strike="noStrike" baseline="-25000">
                <a:solidFill>
                  <a:srgbClr val="5c6971"/>
                </a:solidFill>
                <a:latin typeface="Arial"/>
                <a:ea typeface="Arial"/>
              </a:rPr>
              <a:t>L</a:t>
            </a:r>
            <a:r>
              <a:rPr b="0" lang="en-US" sz="2400" spc="-1" strike="noStrike">
                <a:solidFill>
                  <a:srgbClr val="5c6971"/>
                </a:solidFill>
                <a:latin typeface="Arial"/>
                <a:ea typeface="Arial"/>
              </a:rPr>
              <a:t> e</a:t>
            </a:r>
            <a:r>
              <a:rPr b="0" lang="en-US" sz="2400" spc="-1" strike="noStrike" baseline="30000">
                <a:solidFill>
                  <a:srgbClr val="5c6971"/>
                </a:solidFill>
                <a:latin typeface="Arial"/>
                <a:ea typeface="Arial"/>
              </a:rPr>
              <a:t>–j</a:t>
            </a:r>
            <a:r>
              <a:rPr b="0" lang="en-US" sz="2400" spc="-1" strike="noStrike" baseline="30000">
                <a:solidFill>
                  <a:srgbClr val="5c6971"/>
                </a:solidFill>
                <a:latin typeface="Symbol"/>
                <a:ea typeface="Symbol"/>
              </a:rPr>
              <a:t>β</a:t>
            </a:r>
            <a:r>
              <a:rPr b="0" lang="en-US" sz="2400" spc="-1" strike="noStrike" baseline="30000">
                <a:solidFill>
                  <a:srgbClr val="5c6971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 baseline="30000">
                <a:solidFill>
                  <a:srgbClr val="5c6971"/>
                </a:solidFill>
                <a:latin typeface="Helvetica Light"/>
                <a:ea typeface="Helvetica Light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1171440" y="2097000"/>
            <a:ext cx="35402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5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6971"/>
                </a:solidFill>
                <a:latin typeface="Arial"/>
                <a:ea typeface="Arial"/>
              </a:rPr>
              <a:t>Phasendrehung von r</a:t>
            </a:r>
            <a:r>
              <a:rPr b="0" lang="en-US" sz="2000" spc="-1" strike="noStrike" baseline="-25000">
                <a:solidFill>
                  <a:srgbClr val="5c6971"/>
                </a:solidFill>
                <a:latin typeface="Arial"/>
                <a:ea typeface="Arial"/>
              </a:rPr>
              <a:t>L</a:t>
            </a:r>
            <a:r>
              <a:rPr b="0" lang="en-US" sz="2000" spc="-1" strike="noStrike">
                <a:solidFill>
                  <a:srgbClr val="5c6971"/>
                </a:solidFill>
                <a:latin typeface="Arial"/>
                <a:ea typeface="Arial"/>
              </a:rPr>
              <a:t> um -2</a:t>
            </a:r>
            <a:r>
              <a:rPr b="0" lang="en-US" sz="2000" spc="-1" strike="noStrike">
                <a:solidFill>
                  <a:srgbClr val="5c6971"/>
                </a:solidFill>
                <a:latin typeface="Symbol"/>
                <a:ea typeface="Symbol"/>
              </a:rPr>
              <a:t>β</a:t>
            </a:r>
            <a:r>
              <a:rPr b="0" lang="en-US" sz="2400" spc="-1" strike="noStrike">
                <a:solidFill>
                  <a:srgbClr val="5c6971"/>
                </a:solidFill>
                <a:latin typeface="Helvetica Light"/>
                <a:ea typeface="Helvetica Light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178680" y="3616200"/>
            <a:ext cx="1338120" cy="540000"/>
          </a:xfrm>
          <a:prstGeom prst="rect">
            <a:avLst/>
          </a:prstGeom>
          <a:noFill/>
          <a:ln w="9360">
            <a:solidFill>
              <a:srgbClr val="5c697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"/>
          <p:cNvGrpSpPr/>
          <p:nvPr/>
        </p:nvGrpSpPr>
        <p:grpSpPr>
          <a:xfrm>
            <a:off x="2157840" y="5684760"/>
            <a:ext cx="1357920" cy="312120"/>
            <a:chOff x="2157840" y="5684760"/>
            <a:chExt cx="1357920" cy="312120"/>
          </a:xfrm>
        </p:grpSpPr>
        <p:sp>
          <p:nvSpPr>
            <p:cNvPr id="755" name=""/>
            <p:cNvSpPr/>
            <p:nvPr/>
          </p:nvSpPr>
          <p:spPr>
            <a:xfrm>
              <a:off x="2157840" y="5684760"/>
              <a:ext cx="13579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c6971"/>
                  </a:solidFill>
                  <a:latin typeface="Arial"/>
                  <a:ea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5c6971"/>
                  </a:solidFill>
                  <a:latin typeface="Arial"/>
                  <a:ea typeface="Arial"/>
                </a:rPr>
                <a:t>W</a:t>
              </a:r>
              <a:r>
                <a:rPr b="0" lang="en-US" sz="1800" spc="-1" strike="noStrike">
                  <a:solidFill>
                    <a:srgbClr val="5c6971"/>
                  </a:solidFill>
                  <a:latin typeface="Arial"/>
                  <a:ea typeface="Arial"/>
                </a:rPr>
                <a:t> =</a:t>
              </a:r>
              <a:r>
                <a:rPr b="0" lang="en-US" sz="1800" spc="-1" strike="noStrike">
                  <a:solidFill>
                    <a:srgbClr val="5c6971"/>
                  </a:solidFill>
                  <a:latin typeface="Symbol"/>
                  <a:ea typeface="Symbol"/>
                </a:rPr>
                <a:t>√</a:t>
              </a:r>
              <a:r>
                <a:rPr b="0" lang="en-US" sz="1800" spc="-1" strike="noStrike">
                  <a:solidFill>
                    <a:srgbClr val="5c6971"/>
                  </a:solidFill>
                  <a:latin typeface="Arial"/>
                  <a:ea typeface="Arial"/>
                </a:rPr>
                <a:t> R</a:t>
              </a:r>
              <a:r>
                <a:rPr b="0" lang="en-US" sz="1800" spc="-1" strike="noStrike" baseline="-25000">
                  <a:solidFill>
                    <a:srgbClr val="5c6971"/>
                  </a:solidFill>
                  <a:latin typeface="Arial"/>
                  <a:ea typeface="Arial"/>
                </a:rPr>
                <a:t>L</a:t>
              </a:r>
              <a:r>
                <a:rPr b="0" lang="en-US" sz="1800" spc="-1" strike="noStrike">
                  <a:solidFill>
                    <a:srgbClr val="5c6971"/>
                  </a:solidFill>
                  <a:latin typeface="Arial"/>
                  <a:ea typeface="Arial"/>
                </a:rPr>
                <a:t> R</a:t>
              </a:r>
              <a:r>
                <a:rPr b="0" lang="en-US" sz="1800" spc="-1" strike="noStrike" baseline="-25000">
                  <a:solidFill>
                    <a:srgbClr val="5c6971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5c6971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2837880" y="5730840"/>
              <a:ext cx="662040" cy="6480"/>
            </a:xfrm>
            <a:prstGeom prst="line">
              <a:avLst/>
            </a:prstGeom>
            <a:ln w="9360">
              <a:solidFill>
                <a:srgbClr val="5c69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7" name=""/>
          <p:cNvGrpSpPr/>
          <p:nvPr/>
        </p:nvGrpSpPr>
        <p:grpSpPr>
          <a:xfrm>
            <a:off x="5374080" y="1106640"/>
            <a:ext cx="3348720" cy="1843200"/>
            <a:chOff x="5374080" y="1106640"/>
            <a:chExt cx="3348720" cy="1843200"/>
          </a:xfrm>
        </p:grpSpPr>
        <p:sp>
          <p:nvSpPr>
            <p:cNvPr id="758" name=""/>
            <p:cNvSpPr/>
            <p:nvPr/>
          </p:nvSpPr>
          <p:spPr>
            <a:xfrm>
              <a:off x="5756040" y="1311120"/>
              <a:ext cx="1800" cy="1348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855560" y="1295280"/>
              <a:ext cx="1440" cy="13489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765760" y="2430360"/>
              <a:ext cx="2093040" cy="1080"/>
            </a:xfrm>
            <a:prstGeom prst="line">
              <a:avLst/>
            </a:prstGeom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102800" y="1985760"/>
              <a:ext cx="3463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70c0"/>
                  </a:solidFill>
                  <a:latin typeface="Arial Bold"/>
                  <a:ea typeface="Arial Bold"/>
                </a:rPr>
                <a:t>R</a:t>
              </a:r>
              <a:r>
                <a:rPr b="0" lang="en-US" sz="1800" spc="-1" strike="noStrike" baseline="-25000">
                  <a:solidFill>
                    <a:srgbClr val="0070c0"/>
                  </a:solidFill>
                  <a:latin typeface="Arial Bold"/>
                  <a:ea typeface="Arial Bold"/>
                </a:rPr>
                <a:t>W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878240" y="1569960"/>
              <a:ext cx="547560" cy="1080"/>
            </a:xfrm>
            <a:prstGeom prst="line">
              <a:avLst/>
            </a:prstGeom>
            <a:ln w="1908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855560" y="2425320"/>
              <a:ext cx="568440" cy="1440"/>
            </a:xfrm>
            <a:prstGeom prst="line">
              <a:avLst/>
            </a:prstGeom>
            <a:ln w="1908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8424360" y="1569960"/>
              <a:ext cx="1440" cy="855000"/>
            </a:xfrm>
            <a:prstGeom prst="line">
              <a:avLst/>
            </a:prstGeom>
            <a:ln w="1908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 rot="5400000">
              <a:off x="8210160" y="1815480"/>
              <a:ext cx="505800" cy="3160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214840" y="1765080"/>
              <a:ext cx="507960" cy="4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 algn="ctr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Z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784280" y="2366640"/>
              <a:ext cx="114120" cy="1141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765760" y="1569960"/>
              <a:ext cx="2093040" cy="1080"/>
            </a:xfrm>
            <a:prstGeom prst="line">
              <a:avLst/>
            </a:prstGeom>
            <a:ln w="2844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784280" y="1512720"/>
              <a:ext cx="114120" cy="113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708520" y="2366640"/>
              <a:ext cx="114480" cy="1141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708520" y="1512720"/>
              <a:ext cx="114480" cy="1137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 rot="10800000">
              <a:off x="7750440" y="1318680"/>
              <a:ext cx="214200" cy="178920"/>
            </a:xfrm>
            <a:custGeom>
              <a:avLst/>
              <a:gdLst/>
              <a:ahLst/>
              <a:rect l="l" t="t" r="r" b="b"/>
              <a:pathLst>
                <a:path w="18777" h="21344">
                  <a:moveTo>
                    <a:pt x="21600" y="21159"/>
                  </a:moveTo>
                  <a:cubicBezTo>
                    <a:pt x="18132" y="21600"/>
                    <a:pt x="14545" y="21248"/>
                    <a:pt x="11408" y="20159"/>
                  </a:cubicBezTo>
                  <a:cubicBezTo>
                    <a:pt x="2371" y="17020"/>
                    <a:pt x="0" y="9038"/>
                    <a:pt x="6549" y="3797"/>
                  </a:cubicBezTo>
                  <a:cubicBezTo>
                    <a:pt x="9543" y="1402"/>
                    <a:pt x="13947" y="14"/>
                    <a:pt x="18594" y="0"/>
                  </a:cubicBezTo>
                </a:path>
              </a:pathLst>
            </a:custGeom>
            <a:noFill/>
            <a:ln w="9360">
              <a:solidFill>
                <a:srgbClr val="5c6971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 rot="10800000">
              <a:off x="5673240" y="1318680"/>
              <a:ext cx="214200" cy="178920"/>
            </a:xfrm>
            <a:custGeom>
              <a:avLst/>
              <a:gdLst/>
              <a:ahLst/>
              <a:rect l="l" t="t" r="r" b="b"/>
              <a:pathLst>
                <a:path w="18777" h="21344">
                  <a:moveTo>
                    <a:pt x="21600" y="21159"/>
                  </a:moveTo>
                  <a:cubicBezTo>
                    <a:pt x="18132" y="21600"/>
                    <a:pt x="14545" y="21248"/>
                    <a:pt x="11408" y="20159"/>
                  </a:cubicBezTo>
                  <a:cubicBezTo>
                    <a:pt x="2371" y="17020"/>
                    <a:pt x="0" y="9038"/>
                    <a:pt x="6549" y="3797"/>
                  </a:cubicBezTo>
                  <a:cubicBezTo>
                    <a:pt x="9543" y="1402"/>
                    <a:pt x="13947" y="14"/>
                    <a:pt x="18594" y="0"/>
                  </a:cubicBezTo>
                </a:path>
              </a:pathLst>
            </a:custGeom>
            <a:noFill/>
            <a:ln w="9360">
              <a:solidFill>
                <a:srgbClr val="5c6971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355880" y="1142640"/>
              <a:ext cx="2304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 algn="ctr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5374080" y="1106640"/>
              <a:ext cx="23040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 algn="ctr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756040" y="2644560"/>
              <a:ext cx="2099520" cy="15480"/>
            </a:xfrm>
            <a:prstGeom prst="line">
              <a:avLst/>
            </a:prstGeom>
            <a:ln w="9360">
              <a:solidFill>
                <a:srgbClr val="5c6971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629400" y="2644560"/>
              <a:ext cx="146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 algn="ctr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Helvetica Light"/>
                  <a:ea typeface="Helvetica Light"/>
                </a:rPr>
                <a:t>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CC9B1-3C6E-40A8-BF2B-B4D15D3FFDC7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413400" y="287280"/>
            <a:ext cx="2954520" cy="468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542280" y="6388200"/>
            <a:ext cx="271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Semester, Nachrichtentechnik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54640" y="6388200"/>
            <a:ext cx="293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llen und Leitungen, Übersicht, S. Ru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2120" y="330120"/>
            <a:ext cx="8534160" cy="4701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2001a"/>
                </a:solidFill>
                <a:latin typeface="Arial"/>
              </a:rPr>
              <a:t>Inhaltsübersicht</a:t>
            </a:r>
            <a:endParaRPr b="0" lang="en-US" sz="2400" spc="-1" strike="noStrike">
              <a:solidFill>
                <a:srgbClr val="e2001a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62120" y="97740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Wellen und Leitunge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349200" indent="-284040">
              <a:lnSpc>
                <a:spcPct val="150000"/>
              </a:lnSpc>
              <a:spcBef>
                <a:spcPts val="601"/>
              </a:spcBef>
              <a:buClr>
                <a:srgbClr val="de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20000"/>
                </a:solidFill>
                <a:latin typeface="Arial"/>
              </a:rPr>
              <a:t>Schwingungen</a:t>
            </a:r>
            <a:r>
              <a:rPr b="0" lang="en-US" sz="2400" spc="-1" strike="noStrike">
                <a:solidFill>
                  <a:srgbClr val="de0000"/>
                </a:solidFill>
                <a:latin typeface="Arial"/>
              </a:rPr>
              <a:t> und Welle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349200" indent="-284040">
              <a:lnSpc>
                <a:spcPct val="150000"/>
              </a:lnSpc>
              <a:spcBef>
                <a:spcPts val="601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Reflexione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349200" indent="-284040">
              <a:lnSpc>
                <a:spcPct val="150000"/>
              </a:lnSpc>
              <a:spcBef>
                <a:spcPts val="601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Anpassung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349200" indent="-284040">
              <a:lnSpc>
                <a:spcPct val="150000"/>
              </a:lnSpc>
              <a:spcBef>
                <a:spcPts val="601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Wellenausbreitung in Zweileitersysteme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349200" indent="-284040">
              <a:lnSpc>
                <a:spcPct val="150000"/>
              </a:lnSpc>
              <a:spcBef>
                <a:spcPts val="601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Hintergründe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641BFA-2A4C-44E4-8399-C144305E979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" descr=""/>
          <p:cNvPicPr/>
          <p:nvPr/>
        </p:nvPicPr>
        <p:blipFill>
          <a:blip r:embed="rId1"/>
          <a:stretch/>
        </p:blipFill>
        <p:spPr>
          <a:xfrm>
            <a:off x="6413400" y="287280"/>
            <a:ext cx="2954520" cy="468360"/>
          </a:xfrm>
          <a:prstGeom prst="rect">
            <a:avLst/>
          </a:prstGeom>
          <a:ln w="0">
            <a:noFill/>
          </a:ln>
        </p:spPr>
      </p:pic>
      <p:sp>
        <p:nvSpPr>
          <p:cNvPr id="779" name=""/>
          <p:cNvSpPr/>
          <p:nvPr/>
        </p:nvSpPr>
        <p:spPr>
          <a:xfrm>
            <a:off x="6542280" y="6388200"/>
            <a:ext cx="271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Semester, Nachrichtentechnik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854640" y="6388200"/>
            <a:ext cx="293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llen und Leitungen, Übersicht, S. Ru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762120" y="330120"/>
            <a:ext cx="8534160" cy="4701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2001a"/>
                </a:solidFill>
                <a:latin typeface="Arial"/>
              </a:rPr>
              <a:t>Beispiel</a:t>
            </a:r>
            <a:endParaRPr b="0" lang="en-US" sz="2400" spc="-1" strike="noStrike">
              <a:solidFill>
                <a:srgbClr val="e2001a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762120" y="977760"/>
            <a:ext cx="8534160" cy="4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  <a:ea typeface="Arial"/>
              </a:rPr>
              <a:t>Halbwellenleitung (λ/2 Leitu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763560" y="4017960"/>
            <a:ext cx="8508960" cy="14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81000">
              <a:lnSpc>
                <a:spcPct val="15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6971"/>
                </a:solidFill>
                <a:latin typeface="Arial"/>
                <a:ea typeface="Arial"/>
              </a:rPr>
              <a:t>Keine Impedanz-Transformation, 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1000">
              <a:lnSpc>
                <a:spcPct val="15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6971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5c6971"/>
                </a:solidFill>
                <a:latin typeface="Symbol"/>
                <a:ea typeface="Symbol"/>
              </a:rPr>
              <a:t>β</a:t>
            </a:r>
            <a:r>
              <a:rPr b="0" lang="en-US" sz="2000" spc="-1" strike="noStrike">
                <a:solidFill>
                  <a:srgbClr val="5c6971"/>
                </a:solidFill>
                <a:latin typeface="Helvetica Light"/>
                <a:ea typeface="Helvetica Light"/>
              </a:rPr>
              <a:t>l</a:t>
            </a:r>
            <a:r>
              <a:rPr b="0" lang="en-US" sz="2000" spc="-1" strike="noStrike">
                <a:solidFill>
                  <a:srgbClr val="5c6971"/>
                </a:solidFill>
                <a:latin typeface="Arial"/>
                <a:ea typeface="Arial"/>
              </a:rPr>
              <a:t> = </a:t>
            </a:r>
            <a:r>
              <a:rPr b="0" lang="en-US" sz="1800" spc="-1" strike="noStrike">
                <a:solidFill>
                  <a:srgbClr val="5c6971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5c6971"/>
                </a:solidFill>
                <a:latin typeface="Symbol"/>
                <a:ea typeface="Symbol"/>
              </a:rPr>
              <a:t>∗</a:t>
            </a:r>
            <a:r>
              <a:rPr b="0" lang="en-US" sz="1800" spc="-1" strike="noStrike">
                <a:solidFill>
                  <a:srgbClr val="5c6971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>
                <a:solidFill>
                  <a:srgbClr val="5c6971"/>
                </a:solidFill>
                <a:latin typeface="Symbol"/>
                <a:ea typeface="Symbol"/>
              </a:rPr>
              <a:t>π</a:t>
            </a:r>
            <a:r>
              <a:rPr b="0" lang="en-US" sz="1800" spc="-1" strike="noStrike">
                <a:solidFill>
                  <a:srgbClr val="5c6971"/>
                </a:solidFill>
                <a:latin typeface="Arial"/>
                <a:ea typeface="Arial"/>
              </a:rPr>
              <a:t>/ </a:t>
            </a:r>
            <a:r>
              <a:rPr b="0" lang="en-US" sz="1800" spc="-1" strike="noStrike">
                <a:solidFill>
                  <a:srgbClr val="5c6971"/>
                </a:solidFill>
                <a:latin typeface="Symbol"/>
                <a:ea typeface="Symbol"/>
              </a:rPr>
              <a:t>λ∗λ</a:t>
            </a:r>
            <a:r>
              <a:rPr b="0" lang="en-US" sz="2000" spc="-1" strike="noStrike">
                <a:solidFill>
                  <a:srgbClr val="5c6971"/>
                </a:solidFill>
                <a:latin typeface="Symbol"/>
                <a:ea typeface="Symbol"/>
              </a:rPr>
              <a:t>π</a:t>
            </a:r>
            <a:r>
              <a:rPr b="0" lang="en-US" sz="2000" spc="-1" strike="noStrike">
                <a:solidFill>
                  <a:srgbClr val="5c6971"/>
                </a:solidFill>
                <a:latin typeface="Arial"/>
                <a:ea typeface="Arial"/>
              </a:rPr>
              <a:t>e</a:t>
            </a:r>
            <a:r>
              <a:rPr b="0" lang="en-US" sz="2000" spc="-1" strike="noStrike" baseline="30000">
                <a:solidFill>
                  <a:srgbClr val="5c6971"/>
                </a:solidFill>
                <a:latin typeface="Arial"/>
                <a:ea typeface="Arial"/>
              </a:rPr>
              <a:t>-j2</a:t>
            </a:r>
            <a:r>
              <a:rPr b="0" lang="en-US" sz="2000" spc="-1" strike="noStrike" baseline="30000">
                <a:solidFill>
                  <a:srgbClr val="5c6971"/>
                </a:solidFill>
                <a:latin typeface="Symbol"/>
                <a:ea typeface="Symbol"/>
              </a:rPr>
              <a:t>π</a:t>
            </a:r>
            <a:r>
              <a:rPr b="0" lang="en-US" sz="2000" spc="-1" strike="noStrike">
                <a:solidFill>
                  <a:srgbClr val="5c6971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5c6971"/>
                </a:solidFill>
                <a:latin typeface="Arial"/>
                <a:ea typeface="Arial"/>
              </a:rPr>
              <a:t>= 1 </a:t>
            </a:r>
            <a:r>
              <a:rPr b="0" lang="en-US" sz="2000" spc="-1" strike="noStrike">
                <a:solidFill>
                  <a:srgbClr val="5c6971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5c6971"/>
                </a:solidFill>
                <a:latin typeface="Symbol"/>
                <a:ea typeface="Symbol"/>
              </a:rPr>
              <a:t></a:t>
            </a:r>
            <a:r>
              <a:rPr b="0" lang="en-US" sz="2000" spc="-1" strike="noStrike">
                <a:solidFill>
                  <a:srgbClr val="5c6971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 u="sng">
                <a:solidFill>
                  <a:srgbClr val="5c6971"/>
                </a:solidFill>
                <a:uFillTx/>
                <a:latin typeface="Arial"/>
                <a:ea typeface="Arial"/>
              </a:rPr>
              <a:t>r</a:t>
            </a:r>
            <a:r>
              <a:rPr b="0" lang="en-US" sz="2000" spc="-1" strike="noStrike" baseline="-25000">
                <a:solidFill>
                  <a:srgbClr val="5c6971"/>
                </a:solidFill>
                <a:latin typeface="Arial"/>
                <a:ea typeface="Arial"/>
              </a:rPr>
              <a:t>1</a:t>
            </a:r>
            <a:r>
              <a:rPr b="0" lang="en-US" sz="2000" spc="-1" strike="noStrike">
                <a:solidFill>
                  <a:srgbClr val="5c6971"/>
                </a:solidFill>
                <a:latin typeface="Arial"/>
                <a:ea typeface="Arial"/>
              </a:rPr>
              <a:t> =  </a:t>
            </a:r>
            <a:r>
              <a:rPr b="0" lang="en-US" sz="2000" spc="-1" strike="noStrike" u="sng">
                <a:solidFill>
                  <a:srgbClr val="5c6971"/>
                </a:solidFill>
                <a:uFillTx/>
                <a:latin typeface="Arial"/>
                <a:ea typeface="Arial"/>
              </a:rPr>
              <a:t>r</a:t>
            </a:r>
            <a:r>
              <a:rPr b="0" lang="en-US" sz="2000" spc="-1" strike="noStrike" baseline="-25000">
                <a:solidFill>
                  <a:srgbClr val="5c6971"/>
                </a:solidFill>
                <a:latin typeface="Arial"/>
                <a:ea typeface="Arial"/>
              </a:rPr>
              <a:t>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5038560" y="1905120"/>
            <a:ext cx="1800" cy="134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8153280" y="1889280"/>
            <a:ext cx="1800" cy="135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5043600" y="3024360"/>
            <a:ext cx="3112920" cy="1440"/>
          </a:xfrm>
          <a:prstGeom prst="line">
            <a:avLst/>
          </a:prstGeom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7400880" y="2579760"/>
            <a:ext cx="34632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Arial Bold"/>
                <a:ea typeface="Arial Bold"/>
              </a:rPr>
              <a:t>R</a:t>
            </a:r>
            <a:r>
              <a:rPr b="0" lang="en-US" sz="1800" spc="-1" strike="noStrike" baseline="-25000">
                <a:solidFill>
                  <a:srgbClr val="0070c0"/>
                </a:solidFill>
                <a:latin typeface="Arial Bold"/>
                <a:ea typeface="Arial Bold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8175600" y="2163600"/>
            <a:ext cx="547560" cy="1800"/>
          </a:xfrm>
          <a:prstGeom prst="line">
            <a:avLst/>
          </a:prstGeom>
          <a:ln w="1908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8153280" y="3019320"/>
            <a:ext cx="568440" cy="1800"/>
          </a:xfrm>
          <a:prstGeom prst="line">
            <a:avLst/>
          </a:prstGeom>
          <a:ln w="1908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 flipH="1">
            <a:off x="8721720" y="2163600"/>
            <a:ext cx="1440" cy="855720"/>
          </a:xfrm>
          <a:prstGeom prst="line">
            <a:avLst/>
          </a:prstGeom>
          <a:ln w="1908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rot="5400000">
            <a:off x="8507160" y="2409480"/>
            <a:ext cx="506520" cy="316080"/>
          </a:xfrm>
          <a:prstGeom prst="rect">
            <a:avLst/>
          </a:prstGeom>
          <a:solidFill>
            <a:srgbClr val="ffffff"/>
          </a:solidFill>
          <a:ln w="1908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8512200" y="2359080"/>
            <a:ext cx="5079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Z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8082000" y="2960640"/>
            <a:ext cx="114120" cy="11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5043600" y="2163600"/>
            <a:ext cx="3112920" cy="1800"/>
          </a:xfrm>
          <a:prstGeom prst="line">
            <a:avLst/>
          </a:prstGeom>
          <a:ln w="2844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8082000" y="2106720"/>
            <a:ext cx="114120" cy="11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4991040" y="2960640"/>
            <a:ext cx="114480" cy="114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4991040" y="2106720"/>
            <a:ext cx="114480" cy="1141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rot="10800000">
            <a:off x="8048520" y="1913040"/>
            <a:ext cx="214560" cy="179280"/>
          </a:xfrm>
          <a:custGeom>
            <a:avLst/>
            <a:gdLst/>
            <a:ahLst/>
            <a:rect l="l" t="t" r="r" b="b"/>
            <a:pathLst>
              <a:path w="18777" h="21344">
                <a:moveTo>
                  <a:pt x="21600" y="21159"/>
                </a:moveTo>
                <a:cubicBezTo>
                  <a:pt x="18132" y="21600"/>
                  <a:pt x="14545" y="21248"/>
                  <a:pt x="11408" y="20159"/>
                </a:cubicBezTo>
                <a:cubicBezTo>
                  <a:pt x="2371" y="17020"/>
                  <a:pt x="0" y="9038"/>
                  <a:pt x="6549" y="3797"/>
                </a:cubicBezTo>
                <a:cubicBezTo>
                  <a:pt x="9543" y="1402"/>
                  <a:pt x="13947" y="14"/>
                  <a:pt x="18594" y="0"/>
                </a:cubicBezTo>
              </a:path>
            </a:pathLst>
          </a:custGeom>
          <a:noFill/>
          <a:ln w="9360">
            <a:solidFill>
              <a:srgbClr val="5c697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rot="10800000">
            <a:off x="4957560" y="1913040"/>
            <a:ext cx="214200" cy="179280"/>
          </a:xfrm>
          <a:custGeom>
            <a:avLst/>
            <a:gdLst/>
            <a:ahLst/>
            <a:rect l="l" t="t" r="r" b="b"/>
            <a:pathLst>
              <a:path w="18777" h="21344">
                <a:moveTo>
                  <a:pt x="21600" y="21159"/>
                </a:moveTo>
                <a:cubicBezTo>
                  <a:pt x="18132" y="21600"/>
                  <a:pt x="14545" y="21248"/>
                  <a:pt x="11408" y="20159"/>
                </a:cubicBezTo>
                <a:cubicBezTo>
                  <a:pt x="2371" y="17020"/>
                  <a:pt x="0" y="9038"/>
                  <a:pt x="6549" y="3797"/>
                </a:cubicBezTo>
                <a:cubicBezTo>
                  <a:pt x="9543" y="1402"/>
                  <a:pt x="13947" y="14"/>
                  <a:pt x="18594" y="0"/>
                </a:cubicBezTo>
              </a:path>
            </a:pathLst>
          </a:custGeom>
          <a:noFill/>
          <a:ln w="9360">
            <a:solidFill>
              <a:srgbClr val="5c6971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7652160" y="1738440"/>
            <a:ext cx="2304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4656600" y="1701720"/>
            <a:ext cx="230400" cy="3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048280" y="3254400"/>
            <a:ext cx="3114720" cy="1440"/>
          </a:xfrm>
          <a:prstGeom prst="line">
            <a:avLst/>
          </a:prstGeom>
          <a:ln w="9360">
            <a:solidFill>
              <a:srgbClr val="5c6971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138360" y="3254400"/>
            <a:ext cx="88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elvetica Light"/>
                <a:ea typeface="Helvetica Light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λ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119680" y="2360520"/>
            <a:ext cx="1438920" cy="4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 algn="ctr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5c6971"/>
                </a:solidFill>
                <a:uFillTx/>
                <a:latin typeface="Arial"/>
                <a:ea typeface="Arial"/>
              </a:rPr>
              <a:t>r</a:t>
            </a:r>
            <a:r>
              <a:rPr b="0" lang="en-US" sz="2400" spc="-1" strike="noStrike" baseline="-25000">
                <a:solidFill>
                  <a:srgbClr val="5c6971"/>
                </a:solidFill>
                <a:latin typeface="Arial"/>
                <a:ea typeface="Arial"/>
              </a:rPr>
              <a:t>1 </a:t>
            </a:r>
            <a:r>
              <a:rPr b="0" lang="en-US" sz="2400" spc="-1" strike="noStrike">
                <a:solidFill>
                  <a:srgbClr val="5c6971"/>
                </a:solidFill>
                <a:latin typeface="Arial"/>
                <a:ea typeface="Arial"/>
              </a:rPr>
              <a:t>= </a:t>
            </a:r>
            <a:r>
              <a:rPr b="0" lang="en-US" sz="2400" spc="-1" strike="noStrike" u="sng">
                <a:solidFill>
                  <a:srgbClr val="5c6971"/>
                </a:solidFill>
                <a:uFillTx/>
                <a:latin typeface="Arial"/>
                <a:ea typeface="Arial"/>
              </a:rPr>
              <a:t>r</a:t>
            </a:r>
            <a:r>
              <a:rPr b="0" lang="en-US" sz="2400" spc="-1" strike="noStrike" baseline="-25000">
                <a:solidFill>
                  <a:srgbClr val="5c6971"/>
                </a:solidFill>
                <a:latin typeface="Arial"/>
                <a:ea typeface="Arial"/>
              </a:rPr>
              <a:t>L</a:t>
            </a:r>
            <a:r>
              <a:rPr b="0" lang="en-US" sz="2400" spc="-1" strike="noStrike">
                <a:solidFill>
                  <a:srgbClr val="5c6971"/>
                </a:solidFill>
                <a:latin typeface="Arial"/>
                <a:ea typeface="Arial"/>
              </a:rPr>
              <a:t> e</a:t>
            </a:r>
            <a:r>
              <a:rPr b="0" lang="en-US" sz="2400" spc="-1" strike="noStrike" baseline="30000">
                <a:solidFill>
                  <a:srgbClr val="5c6971"/>
                </a:solidFill>
                <a:latin typeface="Arial"/>
                <a:ea typeface="Arial"/>
              </a:rPr>
              <a:t>–j</a:t>
            </a:r>
            <a:r>
              <a:rPr b="0" lang="en-US" sz="2400" spc="-1" strike="noStrike" baseline="30000">
                <a:solidFill>
                  <a:srgbClr val="5c6971"/>
                </a:solidFill>
                <a:latin typeface="Symbol"/>
                <a:ea typeface="Symbol"/>
              </a:rPr>
              <a:t>β</a:t>
            </a:r>
            <a:r>
              <a:rPr b="0" lang="en-US" sz="2400" spc="-1" strike="noStrike" baseline="30000">
                <a:solidFill>
                  <a:srgbClr val="5c6971"/>
                </a:solidFill>
                <a:latin typeface="Arial"/>
                <a:ea typeface="Arial"/>
              </a:rPr>
              <a:t>2</a:t>
            </a:r>
            <a:r>
              <a:rPr b="0" lang="en-US" sz="2800" spc="-1" strike="noStrike" baseline="30000">
                <a:solidFill>
                  <a:srgbClr val="5c6971"/>
                </a:solidFill>
                <a:latin typeface="Helvetica Light"/>
                <a:ea typeface="Helvetica Light"/>
              </a:rPr>
              <a:t>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F71A3-F392-4202-8878-34708B0C4D19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762120" y="998640"/>
            <a:ext cx="8450280" cy="53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5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6971"/>
                </a:solidFill>
                <a:latin typeface="Arial"/>
                <a:ea typeface="Arial"/>
              </a:rPr>
              <a:t>Model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5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5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5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5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6971"/>
                </a:solidFill>
                <a:latin typeface="Arial"/>
                <a:ea typeface="Arial"/>
              </a:rPr>
              <a:t>Praktische Relevanz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50000"/>
              </a:lnSpc>
              <a:spcBef>
                <a:spcPts val="737"/>
              </a:spcBef>
              <a:buClr>
                <a:srgbClr val="5c69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6971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5c6971"/>
                </a:solidFill>
                <a:latin typeface="Arial"/>
                <a:ea typeface="Arial"/>
              </a:rPr>
              <a:t>HF-Technik (f &gt; 100 kHz): annähernd verlust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5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‘: Skin-Effekt, frequenzabhängiger Bel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5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‘: Verluste durch Dielektrik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5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6971"/>
                </a:solidFill>
                <a:latin typeface="Arial"/>
                <a:ea typeface="Arial"/>
              </a:rPr>
              <a:t>(2) Telefonleitung (f &lt; 10 kHz): komplexer Wellenwiderst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5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‘ wegen langer Leitun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6" name="" descr=""/>
          <p:cNvPicPr/>
          <p:nvPr/>
        </p:nvPicPr>
        <p:blipFill>
          <a:blip r:embed="rId1"/>
          <a:stretch/>
        </p:blipFill>
        <p:spPr>
          <a:xfrm>
            <a:off x="6413400" y="287280"/>
            <a:ext cx="2954520" cy="468360"/>
          </a:xfrm>
          <a:prstGeom prst="rect">
            <a:avLst/>
          </a:prstGeom>
          <a:ln w="0">
            <a:noFill/>
          </a:ln>
        </p:spPr>
      </p:pic>
      <p:sp>
        <p:nvSpPr>
          <p:cNvPr id="807" name=""/>
          <p:cNvSpPr/>
          <p:nvPr/>
        </p:nvSpPr>
        <p:spPr>
          <a:xfrm>
            <a:off x="6542280" y="6388200"/>
            <a:ext cx="271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Semester, Nachrichtentechnik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54640" y="6388200"/>
            <a:ext cx="293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llen und Leitungen, Übersicht, S. Ru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762120" y="330120"/>
            <a:ext cx="8534160" cy="4701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2001a"/>
                </a:solidFill>
                <a:latin typeface="Arial"/>
              </a:rPr>
              <a:t>Verlustbehaftete Leitung</a:t>
            </a:r>
            <a:endParaRPr b="0" lang="en-US" sz="2400" spc="-1" strike="noStrike">
              <a:solidFill>
                <a:srgbClr val="e2001a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6192720" y="4149720"/>
            <a:ext cx="23623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5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6971"/>
                </a:solidFill>
                <a:latin typeface="Arial"/>
                <a:ea typeface="Arial"/>
              </a:rPr>
              <a:t>können separat betrachtet werd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5964120" y="4184640"/>
            <a:ext cx="173160" cy="7477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cubicBezTo>
                  <a:pt x="5965" y="0"/>
                  <a:pt x="10800" y="187"/>
                  <a:pt x="10800" y="418"/>
                </a:cubicBezTo>
                <a:lnTo>
                  <a:pt x="10800" y="10382"/>
                </a:lnTo>
                <a:cubicBezTo>
                  <a:pt x="10800" y="10613"/>
                  <a:pt x="15635" y="10800"/>
                  <a:pt x="21600" y="10800"/>
                </a:cubicBezTo>
                <a:cubicBezTo>
                  <a:pt x="15635" y="10800"/>
                  <a:pt x="10800" y="10987"/>
                  <a:pt x="10800" y="11218"/>
                </a:cubicBezTo>
                <a:lnTo>
                  <a:pt x="10800" y="21182"/>
                </a:lnTo>
                <a:cubicBezTo>
                  <a:pt x="10800" y="21413"/>
                  <a:pt x="5965" y="21600"/>
                  <a:pt x="0" y="21600"/>
                </a:cubicBezTo>
              </a:path>
            </a:pathLst>
          </a:custGeom>
          <a:noFill/>
          <a:ln w="9360">
            <a:solidFill>
              <a:srgbClr val="5c697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" name=""/>
          <p:cNvGrpSpPr/>
          <p:nvPr/>
        </p:nvGrpSpPr>
        <p:grpSpPr>
          <a:xfrm>
            <a:off x="2255760" y="1746360"/>
            <a:ext cx="2293560" cy="1239480"/>
            <a:chOff x="2255760" y="1746360"/>
            <a:chExt cx="2293560" cy="1239480"/>
          </a:xfrm>
        </p:grpSpPr>
        <p:sp>
          <p:nvSpPr>
            <p:cNvPr id="813" name=""/>
            <p:cNvSpPr/>
            <p:nvPr/>
          </p:nvSpPr>
          <p:spPr>
            <a:xfrm>
              <a:off x="3334320" y="2112120"/>
              <a:ext cx="1132200" cy="1800"/>
            </a:xfrm>
            <a:prstGeom prst="line">
              <a:avLst/>
            </a:prstGeom>
            <a:ln w="93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871720" y="1751040"/>
              <a:ext cx="446760" cy="12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5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5c6971"/>
                  </a:solidFill>
                  <a:latin typeface="Symbol"/>
                  <a:ea typeface="Symbol"/>
                </a:rPr>
                <a:t>√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371760" y="1747800"/>
              <a:ext cx="1041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c6971"/>
                  </a:solidFill>
                  <a:latin typeface="Arial"/>
                  <a:ea typeface="Arial"/>
                </a:rPr>
                <a:t>R‘ + j</a:t>
              </a:r>
              <a:r>
                <a:rPr b="0" lang="en-US" sz="2000" spc="-1" strike="noStrike">
                  <a:solidFill>
                    <a:srgbClr val="5c6971"/>
                  </a:solidFill>
                  <a:latin typeface="Symbol"/>
                  <a:ea typeface="Symbol"/>
                </a:rPr>
                <a:t>ω</a:t>
              </a:r>
              <a:r>
                <a:rPr b="0" lang="en-US" sz="2000" spc="-1" strike="noStrike">
                  <a:solidFill>
                    <a:srgbClr val="5c6971"/>
                  </a:solidFill>
                  <a:latin typeface="Arial"/>
                  <a:ea typeface="Arial"/>
                </a:rPr>
                <a:t>L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364200" y="2102760"/>
              <a:ext cx="1097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5c6971"/>
                  </a:solidFill>
                  <a:latin typeface="Arial"/>
                  <a:ea typeface="Arial"/>
                </a:rPr>
                <a:t>G‘ + j</a:t>
              </a:r>
              <a:r>
                <a:rPr b="0" lang="en-US" sz="2000" spc="-1" strike="noStrike">
                  <a:solidFill>
                    <a:srgbClr val="5c6971"/>
                  </a:solidFill>
                  <a:latin typeface="Symbol"/>
                  <a:ea typeface="Symbol"/>
                </a:rPr>
                <a:t>ω</a:t>
              </a:r>
              <a:r>
                <a:rPr b="0" lang="en-US" sz="2000" spc="-1" strike="noStrike">
                  <a:solidFill>
                    <a:srgbClr val="5c6971"/>
                  </a:solidFill>
                  <a:latin typeface="Arial"/>
                  <a:ea typeface="Arial"/>
                </a:rPr>
                <a:t>C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277080" y="1746360"/>
              <a:ext cx="1272240" cy="1440"/>
            </a:xfrm>
            <a:prstGeom prst="line">
              <a:avLst/>
            </a:prstGeom>
            <a:ln w="12600">
              <a:solidFill>
                <a:srgbClr val="5c697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255760" y="1933920"/>
              <a:ext cx="56268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 u="sng">
                  <a:solidFill>
                    <a:srgbClr val="5c6971"/>
                  </a:solidFill>
                  <a:uFillTx/>
                  <a:latin typeface="Arial"/>
                  <a:ea typeface="Arial"/>
                </a:rPr>
                <a:t>Z</a:t>
              </a:r>
              <a:r>
                <a:rPr b="0" lang="en-US" sz="2000" spc="-1" strike="noStrike" baseline="-25000">
                  <a:solidFill>
                    <a:srgbClr val="5c6971"/>
                  </a:solidFill>
                  <a:latin typeface="Arial"/>
                  <a:ea typeface="Arial"/>
                </a:rPr>
                <a:t>w</a:t>
              </a:r>
              <a:r>
                <a:rPr b="0" lang="en-US" sz="2000" spc="-1" strike="noStrike">
                  <a:solidFill>
                    <a:srgbClr val="5c6971"/>
                  </a:solidFill>
                  <a:latin typeface="Arial"/>
                  <a:ea typeface="Arial"/>
                </a:rPr>
                <a:t>=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5291280" y="1301760"/>
            <a:ext cx="3692880" cy="1335240"/>
            <a:chOff x="5291280" y="1301760"/>
            <a:chExt cx="3692880" cy="1335240"/>
          </a:xfrm>
        </p:grpSpPr>
        <p:sp>
          <p:nvSpPr>
            <p:cNvPr id="820" name=""/>
            <p:cNvSpPr/>
            <p:nvPr/>
          </p:nvSpPr>
          <p:spPr>
            <a:xfrm>
              <a:off x="7762320" y="1771560"/>
              <a:ext cx="1440" cy="863640"/>
            </a:xfrm>
            <a:prstGeom prst="line">
              <a:avLst/>
            </a:prstGeom>
            <a:ln w="2844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V="1">
              <a:off x="8262720" y="2158560"/>
              <a:ext cx="342720" cy="1800"/>
            </a:xfrm>
            <a:prstGeom prst="line">
              <a:avLst/>
            </a:prstGeom>
            <a:ln w="2844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V="1">
              <a:off x="8262720" y="2224080"/>
              <a:ext cx="342720" cy="1440"/>
            </a:xfrm>
            <a:prstGeom prst="line">
              <a:avLst/>
            </a:prstGeom>
            <a:ln w="2844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429400" y="1792440"/>
              <a:ext cx="1440" cy="365040"/>
            </a:xfrm>
            <a:prstGeom prst="line">
              <a:avLst/>
            </a:prstGeom>
            <a:ln w="2844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8427600" y="2225520"/>
              <a:ext cx="6480" cy="409680"/>
            </a:xfrm>
            <a:prstGeom prst="line">
              <a:avLst/>
            </a:prstGeom>
            <a:ln w="2844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6696720" y="1662120"/>
              <a:ext cx="234720" cy="112680"/>
            </a:xfrm>
            <a:custGeom>
              <a:avLst/>
              <a:gdLst/>
              <a:ahLst/>
              <a:rect l="l" t="t" r="r" b="b"/>
              <a:pathLst>
                <a:path w="21472" h="20754">
                  <a:moveTo>
                    <a:pt x="134" y="21600"/>
                  </a:moveTo>
                  <a:cubicBezTo>
                    <a:pt x="0" y="14071"/>
                    <a:pt x="2129" y="7034"/>
                    <a:pt x="5649" y="3375"/>
                  </a:cubicBezTo>
                  <a:cubicBezTo>
                    <a:pt x="8795" y="104"/>
                    <a:pt x="12607" y="0"/>
                    <a:pt x="15803" y="3097"/>
                  </a:cubicBezTo>
                  <a:cubicBezTo>
                    <a:pt x="19364" y="6550"/>
                    <a:pt x="21600" y="13428"/>
                    <a:pt x="21600" y="20933"/>
                  </a:cubicBezTo>
                </a:path>
              </a:pathLst>
            </a:custGeom>
            <a:noFill/>
            <a:ln w="2844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6931440" y="1671480"/>
              <a:ext cx="235080" cy="111240"/>
            </a:xfrm>
            <a:custGeom>
              <a:avLst/>
              <a:gdLst/>
              <a:ahLst/>
              <a:rect l="l" t="t" r="r" b="b"/>
              <a:pathLst>
                <a:path w="21472" h="20754">
                  <a:moveTo>
                    <a:pt x="134" y="21600"/>
                  </a:moveTo>
                  <a:cubicBezTo>
                    <a:pt x="0" y="14071"/>
                    <a:pt x="2129" y="7034"/>
                    <a:pt x="5649" y="3375"/>
                  </a:cubicBezTo>
                  <a:cubicBezTo>
                    <a:pt x="8795" y="104"/>
                    <a:pt x="12607" y="0"/>
                    <a:pt x="15803" y="3097"/>
                  </a:cubicBezTo>
                  <a:cubicBezTo>
                    <a:pt x="19364" y="6550"/>
                    <a:pt x="21600" y="13428"/>
                    <a:pt x="21600" y="20933"/>
                  </a:cubicBezTo>
                </a:path>
              </a:pathLst>
            </a:custGeom>
            <a:noFill/>
            <a:ln w="2844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7157160" y="1671480"/>
              <a:ext cx="236520" cy="111240"/>
            </a:xfrm>
            <a:custGeom>
              <a:avLst/>
              <a:gdLst/>
              <a:ahLst/>
              <a:rect l="l" t="t" r="r" b="b"/>
              <a:pathLst>
                <a:path w="21471" h="20763">
                  <a:moveTo>
                    <a:pt x="135" y="21600"/>
                  </a:moveTo>
                  <a:cubicBezTo>
                    <a:pt x="0" y="14047"/>
                    <a:pt x="2141" y="6991"/>
                    <a:pt x="5677" y="3338"/>
                  </a:cubicBezTo>
                  <a:cubicBezTo>
                    <a:pt x="8809" y="103"/>
                    <a:pt x="12596" y="0"/>
                    <a:pt x="15777" y="3064"/>
                  </a:cubicBezTo>
                  <a:cubicBezTo>
                    <a:pt x="19353" y="6507"/>
                    <a:pt x="21600" y="13402"/>
                    <a:pt x="21600" y="20928"/>
                  </a:cubicBezTo>
                </a:path>
              </a:pathLst>
            </a:custGeom>
            <a:noFill/>
            <a:ln w="2844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461640" y="1671480"/>
              <a:ext cx="235080" cy="111240"/>
            </a:xfrm>
            <a:custGeom>
              <a:avLst/>
              <a:gdLst/>
              <a:ahLst/>
              <a:rect l="l" t="t" r="r" b="b"/>
              <a:pathLst>
                <a:path w="21472" h="20754">
                  <a:moveTo>
                    <a:pt x="134" y="21600"/>
                  </a:moveTo>
                  <a:cubicBezTo>
                    <a:pt x="0" y="14071"/>
                    <a:pt x="2129" y="7034"/>
                    <a:pt x="5649" y="3375"/>
                  </a:cubicBezTo>
                  <a:cubicBezTo>
                    <a:pt x="8795" y="104"/>
                    <a:pt x="12607" y="0"/>
                    <a:pt x="15803" y="3097"/>
                  </a:cubicBezTo>
                  <a:cubicBezTo>
                    <a:pt x="19364" y="6550"/>
                    <a:pt x="21600" y="13428"/>
                    <a:pt x="21600" y="20933"/>
                  </a:cubicBezTo>
                </a:path>
              </a:pathLst>
            </a:custGeom>
            <a:noFill/>
            <a:ln w="2844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291280" y="1779480"/>
              <a:ext cx="1163880" cy="1800"/>
            </a:xfrm>
            <a:prstGeom prst="line">
              <a:avLst/>
            </a:prstGeom>
            <a:ln w="2844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V="1">
              <a:off x="7392960" y="1771200"/>
              <a:ext cx="1440360" cy="1800"/>
            </a:xfrm>
            <a:prstGeom prst="line">
              <a:avLst/>
            </a:prstGeom>
            <a:ln w="2844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91280" y="2635200"/>
              <a:ext cx="3542760" cy="1800"/>
            </a:xfrm>
            <a:prstGeom prst="line">
              <a:avLst/>
            </a:prstGeom>
            <a:ln w="2844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623200" y="1633680"/>
              <a:ext cx="583920" cy="274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rot="5400000">
              <a:off x="7468200" y="2087640"/>
              <a:ext cx="585720" cy="274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6786000" y="1301760"/>
              <a:ext cx="25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8688240" y="1979640"/>
              <a:ext cx="295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771160" y="1301760"/>
              <a:ext cx="295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206480" y="1973160"/>
              <a:ext cx="3096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66460-C264-4042-8DCC-08BDB5F6F53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" descr=""/>
          <p:cNvPicPr/>
          <p:nvPr/>
        </p:nvPicPr>
        <p:blipFill>
          <a:blip r:embed="rId1"/>
          <a:stretch/>
        </p:blipFill>
        <p:spPr>
          <a:xfrm>
            <a:off x="6413400" y="287280"/>
            <a:ext cx="2954520" cy="468360"/>
          </a:xfrm>
          <a:prstGeom prst="rect">
            <a:avLst/>
          </a:prstGeom>
          <a:ln w="0">
            <a:noFill/>
          </a:ln>
        </p:spPr>
      </p:pic>
      <p:sp>
        <p:nvSpPr>
          <p:cNvPr id="839" name=""/>
          <p:cNvSpPr/>
          <p:nvPr/>
        </p:nvSpPr>
        <p:spPr>
          <a:xfrm>
            <a:off x="6542280" y="6388200"/>
            <a:ext cx="271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Semester, Nachrichtentechnik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854640" y="6388200"/>
            <a:ext cx="293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llen und Leitungen, Übersicht, S. Ru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762120" y="330120"/>
            <a:ext cx="8534160" cy="4701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2001a"/>
                </a:solidFill>
                <a:latin typeface="Arial"/>
              </a:rPr>
              <a:t>Inhaltsübersicht</a:t>
            </a:r>
            <a:endParaRPr b="0" lang="en-US" sz="2400" spc="-1" strike="noStrike">
              <a:solidFill>
                <a:srgbClr val="e2001a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762120" y="97740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Wellen und Leitunge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349200" indent="-284040">
              <a:lnSpc>
                <a:spcPct val="150000"/>
              </a:lnSpc>
              <a:spcBef>
                <a:spcPts val="601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Schwingungen und Welle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349200" indent="-284040">
              <a:lnSpc>
                <a:spcPct val="150000"/>
              </a:lnSpc>
              <a:spcBef>
                <a:spcPts val="601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Reflexione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349200" indent="-284040">
              <a:lnSpc>
                <a:spcPct val="150000"/>
              </a:lnSpc>
              <a:spcBef>
                <a:spcPts val="601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Anpassung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349200" indent="-284040">
              <a:lnSpc>
                <a:spcPct val="150000"/>
              </a:lnSpc>
              <a:spcBef>
                <a:spcPts val="601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Wellenausbreitung in Zweileitersysteme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349200" indent="-284040">
              <a:lnSpc>
                <a:spcPct val="150000"/>
              </a:lnSpc>
              <a:spcBef>
                <a:spcPts val="601"/>
              </a:spcBef>
              <a:buClr>
                <a:srgbClr val="d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0000"/>
                </a:solidFill>
                <a:latin typeface="Arial"/>
              </a:rPr>
              <a:t>Hintergründe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4CEB8-2DFE-4ECE-9F9B-1F828366A8D9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" descr=""/>
          <p:cNvPicPr/>
          <p:nvPr/>
        </p:nvPicPr>
        <p:blipFill>
          <a:blip r:embed="rId1"/>
          <a:stretch/>
        </p:blipFill>
        <p:spPr>
          <a:xfrm>
            <a:off x="6413400" y="287280"/>
            <a:ext cx="2954520" cy="468360"/>
          </a:xfrm>
          <a:prstGeom prst="rect">
            <a:avLst/>
          </a:prstGeom>
          <a:ln w="0">
            <a:noFill/>
          </a:ln>
        </p:spPr>
      </p:pic>
      <p:sp>
        <p:nvSpPr>
          <p:cNvPr id="844" name=""/>
          <p:cNvSpPr/>
          <p:nvPr/>
        </p:nvSpPr>
        <p:spPr>
          <a:xfrm>
            <a:off x="6542280" y="6388200"/>
            <a:ext cx="271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Semester, Nachrichtentechnik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854640" y="6388200"/>
            <a:ext cx="293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llen und Leitungen, Übersicht, S. Ru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762120" y="330120"/>
            <a:ext cx="8534160" cy="4701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2001a"/>
                </a:solidFill>
                <a:latin typeface="Arial"/>
              </a:rPr>
              <a:t>Reflexionen</a:t>
            </a:r>
            <a:endParaRPr b="0" lang="en-US" sz="2400" spc="-1" strike="noStrike">
              <a:solidFill>
                <a:srgbClr val="e2001a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762120" y="3279600"/>
            <a:ext cx="8578800" cy="357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43080" indent="-343080">
              <a:lnSpc>
                <a:spcPct val="150000"/>
              </a:lnSpc>
              <a:spcBef>
                <a:spcPts val="737"/>
              </a:spcBef>
              <a:buClr>
                <a:srgbClr val="5c69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6971"/>
                </a:solidFill>
                <a:latin typeface="Arial"/>
                <a:ea typeface="Arial"/>
              </a:rPr>
              <a:t>Stetigkeit an der Grenzfläch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38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38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 /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W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/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W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37"/>
              </a:spcBef>
              <a:buClr>
                <a:srgbClr val="5c697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6971"/>
                </a:solidFill>
                <a:latin typeface="Arial"/>
                <a:ea typeface="Arial"/>
              </a:rPr>
              <a:t>Definitione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lexionsfak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/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W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-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W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 / 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W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W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ransmissionsfakt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t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/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2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W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/ (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W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+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Z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W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8" name=""/>
          <p:cNvGrpSpPr/>
          <p:nvPr/>
        </p:nvGrpSpPr>
        <p:grpSpPr>
          <a:xfrm>
            <a:off x="1869480" y="1089000"/>
            <a:ext cx="7373880" cy="2192400"/>
            <a:chOff x="1869480" y="1089000"/>
            <a:chExt cx="7373880" cy="2192400"/>
          </a:xfrm>
        </p:grpSpPr>
        <p:sp>
          <p:nvSpPr>
            <p:cNvPr id="849" name=""/>
            <p:cNvSpPr/>
            <p:nvPr/>
          </p:nvSpPr>
          <p:spPr>
            <a:xfrm>
              <a:off x="5875200" y="1114560"/>
              <a:ext cx="1800" cy="1890360"/>
            </a:xfrm>
            <a:prstGeom prst="line">
              <a:avLst/>
            </a:prstGeom>
            <a:ln w="28440">
              <a:solidFill>
                <a:srgbClr val="7575d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 flipV="1">
              <a:off x="4095000" y="2073600"/>
              <a:ext cx="1220760" cy="3240"/>
            </a:xfrm>
            <a:prstGeom prst="line">
              <a:avLst/>
            </a:prstGeom>
            <a:ln w="38160">
              <a:solidFill>
                <a:srgbClr val="92d05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6427800" y="2077200"/>
              <a:ext cx="1104840" cy="9360"/>
            </a:xfrm>
            <a:prstGeom prst="line">
              <a:avLst/>
            </a:prstGeom>
            <a:ln w="28440">
              <a:solidFill>
                <a:srgbClr val="92d05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199120" y="3006720"/>
              <a:ext cx="131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enzfläc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1869480" y="1876680"/>
              <a:ext cx="1926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70c0"/>
                  </a:solidFill>
                  <a:latin typeface="Arial Bold Italic"/>
                  <a:ea typeface="Arial Bold Italic"/>
                </a:rPr>
                <a:t>Einfallende We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986200" y="2443680"/>
              <a:ext cx="1079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70c0"/>
                  </a:solidFill>
                  <a:latin typeface="Arial Bold Italic"/>
                  <a:ea typeface="Arial Bold Italic"/>
                </a:rPr>
                <a:t>Reflex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729920" y="1865520"/>
              <a:ext cx="1513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70c0"/>
                  </a:solidFill>
                  <a:latin typeface="Arial Bold Italic"/>
                  <a:ea typeface="Arial Bold Italic"/>
                </a:rPr>
                <a:t>Transmis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4216320" y="2619000"/>
              <a:ext cx="1100160" cy="1440"/>
            </a:xfrm>
            <a:prstGeom prst="line">
              <a:avLst/>
            </a:prstGeom>
            <a:ln w="28440">
              <a:solidFill>
                <a:srgbClr val="92d05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179600" y="1506600"/>
              <a:ext cx="13471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Z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W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εμσ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149520" y="1496880"/>
              <a:ext cx="13471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  <a:ea typeface="Arial"/>
                </a:rPr>
                <a:t>Z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W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(</a:t>
              </a: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εμσ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192000" y="1089000"/>
              <a:ext cx="1082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dium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383000" y="1089000"/>
              <a:ext cx="1082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Medium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442480" y="1870560"/>
              <a:ext cx="3841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70c0"/>
                  </a:solidFill>
                  <a:uFillTx/>
                  <a:latin typeface="Arial"/>
                  <a:ea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0070c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 baseline="30000">
                  <a:solidFill>
                    <a:srgbClr val="0070c0"/>
                  </a:solidFill>
                  <a:latin typeface="Arial"/>
                  <a:ea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446800" y="2434320"/>
              <a:ext cx="35064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70c0"/>
                  </a:solidFill>
                  <a:uFillTx/>
                  <a:latin typeface="Arial"/>
                  <a:ea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0070c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 baseline="30000">
                  <a:solidFill>
                    <a:srgbClr val="0070c0"/>
                  </a:solidFill>
                  <a:latin typeface="Arial"/>
                  <a:ea typeface="Arial"/>
                </a:rPr>
                <a:t>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945760" y="1862640"/>
              <a:ext cx="384120" cy="31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70c0"/>
                  </a:solidFill>
                  <a:uFillTx/>
                  <a:latin typeface="Arial"/>
                  <a:ea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0070c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 baseline="30000">
                  <a:solidFill>
                    <a:srgbClr val="0070c0"/>
                  </a:solidFill>
                  <a:latin typeface="Arial"/>
                  <a:ea typeface="Arial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ECEB6-E32F-4B61-A3E1-A733D98A9ED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/>
          <p:nvPr/>
        </p:nvSpPr>
        <p:spPr>
          <a:xfrm>
            <a:off x="800280" y="987480"/>
            <a:ext cx="8556480" cy="529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43080" indent="-343080">
              <a:lnSpc>
                <a:spcPct val="150000"/>
              </a:lnSpc>
              <a:spcBef>
                <a:spcPts val="737"/>
              </a:spcBef>
              <a:buClr>
                <a:srgbClr val="5c69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6971"/>
                </a:solidFill>
                <a:latin typeface="Arial"/>
                <a:ea typeface="Arial"/>
              </a:rPr>
              <a:t>Gleichungs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u/dz = j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‘ 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i/ dz = j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‘ 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37"/>
              </a:spcBef>
              <a:buClr>
                <a:srgbClr val="5c69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37"/>
              </a:spcBef>
              <a:buClr>
                <a:srgbClr val="5c69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c6971"/>
                </a:solidFill>
                <a:latin typeface="Arial"/>
                <a:ea typeface="Arial"/>
              </a:rPr>
              <a:t>Differenzieren von (1) d/dz und einsetzen von (2) </a:t>
            </a:r>
            <a:r>
              <a:rPr b="0" lang="en-US" sz="2000" spc="-1" strike="noStrike">
                <a:solidFill>
                  <a:srgbClr val="5c6971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/dz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j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‘ j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‘ 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Wellengleichu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37"/>
              </a:spcBef>
              <a:buClr>
                <a:srgbClr val="5c69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6971"/>
                </a:solidFill>
                <a:latin typeface="Arial"/>
                <a:ea typeface="Arial"/>
              </a:rPr>
              <a:t>Ansatz: u = e </a:t>
            </a:r>
            <a:r>
              <a:rPr b="0" lang="en-US" sz="2000" spc="-1" strike="noStrike" baseline="30000">
                <a:solidFill>
                  <a:srgbClr val="5c6971"/>
                </a:solidFill>
                <a:latin typeface="Symbol"/>
                <a:ea typeface="Symbol"/>
              </a:rPr>
              <a:t>γ</a:t>
            </a:r>
            <a:r>
              <a:rPr b="0" lang="en-US" sz="2000" spc="-1" strike="noStrike" baseline="30000">
                <a:solidFill>
                  <a:srgbClr val="5c6971"/>
                </a:solidFill>
                <a:latin typeface="Arial"/>
                <a:ea typeface="Arial"/>
              </a:rPr>
              <a:t> 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/dz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γ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u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&gt;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j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ω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‘C‘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37"/>
              </a:spcBef>
              <a:buClr>
                <a:srgbClr val="5c69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c6971"/>
                </a:solidFill>
                <a:latin typeface="Arial"/>
                <a:ea typeface="Arial"/>
              </a:rPr>
              <a:t>Einsetzen in (1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638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u = j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‘ 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&gt; u/i =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j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ω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L‘ /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=&gt;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W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=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√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L‘/C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5" name="" descr=""/>
          <p:cNvPicPr/>
          <p:nvPr/>
        </p:nvPicPr>
        <p:blipFill>
          <a:blip r:embed="rId1"/>
          <a:stretch/>
        </p:blipFill>
        <p:spPr>
          <a:xfrm>
            <a:off x="6413400" y="287280"/>
            <a:ext cx="2954520" cy="468360"/>
          </a:xfrm>
          <a:prstGeom prst="rect">
            <a:avLst/>
          </a:prstGeom>
          <a:ln w="0">
            <a:noFill/>
          </a:ln>
        </p:spPr>
      </p:pic>
      <p:sp>
        <p:nvSpPr>
          <p:cNvPr id="866" name=""/>
          <p:cNvSpPr/>
          <p:nvPr/>
        </p:nvSpPr>
        <p:spPr>
          <a:xfrm>
            <a:off x="6542280" y="6388200"/>
            <a:ext cx="271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Semester, Nachrichtentechnik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854640" y="6388200"/>
            <a:ext cx="293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llen und Leitungen, Übersicht, S. Ru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762120" y="330120"/>
            <a:ext cx="8534160" cy="4701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2001a"/>
                </a:solidFill>
                <a:latin typeface="Arial"/>
              </a:rPr>
              <a:t>Wellenwiderstand</a:t>
            </a:r>
            <a:endParaRPr b="0" lang="en-US" sz="2400" spc="-1" strike="noStrike">
              <a:solidFill>
                <a:srgbClr val="e2001a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138320" y="3263760"/>
            <a:ext cx="2025720" cy="449280"/>
          </a:xfrm>
          <a:prstGeom prst="rect">
            <a:avLst/>
          </a:pr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 flipH="1">
            <a:off x="3677760" y="4387680"/>
            <a:ext cx="405000" cy="1800"/>
          </a:xfrm>
          <a:prstGeom prst="line">
            <a:avLst/>
          </a:prstGeom>
          <a:ln w="9360">
            <a:solidFill>
              <a:srgbClr val="5c697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7245360" y="5370480"/>
            <a:ext cx="527040" cy="1800"/>
          </a:xfrm>
          <a:prstGeom prst="line">
            <a:avLst/>
          </a:prstGeom>
          <a:ln w="9360">
            <a:solidFill>
              <a:srgbClr val="5c697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6576840" y="5248440"/>
            <a:ext cx="1343160" cy="450720"/>
          </a:xfrm>
          <a:prstGeom prst="rect">
            <a:avLst/>
          </a:prstGeom>
          <a:noFill/>
          <a:ln w="93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3" name=""/>
          <p:cNvGrpSpPr/>
          <p:nvPr/>
        </p:nvGrpSpPr>
        <p:grpSpPr>
          <a:xfrm>
            <a:off x="6080400" y="932040"/>
            <a:ext cx="3223440" cy="1906560"/>
            <a:chOff x="6080400" y="932040"/>
            <a:chExt cx="3223440" cy="1906560"/>
          </a:xfrm>
        </p:grpSpPr>
        <p:sp>
          <p:nvSpPr>
            <p:cNvPr id="874" name=""/>
            <p:cNvSpPr/>
            <p:nvPr/>
          </p:nvSpPr>
          <p:spPr>
            <a:xfrm>
              <a:off x="6392880" y="1327320"/>
              <a:ext cx="1800" cy="148896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 flipV="1">
              <a:off x="7902720" y="1822680"/>
              <a:ext cx="344520" cy="1440"/>
            </a:xfrm>
            <a:prstGeom prst="line">
              <a:avLst/>
            </a:prstGeom>
            <a:ln w="2844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 flipV="1">
              <a:off x="7902720" y="1889280"/>
              <a:ext cx="344520" cy="1440"/>
            </a:xfrm>
            <a:prstGeom prst="line">
              <a:avLst/>
            </a:prstGeom>
            <a:ln w="2844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8070120" y="1455840"/>
              <a:ext cx="1440" cy="366840"/>
            </a:xfrm>
            <a:prstGeom prst="line">
              <a:avLst/>
            </a:prstGeom>
            <a:ln w="2844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8069760" y="1889280"/>
              <a:ext cx="4680" cy="407880"/>
            </a:xfrm>
            <a:prstGeom prst="line">
              <a:avLst/>
            </a:prstGeom>
            <a:ln w="2844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392880" y="1443240"/>
              <a:ext cx="405000" cy="1440"/>
            </a:xfrm>
            <a:prstGeom prst="line">
              <a:avLst/>
            </a:prstGeom>
            <a:ln w="2844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7730280" y="1435320"/>
              <a:ext cx="744480" cy="7920"/>
            </a:xfrm>
            <a:prstGeom prst="line">
              <a:avLst/>
            </a:prstGeom>
            <a:ln w="2844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392880" y="2297160"/>
              <a:ext cx="2081880" cy="1800"/>
            </a:xfrm>
            <a:prstGeom prst="line">
              <a:avLst/>
            </a:prstGeom>
            <a:ln w="2844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032960" y="1327320"/>
              <a:ext cx="235080" cy="111240"/>
            </a:xfrm>
            <a:custGeom>
              <a:avLst/>
              <a:gdLst/>
              <a:ahLst/>
              <a:rect l="l" t="t" r="r" b="b"/>
              <a:pathLst>
                <a:path w="21472" h="20754">
                  <a:moveTo>
                    <a:pt x="134" y="21600"/>
                  </a:moveTo>
                  <a:cubicBezTo>
                    <a:pt x="0" y="14071"/>
                    <a:pt x="2129" y="7035"/>
                    <a:pt x="5648" y="3376"/>
                  </a:cubicBezTo>
                  <a:cubicBezTo>
                    <a:pt x="8794" y="104"/>
                    <a:pt x="12607" y="0"/>
                    <a:pt x="15803" y="3098"/>
                  </a:cubicBezTo>
                  <a:cubicBezTo>
                    <a:pt x="19364" y="6550"/>
                    <a:pt x="21600" y="13429"/>
                    <a:pt x="21600" y="20933"/>
                  </a:cubicBezTo>
                </a:path>
              </a:pathLst>
            </a:custGeom>
            <a:noFill/>
            <a:ln w="2844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68040" y="1335240"/>
              <a:ext cx="235080" cy="111240"/>
            </a:xfrm>
            <a:custGeom>
              <a:avLst/>
              <a:gdLst/>
              <a:ahLst/>
              <a:rect l="l" t="t" r="r" b="b"/>
              <a:pathLst>
                <a:path w="21472" h="20754">
                  <a:moveTo>
                    <a:pt x="134" y="21600"/>
                  </a:moveTo>
                  <a:cubicBezTo>
                    <a:pt x="0" y="14071"/>
                    <a:pt x="2129" y="7035"/>
                    <a:pt x="5648" y="3376"/>
                  </a:cubicBezTo>
                  <a:cubicBezTo>
                    <a:pt x="8794" y="104"/>
                    <a:pt x="12607" y="0"/>
                    <a:pt x="15803" y="3098"/>
                  </a:cubicBezTo>
                  <a:cubicBezTo>
                    <a:pt x="19364" y="6550"/>
                    <a:pt x="21600" y="13429"/>
                    <a:pt x="21600" y="20933"/>
                  </a:cubicBezTo>
                </a:path>
              </a:pathLst>
            </a:custGeom>
            <a:noFill/>
            <a:ln w="2844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493400" y="1335240"/>
              <a:ext cx="236520" cy="111240"/>
            </a:xfrm>
            <a:custGeom>
              <a:avLst/>
              <a:gdLst/>
              <a:ahLst/>
              <a:rect l="l" t="t" r="r" b="b"/>
              <a:pathLst>
                <a:path w="21471" h="20763">
                  <a:moveTo>
                    <a:pt x="135" y="21600"/>
                  </a:moveTo>
                  <a:cubicBezTo>
                    <a:pt x="0" y="14047"/>
                    <a:pt x="2141" y="6991"/>
                    <a:pt x="5676" y="3339"/>
                  </a:cubicBezTo>
                  <a:cubicBezTo>
                    <a:pt x="8808" y="103"/>
                    <a:pt x="12596" y="0"/>
                    <a:pt x="15777" y="3064"/>
                  </a:cubicBezTo>
                  <a:cubicBezTo>
                    <a:pt x="19353" y="6508"/>
                    <a:pt x="21600" y="13403"/>
                    <a:pt x="21600" y="20928"/>
                  </a:cubicBezTo>
                </a:path>
              </a:pathLst>
            </a:custGeom>
            <a:noFill/>
            <a:ln w="2844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797880" y="1335240"/>
              <a:ext cx="234720" cy="111240"/>
            </a:xfrm>
            <a:custGeom>
              <a:avLst/>
              <a:gdLst/>
              <a:ahLst/>
              <a:rect l="l" t="t" r="r" b="b"/>
              <a:pathLst>
                <a:path w="21472" h="20754">
                  <a:moveTo>
                    <a:pt x="134" y="21600"/>
                  </a:moveTo>
                  <a:cubicBezTo>
                    <a:pt x="0" y="14071"/>
                    <a:pt x="2129" y="7035"/>
                    <a:pt x="5648" y="3376"/>
                  </a:cubicBezTo>
                  <a:cubicBezTo>
                    <a:pt x="8794" y="104"/>
                    <a:pt x="12607" y="0"/>
                    <a:pt x="15803" y="3098"/>
                  </a:cubicBezTo>
                  <a:cubicBezTo>
                    <a:pt x="19364" y="6550"/>
                    <a:pt x="21600" y="13429"/>
                    <a:pt x="21600" y="20933"/>
                  </a:cubicBezTo>
                </a:path>
              </a:pathLst>
            </a:custGeom>
            <a:noFill/>
            <a:ln w="28440">
              <a:solidFill>
                <a:srgbClr val="2626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122240" y="965520"/>
              <a:ext cx="25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539840" y="1678320"/>
              <a:ext cx="295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6392880" y="1600200"/>
              <a:ext cx="1800" cy="576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8466840" y="1347840"/>
              <a:ext cx="1800" cy="149076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6492960" y="1443240"/>
              <a:ext cx="203040" cy="324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8230320" y="1430640"/>
              <a:ext cx="203400" cy="46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 flipV="1">
              <a:off x="8070120" y="1535040"/>
              <a:ext cx="1440" cy="20628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183080" y="2362320"/>
              <a:ext cx="321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d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080400" y="1636920"/>
              <a:ext cx="207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8478000" y="1597320"/>
              <a:ext cx="1800" cy="5760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797880" y="1587600"/>
              <a:ext cx="839880" cy="126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420240" y="1028880"/>
              <a:ext cx="131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165880" y="1028880"/>
              <a:ext cx="271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i 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8460720" y="932040"/>
              <a:ext cx="41904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t">
              <a:no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8486280" y="1160640"/>
              <a:ext cx="29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497440" y="1241640"/>
              <a:ext cx="33192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8553600" y="1673280"/>
              <a:ext cx="347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u 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8969400" y="1551240"/>
              <a:ext cx="306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8974080" y="1779840"/>
              <a:ext cx="295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dz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972280" y="1860840"/>
              <a:ext cx="331560" cy="144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5BBF4A-BC48-4657-9B30-36DD1F73E8A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6" name="" descr=""/>
          <p:cNvPicPr/>
          <p:nvPr/>
        </p:nvPicPr>
        <p:blipFill>
          <a:blip r:embed="rId1"/>
          <a:stretch/>
        </p:blipFill>
        <p:spPr>
          <a:xfrm>
            <a:off x="6413400" y="287280"/>
            <a:ext cx="2954520" cy="468360"/>
          </a:xfrm>
          <a:prstGeom prst="rect">
            <a:avLst/>
          </a:prstGeom>
          <a:ln w="0">
            <a:noFill/>
          </a:ln>
        </p:spPr>
      </p:pic>
      <p:sp>
        <p:nvSpPr>
          <p:cNvPr id="907" name=""/>
          <p:cNvSpPr/>
          <p:nvPr/>
        </p:nvSpPr>
        <p:spPr>
          <a:xfrm>
            <a:off x="6542280" y="6388200"/>
            <a:ext cx="271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Semester, Nachrichtentechnik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854640" y="6388200"/>
            <a:ext cx="293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llen und Leitungen, Übersicht, S. Ru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762120" y="330120"/>
            <a:ext cx="8534160" cy="4701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2001a"/>
                </a:solidFill>
                <a:latin typeface="Arial"/>
              </a:rPr>
              <a:t>Wellen und Leitungen</a:t>
            </a:r>
            <a:endParaRPr b="0" lang="en-US" sz="2400" spc="-1" strike="noStrike">
              <a:solidFill>
                <a:srgbClr val="e2001a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762120" y="97740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ENDE der Übersicht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817560" y="3168720"/>
            <a:ext cx="7975440" cy="8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iteraturempfehlu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6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rank Gustrau, Hochfrequenztechnik: Grundlagen der mobilen Kommunikationstechnik (Taschenbuch), Carl Hanser Verlag, 2011, ISBN-13: 978-34464258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0D407-3883-4678-9486-AED574E47994}" type="slidenum">
              <a:t>25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6413400" y="287280"/>
            <a:ext cx="2954520" cy="468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542280" y="6388200"/>
            <a:ext cx="271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Semester, Nachrichtentechnik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54640" y="6388200"/>
            <a:ext cx="293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llen und Leitungen, Übersicht, S. Ru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330120"/>
            <a:ext cx="8534160" cy="4701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2001a"/>
                </a:solidFill>
                <a:latin typeface="Arial"/>
              </a:rPr>
              <a:t>Schwingungen und Wellen</a:t>
            </a:r>
            <a:endParaRPr b="0" lang="en-US" sz="2400" spc="-1" strike="noStrike">
              <a:solidFill>
                <a:srgbClr val="e2001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977760"/>
            <a:ext cx="853416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Animationen im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7FD74A-6611-4184-883C-C5CDFCA149E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413400" y="287280"/>
            <a:ext cx="2954520" cy="46836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542280" y="6388200"/>
            <a:ext cx="271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Semester, Nachrichtentechnik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54640" y="6388200"/>
            <a:ext cx="293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llen und Leitungen, Übersicht, S. Ru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62120" y="330120"/>
            <a:ext cx="8534160" cy="4701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2001a"/>
                </a:solidFill>
                <a:latin typeface="Arial"/>
              </a:rPr>
              <a:t>Inhaltsübersicht</a:t>
            </a:r>
            <a:endParaRPr b="0" lang="en-US" sz="2400" spc="-1" strike="noStrike">
              <a:solidFill>
                <a:srgbClr val="e2001a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762120" y="97740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Wellen und Leitunge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349200" indent="-284040">
              <a:lnSpc>
                <a:spcPct val="150000"/>
              </a:lnSpc>
              <a:spcBef>
                <a:spcPts val="601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Schwingungen und Welle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349200" indent="-284040">
              <a:lnSpc>
                <a:spcPct val="150000"/>
              </a:lnSpc>
              <a:spcBef>
                <a:spcPts val="601"/>
              </a:spcBef>
              <a:buClr>
                <a:srgbClr val="e1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10000"/>
                </a:solidFill>
                <a:latin typeface="Arial"/>
              </a:rPr>
              <a:t>Reflexione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349200" indent="-284040">
              <a:lnSpc>
                <a:spcPct val="150000"/>
              </a:lnSpc>
              <a:spcBef>
                <a:spcPts val="601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Anpassung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349200" indent="-284040">
              <a:lnSpc>
                <a:spcPct val="150000"/>
              </a:lnSpc>
              <a:spcBef>
                <a:spcPts val="601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Wellenausbreitung in Zweileitersysteme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349200" indent="-284040">
              <a:lnSpc>
                <a:spcPct val="150000"/>
              </a:lnSpc>
              <a:spcBef>
                <a:spcPts val="601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Hintergründe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4FDE4-FA7E-444B-9AE4-74DF1BDF5AE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413400" y="287280"/>
            <a:ext cx="2954520" cy="468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542280" y="6388200"/>
            <a:ext cx="271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Semester, Nachrichtentechnik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54640" y="6388200"/>
            <a:ext cx="293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llen und Leitungen, Übersicht, S. Ru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2120" y="330120"/>
            <a:ext cx="8534160" cy="4701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2001a"/>
                </a:solidFill>
                <a:latin typeface="Arial"/>
              </a:rPr>
              <a:t>Reflexionen</a:t>
            </a:r>
            <a:endParaRPr b="0" lang="en-US" sz="2400" spc="-1" strike="noStrike">
              <a:solidFill>
                <a:srgbClr val="e2001a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917640" y="1386000"/>
            <a:ext cx="2800440" cy="3695760"/>
          </a:xfrm>
          <a:prstGeom prst="rect">
            <a:avLst/>
          </a:prstGeom>
          <a:ln w="0">
            <a:noFill/>
          </a:ln>
        </p:spPr>
      </p:pic>
      <p:grpSp>
        <p:nvGrpSpPr>
          <p:cNvPr id="151" name=""/>
          <p:cNvGrpSpPr/>
          <p:nvPr/>
        </p:nvGrpSpPr>
        <p:grpSpPr>
          <a:xfrm>
            <a:off x="4272120" y="1428840"/>
            <a:ext cx="4662000" cy="3655440"/>
            <a:chOff x="4272120" y="1428840"/>
            <a:chExt cx="4662000" cy="3655440"/>
          </a:xfrm>
        </p:grpSpPr>
        <p:sp>
          <p:nvSpPr>
            <p:cNvPr id="152" name=""/>
            <p:cNvSpPr/>
            <p:nvPr/>
          </p:nvSpPr>
          <p:spPr>
            <a:xfrm>
              <a:off x="5140080" y="3338280"/>
              <a:ext cx="2303640" cy="1080"/>
            </a:xfrm>
            <a:prstGeom prst="line">
              <a:avLst/>
            </a:prstGeom>
            <a:ln w="28440">
              <a:solidFill>
                <a:srgbClr val="7575d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379840" y="1458720"/>
              <a:ext cx="684360" cy="1879200"/>
            </a:xfrm>
            <a:prstGeom prst="line">
              <a:avLst/>
            </a:prstGeom>
            <a:ln w="38160">
              <a:solidFill>
                <a:srgbClr val="92d05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064200" y="3387600"/>
              <a:ext cx="352440" cy="1696680"/>
            </a:xfrm>
            <a:prstGeom prst="line">
              <a:avLst/>
            </a:prstGeom>
            <a:ln w="28440">
              <a:solidFill>
                <a:srgbClr val="92d05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6075360" y="1428840"/>
              <a:ext cx="684000" cy="1877760"/>
            </a:xfrm>
            <a:prstGeom prst="line">
              <a:avLst/>
            </a:prstGeom>
            <a:ln w="28440">
              <a:solidFill>
                <a:srgbClr val="92d050"/>
              </a:solidFill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623360" y="3120840"/>
              <a:ext cx="1310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enzfläch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72880" y="2904840"/>
              <a:ext cx="461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Luf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591240" y="3493800"/>
              <a:ext cx="8553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Was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272120" y="1869840"/>
              <a:ext cx="1210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70c0"/>
                  </a:solidFill>
                  <a:latin typeface="Arial Bold Italic"/>
                  <a:ea typeface="Arial Bold Italic"/>
                </a:rPr>
                <a:t>Lichtstrah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761160" y="1882440"/>
              <a:ext cx="1079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70c0"/>
                  </a:solidFill>
                  <a:latin typeface="Arial Bold Italic"/>
                  <a:ea typeface="Arial Bold Italic"/>
                </a:rPr>
                <a:t>Reflex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635160" y="4533480"/>
              <a:ext cx="15134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40680" tIns="0" bIns="0" anchor="t">
              <a:spAutoFit/>
            </a:bodyPr>
            <a:p>
              <a:pPr marL="39600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70c0"/>
                  </a:solidFill>
                  <a:latin typeface="Arial Bold Italic"/>
                  <a:ea typeface="Arial Bold Italic"/>
                </a:rPr>
                <a:t>Transmis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3B3E6-DE54-48C5-AFFD-175E181E76E8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6413400" y="287280"/>
            <a:ext cx="2954520" cy="4683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542280" y="6388200"/>
            <a:ext cx="271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Semester, Nachrichtentechnik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54640" y="6388200"/>
            <a:ext cx="293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llen und Leitungen, Übersicht, S. Ru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62120" y="330120"/>
            <a:ext cx="8534160" cy="4701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2001a"/>
                </a:solidFill>
                <a:latin typeface="Arial"/>
              </a:rPr>
              <a:t>Beispiel: Ultraschall</a:t>
            </a:r>
            <a:endParaRPr b="0" lang="en-US" sz="2400" spc="-1" strike="noStrike">
              <a:solidFill>
                <a:srgbClr val="e2001a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777960" y="946440"/>
            <a:ext cx="5569920" cy="3955320"/>
            <a:chOff x="777960" y="946440"/>
            <a:chExt cx="5569920" cy="3955320"/>
          </a:xfrm>
        </p:grpSpPr>
        <p:sp>
          <p:nvSpPr>
            <p:cNvPr id="167" name=""/>
            <p:cNvSpPr/>
            <p:nvPr/>
          </p:nvSpPr>
          <p:spPr>
            <a:xfrm flipV="1">
              <a:off x="1317600" y="1619640"/>
              <a:ext cx="3958560" cy="32040"/>
            </a:xfrm>
            <a:prstGeom prst="line">
              <a:avLst/>
            </a:prstGeom>
            <a:ln w="12600">
              <a:solidFill>
                <a:srgbClr val="646e6e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rot="20880000">
              <a:off x="1279080" y="1185480"/>
              <a:ext cx="233748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-504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46e6e"/>
                  </a:solidFill>
                  <a:latin typeface="Arial Bold Italic"/>
                  <a:ea typeface="Arial Bold Italic"/>
                </a:rPr>
                <a:t>Transduc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88920" y="1771200"/>
              <a:ext cx="5144760" cy="2977560"/>
            </a:xfrm>
            <a:prstGeom prst="ellipse">
              <a:avLst/>
            </a:prstGeom>
            <a:noFill/>
            <a:ln w="28440">
              <a:solidFill>
                <a:srgbClr val="2169b4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131840" y="2000160"/>
              <a:ext cx="4858920" cy="2748600"/>
            </a:xfrm>
            <a:prstGeom prst="ellipse">
              <a:avLst/>
            </a:prstGeom>
            <a:noFill/>
            <a:ln w="28440">
              <a:solidFill>
                <a:srgbClr val="2169b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346400" y="2458440"/>
              <a:ext cx="4287240" cy="2290320"/>
            </a:xfrm>
            <a:prstGeom prst="ellipse">
              <a:avLst/>
            </a:prstGeom>
            <a:noFill/>
            <a:ln w="28440">
              <a:solidFill>
                <a:srgbClr val="2169b4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067120" y="2916360"/>
              <a:ext cx="2762280" cy="1168920"/>
              <a:chOff x="2067120" y="2916360"/>
              <a:chExt cx="2762280" cy="1168920"/>
            </a:xfrm>
          </p:grpSpPr>
          <p:sp>
            <p:nvSpPr>
              <p:cNvPr id="173" name=""/>
              <p:cNvSpPr/>
              <p:nvPr/>
            </p:nvSpPr>
            <p:spPr>
              <a:xfrm>
                <a:off x="2067120" y="2916360"/>
                <a:ext cx="2762280" cy="1168920"/>
              </a:xfrm>
              <a:custGeom>
                <a:avLst/>
                <a:gdLst/>
                <a:ahLst/>
                <a:rect l="l" t="t" r="r" b="b"/>
                <a:pathLst>
                  <a:path w="21188" h="21509">
                    <a:moveTo>
                      <a:pt x="252" y="10628"/>
                    </a:moveTo>
                    <a:cubicBezTo>
                      <a:pt x="450" y="9111"/>
                      <a:pt x="360" y="9986"/>
                      <a:pt x="450" y="7338"/>
                    </a:cubicBezTo>
                    <a:cubicBezTo>
                      <a:pt x="487" y="6243"/>
                      <a:pt x="434" y="5108"/>
                      <a:pt x="549" y="4049"/>
                    </a:cubicBezTo>
                    <a:cubicBezTo>
                      <a:pt x="677" y="2864"/>
                      <a:pt x="1066" y="2618"/>
                      <a:pt x="1438" y="2277"/>
                    </a:cubicBezTo>
                    <a:cubicBezTo>
                      <a:pt x="1732" y="2008"/>
                      <a:pt x="2031" y="1771"/>
                      <a:pt x="2327" y="1518"/>
                    </a:cubicBezTo>
                    <a:cubicBezTo>
                      <a:pt x="3717" y="331"/>
                      <a:pt x="2520" y="1273"/>
                      <a:pt x="6081" y="1012"/>
                    </a:cubicBezTo>
                    <a:cubicBezTo>
                      <a:pt x="6279" y="928"/>
                      <a:pt x="6484" y="921"/>
                      <a:pt x="6674" y="759"/>
                    </a:cubicBezTo>
                    <a:cubicBezTo>
                      <a:pt x="6787" y="663"/>
                      <a:pt x="6861" y="373"/>
                      <a:pt x="6971" y="253"/>
                    </a:cubicBezTo>
                    <a:cubicBezTo>
                      <a:pt x="7095" y="116"/>
                      <a:pt x="7234" y="84"/>
                      <a:pt x="7366" y="0"/>
                    </a:cubicBezTo>
                    <a:cubicBezTo>
                      <a:pt x="7629" y="169"/>
                      <a:pt x="7913" y="195"/>
                      <a:pt x="8156" y="506"/>
                    </a:cubicBezTo>
                    <a:cubicBezTo>
                      <a:pt x="8262" y="642"/>
                      <a:pt x="8251" y="1114"/>
                      <a:pt x="8354" y="1265"/>
                    </a:cubicBezTo>
                    <a:cubicBezTo>
                      <a:pt x="8499" y="1479"/>
                      <a:pt x="8683" y="1434"/>
                      <a:pt x="8848" y="1518"/>
                    </a:cubicBezTo>
                    <a:cubicBezTo>
                      <a:pt x="8914" y="1771"/>
                      <a:pt x="8969" y="2044"/>
                      <a:pt x="9045" y="2277"/>
                    </a:cubicBezTo>
                    <a:cubicBezTo>
                      <a:pt x="9135" y="2552"/>
                      <a:pt x="9301" y="2694"/>
                      <a:pt x="9342" y="3037"/>
                    </a:cubicBezTo>
                    <a:cubicBezTo>
                      <a:pt x="9713" y="6126"/>
                      <a:pt x="8986" y="5334"/>
                      <a:pt x="9934" y="5820"/>
                    </a:cubicBezTo>
                    <a:cubicBezTo>
                      <a:pt x="9967" y="6073"/>
                      <a:pt x="10008" y="6320"/>
                      <a:pt x="10033" y="6579"/>
                    </a:cubicBezTo>
                    <a:cubicBezTo>
                      <a:pt x="10074" y="6996"/>
                      <a:pt x="10057" y="7460"/>
                      <a:pt x="10132" y="7844"/>
                    </a:cubicBezTo>
                    <a:cubicBezTo>
                      <a:pt x="10194" y="8164"/>
                      <a:pt x="10330" y="8350"/>
                      <a:pt x="10428" y="8604"/>
                    </a:cubicBezTo>
                    <a:cubicBezTo>
                      <a:pt x="11153" y="8519"/>
                      <a:pt x="11917" y="8964"/>
                      <a:pt x="12602" y="8350"/>
                    </a:cubicBezTo>
                    <a:cubicBezTo>
                      <a:pt x="12798" y="8174"/>
                      <a:pt x="12404" y="6832"/>
                      <a:pt x="12404" y="6832"/>
                    </a:cubicBezTo>
                    <a:cubicBezTo>
                      <a:pt x="12437" y="6326"/>
                      <a:pt x="12404" y="5759"/>
                      <a:pt x="12503" y="5314"/>
                    </a:cubicBezTo>
                    <a:cubicBezTo>
                      <a:pt x="12555" y="5082"/>
                      <a:pt x="12699" y="5131"/>
                      <a:pt x="12799" y="5061"/>
                    </a:cubicBezTo>
                    <a:cubicBezTo>
                      <a:pt x="13573" y="4520"/>
                      <a:pt x="13478" y="4603"/>
                      <a:pt x="14183" y="4302"/>
                    </a:cubicBezTo>
                    <a:cubicBezTo>
                      <a:pt x="14764" y="4798"/>
                      <a:pt x="14990" y="4719"/>
                      <a:pt x="14380" y="7844"/>
                    </a:cubicBezTo>
                    <a:cubicBezTo>
                      <a:pt x="14291" y="8303"/>
                      <a:pt x="13985" y="8013"/>
                      <a:pt x="13787" y="8097"/>
                    </a:cubicBezTo>
                    <a:cubicBezTo>
                      <a:pt x="13557" y="8688"/>
                      <a:pt x="13242" y="9122"/>
                      <a:pt x="13096" y="9869"/>
                    </a:cubicBezTo>
                    <a:cubicBezTo>
                      <a:pt x="13021" y="10253"/>
                      <a:pt x="13030" y="11044"/>
                      <a:pt x="13195" y="11134"/>
                    </a:cubicBezTo>
                    <a:cubicBezTo>
                      <a:pt x="14065" y="11611"/>
                      <a:pt x="14973" y="11303"/>
                      <a:pt x="15862" y="11387"/>
                    </a:cubicBezTo>
                    <a:cubicBezTo>
                      <a:pt x="15928" y="11050"/>
                      <a:pt x="16021" y="10739"/>
                      <a:pt x="16060" y="10375"/>
                    </a:cubicBezTo>
                    <a:cubicBezTo>
                      <a:pt x="16438" y="6826"/>
                      <a:pt x="15387" y="8698"/>
                      <a:pt x="18233" y="8350"/>
                    </a:cubicBezTo>
                    <a:cubicBezTo>
                      <a:pt x="18497" y="8266"/>
                      <a:pt x="18806" y="8487"/>
                      <a:pt x="19024" y="8097"/>
                    </a:cubicBezTo>
                    <a:cubicBezTo>
                      <a:pt x="19194" y="7792"/>
                      <a:pt x="19137" y="7067"/>
                      <a:pt x="19221" y="6579"/>
                    </a:cubicBezTo>
                    <a:cubicBezTo>
                      <a:pt x="19269" y="6301"/>
                      <a:pt x="19373" y="6101"/>
                      <a:pt x="19419" y="5820"/>
                    </a:cubicBezTo>
                    <a:cubicBezTo>
                      <a:pt x="19539" y="5081"/>
                      <a:pt x="19616" y="4302"/>
                      <a:pt x="19715" y="3543"/>
                    </a:cubicBezTo>
                    <a:cubicBezTo>
                      <a:pt x="20143" y="3796"/>
                      <a:pt x="20906" y="3202"/>
                      <a:pt x="21000" y="4302"/>
                    </a:cubicBezTo>
                    <a:cubicBezTo>
                      <a:pt x="21600" y="11333"/>
                      <a:pt x="21039" y="11177"/>
                      <a:pt x="19715" y="12146"/>
                    </a:cubicBezTo>
                    <a:cubicBezTo>
                      <a:pt x="19654" y="12775"/>
                      <a:pt x="19529" y="14364"/>
                      <a:pt x="19320" y="14677"/>
                    </a:cubicBezTo>
                    <a:cubicBezTo>
                      <a:pt x="19062" y="15061"/>
                      <a:pt x="18727" y="14845"/>
                      <a:pt x="18431" y="14930"/>
                    </a:cubicBezTo>
                    <a:cubicBezTo>
                      <a:pt x="18266" y="15773"/>
                      <a:pt x="18186" y="16765"/>
                      <a:pt x="17937" y="17460"/>
                    </a:cubicBezTo>
                    <a:cubicBezTo>
                      <a:pt x="17865" y="17660"/>
                      <a:pt x="17122" y="18108"/>
                      <a:pt x="16949" y="18219"/>
                    </a:cubicBezTo>
                    <a:cubicBezTo>
                      <a:pt x="16534" y="18750"/>
                      <a:pt x="16558" y="18587"/>
                      <a:pt x="16257" y="19484"/>
                    </a:cubicBezTo>
                    <a:cubicBezTo>
                      <a:pt x="16150" y="19805"/>
                      <a:pt x="16101" y="20273"/>
                      <a:pt x="15961" y="20497"/>
                    </a:cubicBezTo>
                    <a:cubicBezTo>
                      <a:pt x="15819" y="20725"/>
                      <a:pt x="15633" y="20683"/>
                      <a:pt x="15467" y="20750"/>
                    </a:cubicBezTo>
                    <a:cubicBezTo>
                      <a:pt x="13364" y="21600"/>
                      <a:pt x="14740" y="20920"/>
                      <a:pt x="13590" y="21509"/>
                    </a:cubicBezTo>
                    <a:cubicBezTo>
                      <a:pt x="12404" y="21340"/>
                      <a:pt x="11203" y="21527"/>
                      <a:pt x="10033" y="21003"/>
                    </a:cubicBezTo>
                    <a:cubicBezTo>
                      <a:pt x="9825" y="20910"/>
                      <a:pt x="9777" y="20144"/>
                      <a:pt x="9638" y="19737"/>
                    </a:cubicBezTo>
                    <a:cubicBezTo>
                      <a:pt x="9546" y="19468"/>
                      <a:pt x="9431" y="19253"/>
                      <a:pt x="9342" y="18978"/>
                    </a:cubicBezTo>
                    <a:cubicBezTo>
                      <a:pt x="9011" y="17961"/>
                      <a:pt x="9246" y="17891"/>
                      <a:pt x="8551" y="17207"/>
                    </a:cubicBezTo>
                    <a:cubicBezTo>
                      <a:pt x="8334" y="16993"/>
                      <a:pt x="8092" y="16987"/>
                      <a:pt x="7860" y="16954"/>
                    </a:cubicBezTo>
                    <a:cubicBezTo>
                      <a:pt x="6906" y="16818"/>
                      <a:pt x="5950" y="16785"/>
                      <a:pt x="4995" y="16701"/>
                    </a:cubicBezTo>
                    <a:cubicBezTo>
                      <a:pt x="4270" y="16448"/>
                      <a:pt x="3448" y="16905"/>
                      <a:pt x="2821" y="15942"/>
                    </a:cubicBezTo>
                    <a:cubicBezTo>
                      <a:pt x="2506" y="15457"/>
                      <a:pt x="2206" y="15056"/>
                      <a:pt x="1932" y="14424"/>
                    </a:cubicBezTo>
                    <a:cubicBezTo>
                      <a:pt x="1724" y="13945"/>
                      <a:pt x="1537" y="13411"/>
                      <a:pt x="1339" y="12905"/>
                    </a:cubicBezTo>
                    <a:lnTo>
                      <a:pt x="944" y="11893"/>
                    </a:lnTo>
                    <a:cubicBezTo>
                      <a:pt x="845" y="11640"/>
                      <a:pt x="725" y="11432"/>
                      <a:pt x="648" y="11134"/>
                    </a:cubicBezTo>
                    <a:lnTo>
                      <a:pt x="450" y="10375"/>
                    </a:lnTo>
                    <a:cubicBezTo>
                      <a:pt x="417" y="10122"/>
                      <a:pt x="416" y="9824"/>
                      <a:pt x="351" y="9616"/>
                    </a:cubicBezTo>
                    <a:cubicBezTo>
                      <a:pt x="0" y="8491"/>
                      <a:pt x="55" y="9705"/>
                      <a:pt x="55" y="8604"/>
                    </a:cubicBezTo>
                  </a:path>
                </a:pathLst>
              </a:custGeom>
              <a:noFill/>
              <a:ln w="28440">
                <a:solidFill>
                  <a:srgbClr val="2169b4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706840" y="3216600"/>
                <a:ext cx="123840" cy="172800"/>
              </a:xfrm>
              <a:prstGeom prst="ellipse">
                <a:avLst/>
              </a:prstGeom>
              <a:noFill/>
              <a:ln w="28440">
                <a:solidFill>
                  <a:srgbClr val="2169b4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1203480" y="4290840"/>
              <a:ext cx="5144400" cy="61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1201680" y="1428480"/>
              <a:ext cx="3502440" cy="3090960"/>
              <a:chOff x="1201680" y="1428480"/>
              <a:chExt cx="3502440" cy="3090960"/>
            </a:xfrm>
          </p:grpSpPr>
          <p:sp>
            <p:nvSpPr>
              <p:cNvPr id="177" name=""/>
              <p:cNvSpPr/>
              <p:nvPr/>
            </p:nvSpPr>
            <p:spPr>
              <a:xfrm>
                <a:off x="1700280" y="3809880"/>
                <a:ext cx="1588320" cy="336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-504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646e6e"/>
                    </a:solidFill>
                    <a:latin typeface="Arial Bold Italic"/>
                    <a:ea typeface="Arial Bold Italic"/>
                  </a:rPr>
                  <a:t>B-Mode Sca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H="1">
                <a:off x="1487160" y="1915920"/>
                <a:ext cx="857880" cy="2603520"/>
              </a:xfrm>
              <a:prstGeom prst="line">
                <a:avLst/>
              </a:prstGeom>
              <a:ln w="12600">
                <a:solidFill>
                  <a:srgbClr val="00b05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917080" y="1758240"/>
                <a:ext cx="1787040" cy="2445840"/>
              </a:xfrm>
              <a:prstGeom prst="line">
                <a:avLst/>
              </a:prstGeom>
              <a:ln w="12600">
                <a:solidFill>
                  <a:srgbClr val="00b05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H="1" rot="10560000">
                <a:off x="1559160" y="3917520"/>
                <a:ext cx="2895480" cy="413640"/>
              </a:xfrm>
              <a:custGeom>
                <a:avLst/>
                <a:gdLst/>
                <a:ahLst/>
                <a:rect l="l" t="t" r="r" b="b"/>
                <a:pathLst>
                  <a:path w="21600" h="21540">
                    <a:moveTo>
                      <a:pt x="0" y="18274"/>
                    </a:moveTo>
                    <a:cubicBezTo>
                      <a:pt x="1088" y="7601"/>
                      <a:pt x="5575" y="0"/>
                      <a:pt x="10751" y="61"/>
                    </a:cubicBezTo>
                    <a:cubicBezTo>
                      <a:pt x="16486" y="128"/>
                      <a:pt x="21222" y="953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b05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1020000">
                <a:off x="1845360" y="2073960"/>
                <a:ext cx="441000" cy="78840"/>
              </a:xfrm>
              <a:prstGeom prst="rect">
                <a:avLst/>
              </a:prstGeom>
              <a:solidFill>
                <a:srgbClr val="ffc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020000">
                <a:off x="1703520" y="2536560"/>
                <a:ext cx="441360" cy="80640"/>
              </a:xfrm>
              <a:prstGeom prst="rect">
                <a:avLst/>
              </a:prstGeom>
              <a:solidFill>
                <a:srgbClr val="ffc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1020000">
                <a:off x="1203480" y="4037760"/>
                <a:ext cx="441360" cy="78840"/>
              </a:xfrm>
              <a:prstGeom prst="rect">
                <a:avLst/>
              </a:prstGeom>
              <a:solidFill>
                <a:srgbClr val="ffc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19260000">
                <a:off x="3033000" y="1824840"/>
                <a:ext cx="441360" cy="78480"/>
              </a:xfrm>
              <a:prstGeom prst="rect">
                <a:avLst/>
              </a:prstGeom>
              <a:solidFill>
                <a:srgbClr val="ffc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19260000">
                <a:off x="3319200" y="2219040"/>
                <a:ext cx="441360" cy="78840"/>
              </a:xfrm>
              <a:prstGeom prst="rect">
                <a:avLst/>
              </a:prstGeom>
              <a:solidFill>
                <a:srgbClr val="ffc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19260000">
                <a:off x="3890880" y="2929320"/>
                <a:ext cx="441360" cy="78840"/>
              </a:xfrm>
              <a:prstGeom prst="rect">
                <a:avLst/>
              </a:prstGeom>
              <a:solidFill>
                <a:srgbClr val="ffc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19260000">
                <a:off x="4105440" y="3245040"/>
                <a:ext cx="441000" cy="78480"/>
              </a:xfrm>
              <a:prstGeom prst="rect">
                <a:avLst/>
              </a:prstGeom>
              <a:solidFill>
                <a:srgbClr val="ffc000"/>
              </a:solidFill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1609920" y="1807560"/>
                <a:ext cx="2820960" cy="25455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5622" y="1086"/>
                    </a:moveTo>
                    <a:lnTo>
                      <a:pt x="10060" y="0"/>
                    </a:lnTo>
                    <a:lnTo>
                      <a:pt x="21600" y="17497"/>
                    </a:lnTo>
                    <a:lnTo>
                      <a:pt x="20515" y="18704"/>
                    </a:lnTo>
                    <a:lnTo>
                      <a:pt x="18345" y="19790"/>
                    </a:lnTo>
                    <a:cubicBezTo>
                      <a:pt x="15749" y="20767"/>
                      <a:pt x="16675" y="20755"/>
                      <a:pt x="15682" y="20755"/>
                    </a:cubicBezTo>
                    <a:lnTo>
                      <a:pt x="12526" y="21359"/>
                    </a:lnTo>
                    <a:lnTo>
                      <a:pt x="9666" y="21600"/>
                    </a:lnTo>
                    <a:lnTo>
                      <a:pt x="6904" y="21479"/>
                    </a:lnTo>
                    <a:lnTo>
                      <a:pt x="4833" y="21359"/>
                    </a:lnTo>
                    <a:lnTo>
                      <a:pt x="1775" y="20755"/>
                    </a:lnTo>
                    <a:lnTo>
                      <a:pt x="296" y="20393"/>
                    </a:lnTo>
                    <a:lnTo>
                      <a:pt x="0" y="20273"/>
                    </a:lnTo>
                    <a:lnTo>
                      <a:pt x="5918" y="724"/>
                    </a:lnTo>
                    <a:lnTo>
                      <a:pt x="5622" y="1086"/>
                    </a:lnTo>
                    <a:close/>
                    <a:moveTo>
                      <a:pt x="5622" y="1086"/>
                    </a:moveTo>
                  </a:path>
                </a:pathLst>
              </a:custGeom>
              <a:solidFill>
                <a:srgbClr val="ccff66">
                  <a:alpha val="27000"/>
                </a:srgbClr>
              </a:solidFill>
              <a:ln w="9360">
                <a:solidFill>
                  <a:srgbClr val="ccff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4740000">
                <a:off x="2434320" y="1233360"/>
                <a:ext cx="396360" cy="962280"/>
              </a:xfrm>
              <a:prstGeom prst="pie">
                <a:avLst/>
              </a:prstGeom>
              <a:solidFill>
                <a:srgbClr val="2c86c7"/>
              </a:solidFill>
              <a:ln w="28440">
                <a:solidFill>
                  <a:srgbClr val="2169b4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 rot="17340000">
              <a:off x="911520" y="3230640"/>
              <a:ext cx="1465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-504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46e6e"/>
                  </a:solidFill>
                  <a:latin typeface="Arial Bold Italic"/>
                  <a:ea typeface="Arial Bold Italic"/>
                </a:rPr>
                <a:t>A-Mode Sc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17340000">
              <a:off x="1832040" y="2315520"/>
              <a:ext cx="9363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-504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46e6e"/>
                  </a:solidFill>
                  <a:latin typeface="Arial Bold Italic"/>
                  <a:ea typeface="Arial Bold Italic"/>
                </a:rPr>
                <a:t>Ech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1131480" y="1771200"/>
              <a:ext cx="1800" cy="763200"/>
            </a:xfrm>
            <a:prstGeom prst="line">
              <a:avLst/>
            </a:prstGeom>
            <a:ln w="12600">
              <a:solidFill>
                <a:srgbClr val="646e6e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345920" y="1312920"/>
              <a:ext cx="44424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-504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46e6e"/>
                  </a:solidFill>
                  <a:latin typeface="Arial Bold Italic"/>
                  <a:ea typeface="Arial Bold Italic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77960" y="2000160"/>
              <a:ext cx="50796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-504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46e6e"/>
                  </a:solidFill>
                  <a:latin typeface="Arial Bold Italic"/>
                  <a:ea typeface="Arial Bold Italic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6656400" y="1109520"/>
            <a:ext cx="2730600" cy="2285280"/>
            <a:chOff x="6656400" y="1109520"/>
            <a:chExt cx="2730600" cy="2285280"/>
          </a:xfrm>
        </p:grpSpPr>
        <p:sp>
          <p:nvSpPr>
            <p:cNvPr id="196" name=""/>
            <p:cNvSpPr/>
            <p:nvPr/>
          </p:nvSpPr>
          <p:spPr>
            <a:xfrm>
              <a:off x="6656400" y="1109520"/>
              <a:ext cx="19051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-504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646e6e"/>
                  </a:solidFill>
                  <a:latin typeface="Arial Bold Italic"/>
                  <a:ea typeface="Arial Bold Italic"/>
                </a:rPr>
                <a:t>Displ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6943680" y="1609560"/>
              <a:ext cx="1928880" cy="1716840"/>
              <a:chOff x="6943680" y="1609560"/>
              <a:chExt cx="1928880" cy="1716840"/>
            </a:xfrm>
          </p:grpSpPr>
          <p:pic>
            <p:nvPicPr>
              <p:cNvPr id="19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086600" y="1609560"/>
                <a:ext cx="1676520" cy="157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 flipH="1">
                <a:off x="7014600" y="1609560"/>
                <a:ext cx="9720" cy="171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086600" y="1752480"/>
                <a:ext cx="178596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014960" y="1895400"/>
                <a:ext cx="178596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086600" y="2038320"/>
                <a:ext cx="178596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014960" y="2181240"/>
                <a:ext cx="178596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7086600" y="2324160"/>
                <a:ext cx="178596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014960" y="2467080"/>
                <a:ext cx="178596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086600" y="2610000"/>
                <a:ext cx="1785960" cy="180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7014960" y="2752920"/>
                <a:ext cx="178596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7014960" y="2896200"/>
                <a:ext cx="178596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943680" y="3039120"/>
                <a:ext cx="178596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7014960" y="3182040"/>
                <a:ext cx="178596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943680" y="3324960"/>
                <a:ext cx="1785960" cy="144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7226640" y="1465200"/>
              <a:ext cx="1431720" cy="1929600"/>
              <a:chOff x="7226640" y="1465200"/>
              <a:chExt cx="1431720" cy="1929600"/>
            </a:xfrm>
          </p:grpSpPr>
          <p:sp>
            <p:nvSpPr>
              <p:cNvPr id="213" name=""/>
              <p:cNvSpPr/>
              <p:nvPr/>
            </p:nvSpPr>
            <p:spPr>
              <a:xfrm flipH="1">
                <a:off x="8656920" y="1608120"/>
                <a:ext cx="1440" cy="17866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>
                <a:off x="8514000" y="1536480"/>
                <a:ext cx="1440" cy="17866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8371080" y="1608120"/>
                <a:ext cx="1440" cy="17866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8227800" y="1536480"/>
                <a:ext cx="1440" cy="17866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>
                <a:off x="8084880" y="1608120"/>
                <a:ext cx="1440" cy="17866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7941600" y="1536480"/>
                <a:ext cx="1800" cy="17866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7798680" y="1608120"/>
                <a:ext cx="1800" cy="17866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>
                <a:off x="7655400" y="1536480"/>
                <a:ext cx="1800" cy="17866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7512840" y="1536480"/>
                <a:ext cx="1440" cy="17866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>
                <a:off x="7369560" y="1465200"/>
                <a:ext cx="1440" cy="17866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flipH="1">
                <a:off x="7226640" y="1536480"/>
                <a:ext cx="1440" cy="1786680"/>
              </a:xfrm>
              <a:prstGeom prst="line">
                <a:avLst/>
              </a:prstGeom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4" name=""/>
            <p:cNvSpPr/>
            <p:nvPr/>
          </p:nvSpPr>
          <p:spPr>
            <a:xfrm>
              <a:off x="7086600" y="1538280"/>
              <a:ext cx="1857240" cy="144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942400" y="1323720"/>
              <a:ext cx="444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-504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46e6e"/>
                  </a:solidFill>
                  <a:latin typeface="Arial Bold Italic"/>
                  <a:ea typeface="Arial Bold Italic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656400" y="1824120"/>
              <a:ext cx="4446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-504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46e6e"/>
                  </a:solidFill>
                  <a:latin typeface="Arial Bold Italic"/>
                  <a:ea typeface="Arial Bold Italic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6440400" y="3395520"/>
            <a:ext cx="3162240" cy="3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-5040" tIns="0" bIns="0" anchor="t">
            <a:noAutofit/>
          </a:bodyPr>
          <a:p>
            <a:pPr algn="ctr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46e6e"/>
                </a:solidFill>
                <a:latin typeface="Arial Bold Italic"/>
                <a:ea typeface="Arial Bold Italic"/>
              </a:rPr>
              <a:t>Multiple Scans or 3D Sca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6729480" y="3681360"/>
            <a:ext cx="2655720" cy="2047680"/>
            <a:chOff x="6729480" y="3681360"/>
            <a:chExt cx="2655720" cy="2047680"/>
          </a:xfrm>
        </p:grpSpPr>
        <p:grpSp>
          <p:nvGrpSpPr>
            <p:cNvPr id="229" name=""/>
            <p:cNvGrpSpPr/>
            <p:nvPr/>
          </p:nvGrpSpPr>
          <p:grpSpPr>
            <a:xfrm>
              <a:off x="6948720" y="3895560"/>
              <a:ext cx="1981440" cy="1778400"/>
              <a:chOff x="6948720" y="3895560"/>
              <a:chExt cx="1981440" cy="177840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948720" y="3895560"/>
                <a:ext cx="1981440" cy="1778400"/>
                <a:chOff x="6948720" y="3895560"/>
                <a:chExt cx="1981440" cy="1778400"/>
              </a:xfrm>
            </p:grpSpPr>
            <p:grpSp>
              <p:nvGrpSpPr>
                <p:cNvPr id="231" name=""/>
                <p:cNvGrpSpPr/>
                <p:nvPr/>
              </p:nvGrpSpPr>
              <p:grpSpPr>
                <a:xfrm>
                  <a:off x="7444080" y="3895560"/>
                  <a:ext cx="1486080" cy="1454400"/>
                  <a:chOff x="7444080" y="3895560"/>
                  <a:chExt cx="1486080" cy="1454400"/>
                </a:xfrm>
              </p:grpSpPr>
              <p:sp>
                <p:nvSpPr>
                  <p:cNvPr id="232" name=""/>
                  <p:cNvSpPr/>
                  <p:nvPr/>
                </p:nvSpPr>
                <p:spPr>
                  <a:xfrm>
                    <a:off x="7609320" y="4003560"/>
                    <a:ext cx="1212840" cy="1185120"/>
                  </a:xfrm>
                  <a:prstGeom prst="rect">
                    <a:avLst/>
                  </a:prstGeom>
                  <a:solidFill>
                    <a:srgbClr val="b3b3b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33" name=""/>
                  <p:cNvGrpSpPr/>
                  <p:nvPr/>
                </p:nvGrpSpPr>
                <p:grpSpPr>
                  <a:xfrm>
                    <a:off x="7444080" y="4001760"/>
                    <a:ext cx="1486080" cy="1188000"/>
                    <a:chOff x="7444080" y="4001760"/>
                    <a:chExt cx="1486080" cy="1188000"/>
                  </a:xfrm>
                </p:grpSpPr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7553520" y="4001760"/>
                      <a:ext cx="137664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7498080" y="4107960"/>
                      <a:ext cx="1376280" cy="18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7553520" y="4216320"/>
                      <a:ext cx="1376640" cy="18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7498080" y="4324320"/>
                      <a:ext cx="1376280" cy="18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7553520" y="4432680"/>
                      <a:ext cx="1376640" cy="14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>
                      <a:off x="7498080" y="4541040"/>
                      <a:ext cx="1376280" cy="14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7553520" y="4649040"/>
                      <a:ext cx="1376640" cy="14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7498080" y="4757400"/>
                      <a:ext cx="1376280" cy="14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7498080" y="4865400"/>
                      <a:ext cx="137628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7444080" y="4973400"/>
                      <a:ext cx="137628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7498080" y="5081760"/>
                      <a:ext cx="137628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7444080" y="5188320"/>
                      <a:ext cx="1376280" cy="14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7607520" y="3895560"/>
                    <a:ext cx="1212480" cy="1454400"/>
                    <a:chOff x="7607520" y="3895560"/>
                    <a:chExt cx="1212480" cy="145440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8820000" y="4001760"/>
                      <a:ext cx="0" cy="13482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flipH="1">
                      <a:off x="8708760" y="3948120"/>
                      <a:ext cx="1800" cy="13478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"/>
                    <p:cNvSpPr/>
                    <p:nvPr/>
                  </p:nvSpPr>
                  <p:spPr>
                    <a:xfrm flipH="1">
                      <a:off x="8599320" y="4001760"/>
                      <a:ext cx="1440" cy="13482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8489520" y="3948120"/>
                      <a:ext cx="0" cy="13478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 flipH="1">
                      <a:off x="8378280" y="4001760"/>
                      <a:ext cx="1800" cy="13482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>
                      <a:off x="8268840" y="3948120"/>
                      <a:ext cx="1440" cy="13478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flipH="1">
                      <a:off x="8157240" y="4001760"/>
                      <a:ext cx="1800" cy="13482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 flipH="1">
                      <a:off x="8047800" y="3948120"/>
                      <a:ext cx="1440" cy="13478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7938360" y="3948120"/>
                      <a:ext cx="0" cy="13478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flipH="1">
                      <a:off x="7826760" y="3895560"/>
                      <a:ext cx="1440" cy="13464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7" name=""/>
                    <p:cNvSpPr/>
                    <p:nvPr/>
                  </p:nvSpPr>
                  <p:spPr>
                    <a:xfrm flipH="1">
                      <a:off x="7717320" y="3948120"/>
                      <a:ext cx="1440" cy="13478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8" name=""/>
                    <p:cNvSpPr/>
                    <p:nvPr/>
                  </p:nvSpPr>
                  <p:spPr>
                    <a:xfrm>
                      <a:off x="7607520" y="3895560"/>
                      <a:ext cx="0" cy="13464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9" name=""/>
                  <p:cNvSpPr/>
                  <p:nvPr/>
                </p:nvSpPr>
                <p:spPr>
                  <a:xfrm>
                    <a:off x="7609320" y="4001760"/>
                    <a:ext cx="1211040" cy="1186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6703" y="0"/>
                        </a:moveTo>
                        <a:lnTo>
                          <a:pt x="13966" y="201"/>
                        </a:lnTo>
                        <a:lnTo>
                          <a:pt x="21600" y="18658"/>
                        </a:lnTo>
                        <a:lnTo>
                          <a:pt x="19117" y="19928"/>
                        </a:lnTo>
                        <a:lnTo>
                          <a:pt x="16138" y="20931"/>
                        </a:lnTo>
                        <a:lnTo>
                          <a:pt x="13159" y="21600"/>
                        </a:lnTo>
                        <a:lnTo>
                          <a:pt x="11172" y="21600"/>
                        </a:lnTo>
                        <a:lnTo>
                          <a:pt x="8690" y="21533"/>
                        </a:lnTo>
                        <a:lnTo>
                          <a:pt x="6021" y="21266"/>
                        </a:lnTo>
                        <a:lnTo>
                          <a:pt x="4159" y="20864"/>
                        </a:lnTo>
                        <a:lnTo>
                          <a:pt x="1986" y="20263"/>
                        </a:lnTo>
                        <a:lnTo>
                          <a:pt x="434" y="19527"/>
                        </a:lnTo>
                        <a:lnTo>
                          <a:pt x="0" y="19259"/>
                        </a:lnTo>
                        <a:lnTo>
                          <a:pt x="6703" y="0"/>
                        </a:lnTo>
                        <a:close/>
                        <a:moveTo>
                          <a:pt x="6703" y="0"/>
                        </a:moveTo>
                      </a:path>
                    </a:pathLst>
                  </a:custGeom>
                  <a:solidFill>
                    <a:srgbClr val="ccff66">
                      <a:alpha val="47000"/>
                    </a:srgbClr>
                  </a:solidFill>
                  <a:ln w="9360">
                    <a:solidFill>
                      <a:srgbClr val="92d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" name=""/>
                <p:cNvGrpSpPr/>
                <p:nvPr/>
              </p:nvGrpSpPr>
              <p:grpSpPr>
                <a:xfrm>
                  <a:off x="7223400" y="4001760"/>
                  <a:ext cx="1487520" cy="1456200"/>
                  <a:chOff x="7223400" y="4001760"/>
                  <a:chExt cx="1487520" cy="1456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7386840" y="4109760"/>
                    <a:ext cx="1214280" cy="1186560"/>
                  </a:xfrm>
                  <a:prstGeom prst="rect">
                    <a:avLst/>
                  </a:prstGeom>
                  <a:solidFill>
                    <a:srgbClr val="b3b3b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2" name=""/>
                  <p:cNvGrpSpPr/>
                  <p:nvPr/>
                </p:nvGrpSpPr>
                <p:grpSpPr>
                  <a:xfrm>
                    <a:off x="7223400" y="4107960"/>
                    <a:ext cx="1487520" cy="1189440"/>
                    <a:chOff x="7223400" y="4107960"/>
                    <a:chExt cx="1487520" cy="1189440"/>
                  </a:xfrm>
                </p:grpSpPr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332840" y="4107960"/>
                      <a:ext cx="137808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7277400" y="4214160"/>
                      <a:ext cx="1377720" cy="18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7332840" y="4322520"/>
                      <a:ext cx="1378080" cy="18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277400" y="4430880"/>
                      <a:ext cx="1377720" cy="18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7" name=""/>
                    <p:cNvSpPr/>
                    <p:nvPr/>
                  </p:nvSpPr>
                  <p:spPr>
                    <a:xfrm>
                      <a:off x="7332840" y="4539240"/>
                      <a:ext cx="1378080" cy="14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277400" y="4647600"/>
                      <a:ext cx="1377720" cy="14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7332840" y="4755960"/>
                      <a:ext cx="1378080" cy="14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7277400" y="4864320"/>
                      <a:ext cx="1377720" cy="14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277400" y="4972320"/>
                      <a:ext cx="137772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223400" y="5080680"/>
                      <a:ext cx="137772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7277400" y="5189040"/>
                      <a:ext cx="137772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7223400" y="5295960"/>
                      <a:ext cx="1377720" cy="14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7386840" y="4001760"/>
                    <a:ext cx="1213920" cy="1456200"/>
                    <a:chOff x="7386840" y="4001760"/>
                    <a:chExt cx="1213920" cy="145620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>
                      <a:off x="8600760" y="4107960"/>
                      <a:ext cx="0" cy="13500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flipH="1">
                      <a:off x="8489520" y="4054320"/>
                      <a:ext cx="1800" cy="1349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 flipH="1">
                      <a:off x="8379720" y="4107960"/>
                      <a:ext cx="1440" cy="13500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269920" y="4054320"/>
                      <a:ext cx="0" cy="1349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flipH="1">
                      <a:off x="8158680" y="4107960"/>
                      <a:ext cx="1800" cy="13500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 flipH="1">
                      <a:off x="8048880" y="4054320"/>
                      <a:ext cx="1440" cy="1349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 flipH="1">
                      <a:off x="7937280" y="4107960"/>
                      <a:ext cx="1800" cy="13500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flipH="1">
                      <a:off x="7827480" y="4054320"/>
                      <a:ext cx="1440" cy="1349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718040" y="4054320"/>
                      <a:ext cx="0" cy="1349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5" name=""/>
                    <p:cNvSpPr/>
                    <p:nvPr/>
                  </p:nvSpPr>
                  <p:spPr>
                    <a:xfrm flipH="1">
                      <a:off x="7606440" y="4001760"/>
                      <a:ext cx="1440" cy="13482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6" name=""/>
                    <p:cNvSpPr/>
                    <p:nvPr/>
                  </p:nvSpPr>
                  <p:spPr>
                    <a:xfrm flipH="1">
                      <a:off x="7496640" y="4054320"/>
                      <a:ext cx="1440" cy="1349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7386840" y="4001760"/>
                      <a:ext cx="0" cy="13482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88" name=""/>
                  <p:cNvSpPr/>
                  <p:nvPr/>
                </p:nvSpPr>
                <p:spPr>
                  <a:xfrm>
                    <a:off x="7388640" y="4107960"/>
                    <a:ext cx="1212480" cy="118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6703" y="0"/>
                        </a:moveTo>
                        <a:lnTo>
                          <a:pt x="13966" y="201"/>
                        </a:lnTo>
                        <a:lnTo>
                          <a:pt x="21600" y="18658"/>
                        </a:lnTo>
                        <a:lnTo>
                          <a:pt x="19117" y="19928"/>
                        </a:lnTo>
                        <a:lnTo>
                          <a:pt x="16138" y="20931"/>
                        </a:lnTo>
                        <a:lnTo>
                          <a:pt x="13159" y="21600"/>
                        </a:lnTo>
                        <a:lnTo>
                          <a:pt x="11172" y="21600"/>
                        </a:lnTo>
                        <a:lnTo>
                          <a:pt x="8690" y="21533"/>
                        </a:lnTo>
                        <a:lnTo>
                          <a:pt x="6021" y="21266"/>
                        </a:lnTo>
                        <a:lnTo>
                          <a:pt x="4159" y="20864"/>
                        </a:lnTo>
                        <a:lnTo>
                          <a:pt x="1986" y="20263"/>
                        </a:lnTo>
                        <a:lnTo>
                          <a:pt x="434" y="19527"/>
                        </a:lnTo>
                        <a:lnTo>
                          <a:pt x="0" y="19259"/>
                        </a:lnTo>
                        <a:lnTo>
                          <a:pt x="6703" y="0"/>
                        </a:lnTo>
                        <a:close/>
                        <a:moveTo>
                          <a:pt x="6703" y="0"/>
                        </a:moveTo>
                      </a:path>
                    </a:pathLst>
                  </a:custGeom>
                  <a:solidFill>
                    <a:srgbClr val="ccff66">
                      <a:alpha val="47000"/>
                    </a:srgbClr>
                  </a:solidFill>
                  <a:ln w="9360">
                    <a:solidFill>
                      <a:srgbClr val="92d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9" name=""/>
                <p:cNvGrpSpPr/>
                <p:nvPr/>
              </p:nvGrpSpPr>
              <p:grpSpPr>
                <a:xfrm>
                  <a:off x="7058160" y="4109760"/>
                  <a:ext cx="1486080" cy="1456200"/>
                  <a:chOff x="7058160" y="4109760"/>
                  <a:chExt cx="1486080" cy="1456200"/>
                </a:xfrm>
              </p:grpSpPr>
              <p:sp>
                <p:nvSpPr>
                  <p:cNvPr id="290" name=""/>
                  <p:cNvSpPr/>
                  <p:nvPr/>
                </p:nvSpPr>
                <p:spPr>
                  <a:xfrm>
                    <a:off x="7221600" y="4217760"/>
                    <a:ext cx="1213200" cy="1186560"/>
                  </a:xfrm>
                  <a:prstGeom prst="rect">
                    <a:avLst/>
                  </a:prstGeom>
                  <a:solidFill>
                    <a:srgbClr val="b3b3b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91" name=""/>
                  <p:cNvGrpSpPr/>
                  <p:nvPr/>
                </p:nvGrpSpPr>
                <p:grpSpPr>
                  <a:xfrm>
                    <a:off x="7058160" y="4215960"/>
                    <a:ext cx="1486080" cy="1189440"/>
                    <a:chOff x="7058160" y="4215960"/>
                    <a:chExt cx="1486080" cy="1189440"/>
                  </a:xfrm>
                </p:grpSpPr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7167600" y="4215960"/>
                      <a:ext cx="137664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112160" y="4322160"/>
                      <a:ext cx="1376280" cy="18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7167600" y="4430520"/>
                      <a:ext cx="1376640" cy="18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7112160" y="4538880"/>
                      <a:ext cx="1376280" cy="18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6" name=""/>
                    <p:cNvSpPr/>
                    <p:nvPr/>
                  </p:nvSpPr>
                  <p:spPr>
                    <a:xfrm>
                      <a:off x="7167600" y="4647240"/>
                      <a:ext cx="1376640" cy="14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7112160" y="4755600"/>
                      <a:ext cx="1376280" cy="14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7167600" y="4863960"/>
                      <a:ext cx="1376640" cy="14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9" name=""/>
                    <p:cNvSpPr/>
                    <p:nvPr/>
                  </p:nvSpPr>
                  <p:spPr>
                    <a:xfrm>
                      <a:off x="7112160" y="4972320"/>
                      <a:ext cx="1376280" cy="14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"/>
                    <p:cNvSpPr/>
                    <p:nvPr/>
                  </p:nvSpPr>
                  <p:spPr>
                    <a:xfrm>
                      <a:off x="7112160" y="5080320"/>
                      <a:ext cx="137628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1" name=""/>
                    <p:cNvSpPr/>
                    <p:nvPr/>
                  </p:nvSpPr>
                  <p:spPr>
                    <a:xfrm>
                      <a:off x="7058160" y="5188680"/>
                      <a:ext cx="137628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2" name=""/>
                    <p:cNvSpPr/>
                    <p:nvPr/>
                  </p:nvSpPr>
                  <p:spPr>
                    <a:xfrm>
                      <a:off x="7112160" y="5297040"/>
                      <a:ext cx="137628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3" name=""/>
                    <p:cNvSpPr/>
                    <p:nvPr/>
                  </p:nvSpPr>
                  <p:spPr>
                    <a:xfrm>
                      <a:off x="7058160" y="5403960"/>
                      <a:ext cx="1376280" cy="14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04" name=""/>
                  <p:cNvGrpSpPr/>
                  <p:nvPr/>
                </p:nvGrpSpPr>
                <p:grpSpPr>
                  <a:xfrm>
                    <a:off x="7221960" y="4109760"/>
                    <a:ext cx="1212840" cy="1456200"/>
                    <a:chOff x="7221960" y="4109760"/>
                    <a:chExt cx="1212840" cy="1456200"/>
                  </a:xfrm>
                </p:grpSpPr>
                <p:sp>
                  <p:nvSpPr>
                    <p:cNvPr id="305" name=""/>
                    <p:cNvSpPr/>
                    <p:nvPr/>
                  </p:nvSpPr>
                  <p:spPr>
                    <a:xfrm>
                      <a:off x="8434800" y="4215960"/>
                      <a:ext cx="0" cy="13500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6" name=""/>
                    <p:cNvSpPr/>
                    <p:nvPr/>
                  </p:nvSpPr>
                  <p:spPr>
                    <a:xfrm flipH="1">
                      <a:off x="8323560" y="4162320"/>
                      <a:ext cx="1800" cy="1349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7" name=""/>
                    <p:cNvSpPr/>
                    <p:nvPr/>
                  </p:nvSpPr>
                  <p:spPr>
                    <a:xfrm flipH="1">
                      <a:off x="8214120" y="4215960"/>
                      <a:ext cx="1440" cy="13500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8" name=""/>
                    <p:cNvSpPr/>
                    <p:nvPr/>
                  </p:nvSpPr>
                  <p:spPr>
                    <a:xfrm>
                      <a:off x="8104320" y="4162320"/>
                      <a:ext cx="0" cy="1349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 flipH="1">
                      <a:off x="7993080" y="4215960"/>
                      <a:ext cx="1800" cy="13500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0" name=""/>
                    <p:cNvSpPr/>
                    <p:nvPr/>
                  </p:nvSpPr>
                  <p:spPr>
                    <a:xfrm flipH="1">
                      <a:off x="7883280" y="4162320"/>
                      <a:ext cx="1440" cy="1349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"/>
                    <p:cNvSpPr/>
                    <p:nvPr/>
                  </p:nvSpPr>
                  <p:spPr>
                    <a:xfrm flipH="1">
                      <a:off x="7772040" y="4215960"/>
                      <a:ext cx="1800" cy="13500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2" name=""/>
                    <p:cNvSpPr/>
                    <p:nvPr/>
                  </p:nvSpPr>
                  <p:spPr>
                    <a:xfrm flipH="1">
                      <a:off x="7662240" y="4162320"/>
                      <a:ext cx="1440" cy="1349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3" name=""/>
                    <p:cNvSpPr/>
                    <p:nvPr/>
                  </p:nvSpPr>
                  <p:spPr>
                    <a:xfrm>
                      <a:off x="7552800" y="4162320"/>
                      <a:ext cx="0" cy="1349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 flipH="1">
                      <a:off x="7441200" y="4109760"/>
                      <a:ext cx="1440" cy="13482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5" name=""/>
                    <p:cNvSpPr/>
                    <p:nvPr/>
                  </p:nvSpPr>
                  <p:spPr>
                    <a:xfrm flipH="1">
                      <a:off x="7331760" y="4162320"/>
                      <a:ext cx="1440" cy="1349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6" name=""/>
                    <p:cNvSpPr/>
                    <p:nvPr/>
                  </p:nvSpPr>
                  <p:spPr>
                    <a:xfrm>
                      <a:off x="7221960" y="4109760"/>
                      <a:ext cx="0" cy="13482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7" name=""/>
                  <p:cNvSpPr/>
                  <p:nvPr/>
                </p:nvSpPr>
                <p:spPr>
                  <a:xfrm>
                    <a:off x="7223400" y="4215960"/>
                    <a:ext cx="1211400" cy="118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6703" y="0"/>
                        </a:moveTo>
                        <a:lnTo>
                          <a:pt x="13966" y="201"/>
                        </a:lnTo>
                        <a:lnTo>
                          <a:pt x="21600" y="18658"/>
                        </a:lnTo>
                        <a:lnTo>
                          <a:pt x="19117" y="19928"/>
                        </a:lnTo>
                        <a:lnTo>
                          <a:pt x="16138" y="20931"/>
                        </a:lnTo>
                        <a:lnTo>
                          <a:pt x="13159" y="21600"/>
                        </a:lnTo>
                        <a:lnTo>
                          <a:pt x="11172" y="21600"/>
                        </a:lnTo>
                        <a:lnTo>
                          <a:pt x="8690" y="21533"/>
                        </a:lnTo>
                        <a:lnTo>
                          <a:pt x="6021" y="21266"/>
                        </a:lnTo>
                        <a:lnTo>
                          <a:pt x="4159" y="20864"/>
                        </a:lnTo>
                        <a:lnTo>
                          <a:pt x="1986" y="20263"/>
                        </a:lnTo>
                        <a:lnTo>
                          <a:pt x="434" y="19527"/>
                        </a:lnTo>
                        <a:lnTo>
                          <a:pt x="0" y="19259"/>
                        </a:lnTo>
                        <a:lnTo>
                          <a:pt x="6703" y="0"/>
                        </a:lnTo>
                        <a:close/>
                        <a:moveTo>
                          <a:pt x="6703" y="0"/>
                        </a:moveTo>
                      </a:path>
                    </a:pathLst>
                  </a:custGeom>
                  <a:solidFill>
                    <a:srgbClr val="ccff66">
                      <a:alpha val="47000"/>
                    </a:srgbClr>
                  </a:solidFill>
                  <a:ln w="9360">
                    <a:solidFill>
                      <a:srgbClr val="92d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6948720" y="4217760"/>
                  <a:ext cx="1486080" cy="1456200"/>
                  <a:chOff x="6948720" y="4217760"/>
                  <a:chExt cx="1486080" cy="145620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>
                    <a:off x="7113960" y="4325760"/>
                    <a:ext cx="1235160" cy="1186560"/>
                  </a:xfrm>
                  <a:prstGeom prst="rect">
                    <a:avLst/>
                  </a:prstGeom>
                  <a:solidFill>
                    <a:srgbClr val="b3b3b3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20" name=""/>
                  <p:cNvGrpSpPr/>
                  <p:nvPr/>
                </p:nvGrpSpPr>
                <p:grpSpPr>
                  <a:xfrm>
                    <a:off x="6948720" y="4323960"/>
                    <a:ext cx="1486080" cy="1189440"/>
                    <a:chOff x="6948720" y="4323960"/>
                    <a:chExt cx="1486080" cy="1189440"/>
                  </a:xfrm>
                </p:grpSpPr>
                <p:sp>
                  <p:nvSpPr>
                    <p:cNvPr id="321" name=""/>
                    <p:cNvSpPr/>
                    <p:nvPr/>
                  </p:nvSpPr>
                  <p:spPr>
                    <a:xfrm>
                      <a:off x="7058160" y="4323960"/>
                      <a:ext cx="137664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"/>
                    <p:cNvSpPr/>
                    <p:nvPr/>
                  </p:nvSpPr>
                  <p:spPr>
                    <a:xfrm>
                      <a:off x="7002720" y="4430160"/>
                      <a:ext cx="1376280" cy="18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3" name=""/>
                    <p:cNvSpPr/>
                    <p:nvPr/>
                  </p:nvSpPr>
                  <p:spPr>
                    <a:xfrm>
                      <a:off x="7058160" y="4538520"/>
                      <a:ext cx="1376640" cy="18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4" name=""/>
                    <p:cNvSpPr/>
                    <p:nvPr/>
                  </p:nvSpPr>
                  <p:spPr>
                    <a:xfrm>
                      <a:off x="7002720" y="4646880"/>
                      <a:ext cx="1376280" cy="18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5" name=""/>
                    <p:cNvSpPr/>
                    <p:nvPr/>
                  </p:nvSpPr>
                  <p:spPr>
                    <a:xfrm>
                      <a:off x="7058160" y="4755240"/>
                      <a:ext cx="1376640" cy="14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>
                      <a:off x="7002720" y="4863600"/>
                      <a:ext cx="1376280" cy="14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7058160" y="4971960"/>
                      <a:ext cx="1376640" cy="14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8" name=""/>
                    <p:cNvSpPr/>
                    <p:nvPr/>
                  </p:nvSpPr>
                  <p:spPr>
                    <a:xfrm>
                      <a:off x="7002720" y="5080320"/>
                      <a:ext cx="1376280" cy="14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7002720" y="5188320"/>
                      <a:ext cx="137628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0" name=""/>
                    <p:cNvSpPr/>
                    <p:nvPr/>
                  </p:nvSpPr>
                  <p:spPr>
                    <a:xfrm>
                      <a:off x="6948720" y="5296680"/>
                      <a:ext cx="137628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7002720" y="5405040"/>
                      <a:ext cx="1376280" cy="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2" name=""/>
                    <p:cNvSpPr/>
                    <p:nvPr/>
                  </p:nvSpPr>
                  <p:spPr>
                    <a:xfrm>
                      <a:off x="6948720" y="5511960"/>
                      <a:ext cx="1376280" cy="14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33" name=""/>
                  <p:cNvGrpSpPr/>
                  <p:nvPr/>
                </p:nvGrpSpPr>
                <p:grpSpPr>
                  <a:xfrm>
                    <a:off x="7112520" y="4217760"/>
                    <a:ext cx="1212840" cy="1456200"/>
                    <a:chOff x="7112520" y="4217760"/>
                    <a:chExt cx="1212840" cy="1456200"/>
                  </a:xfrm>
                </p:grpSpPr>
                <p:sp>
                  <p:nvSpPr>
                    <p:cNvPr id="334" name=""/>
                    <p:cNvSpPr/>
                    <p:nvPr/>
                  </p:nvSpPr>
                  <p:spPr>
                    <a:xfrm>
                      <a:off x="8325360" y="4323960"/>
                      <a:ext cx="0" cy="13500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5" name=""/>
                    <p:cNvSpPr/>
                    <p:nvPr/>
                  </p:nvSpPr>
                  <p:spPr>
                    <a:xfrm flipH="1">
                      <a:off x="8214120" y="4270320"/>
                      <a:ext cx="1800" cy="1349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6" name=""/>
                    <p:cNvSpPr/>
                    <p:nvPr/>
                  </p:nvSpPr>
                  <p:spPr>
                    <a:xfrm flipH="1">
                      <a:off x="8104680" y="4323960"/>
                      <a:ext cx="1440" cy="13500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7" name=""/>
                    <p:cNvSpPr/>
                    <p:nvPr/>
                  </p:nvSpPr>
                  <p:spPr>
                    <a:xfrm>
                      <a:off x="7994880" y="4270320"/>
                      <a:ext cx="0" cy="1349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8" name=""/>
                    <p:cNvSpPr/>
                    <p:nvPr/>
                  </p:nvSpPr>
                  <p:spPr>
                    <a:xfrm flipH="1">
                      <a:off x="7883640" y="4323960"/>
                      <a:ext cx="1800" cy="13500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 flipH="1">
                      <a:off x="7773840" y="4270320"/>
                      <a:ext cx="1440" cy="1349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 flipH="1">
                      <a:off x="7662600" y="4323960"/>
                      <a:ext cx="1800" cy="13500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 flipH="1">
                      <a:off x="7552800" y="4270320"/>
                      <a:ext cx="1440" cy="1349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7443360" y="4270320"/>
                      <a:ext cx="0" cy="1349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3" name=""/>
                    <p:cNvSpPr/>
                    <p:nvPr/>
                  </p:nvSpPr>
                  <p:spPr>
                    <a:xfrm flipH="1">
                      <a:off x="7331760" y="4217760"/>
                      <a:ext cx="1440" cy="13482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"/>
                    <p:cNvSpPr/>
                    <p:nvPr/>
                  </p:nvSpPr>
                  <p:spPr>
                    <a:xfrm flipH="1">
                      <a:off x="7222320" y="4270320"/>
                      <a:ext cx="1440" cy="134964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"/>
                    <p:cNvSpPr/>
                    <p:nvPr/>
                  </p:nvSpPr>
                  <p:spPr>
                    <a:xfrm>
                      <a:off x="7112520" y="4217760"/>
                      <a:ext cx="0" cy="1348200"/>
                    </a:xfrm>
                    <a:prstGeom prst="line">
                      <a:avLst/>
                    </a:prstGeom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6" name=""/>
                  <p:cNvSpPr/>
                  <p:nvPr/>
                </p:nvSpPr>
                <p:spPr>
                  <a:xfrm>
                    <a:off x="7113960" y="4323960"/>
                    <a:ext cx="1211400" cy="118836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6703" y="0"/>
                        </a:moveTo>
                        <a:lnTo>
                          <a:pt x="13966" y="201"/>
                        </a:lnTo>
                        <a:lnTo>
                          <a:pt x="21600" y="18658"/>
                        </a:lnTo>
                        <a:lnTo>
                          <a:pt x="19117" y="19928"/>
                        </a:lnTo>
                        <a:lnTo>
                          <a:pt x="16138" y="20931"/>
                        </a:lnTo>
                        <a:lnTo>
                          <a:pt x="13159" y="21600"/>
                        </a:lnTo>
                        <a:lnTo>
                          <a:pt x="11172" y="21600"/>
                        </a:lnTo>
                        <a:lnTo>
                          <a:pt x="8690" y="21533"/>
                        </a:lnTo>
                        <a:lnTo>
                          <a:pt x="6021" y="21266"/>
                        </a:lnTo>
                        <a:lnTo>
                          <a:pt x="4159" y="20864"/>
                        </a:lnTo>
                        <a:lnTo>
                          <a:pt x="1986" y="20263"/>
                        </a:lnTo>
                        <a:lnTo>
                          <a:pt x="434" y="19527"/>
                        </a:lnTo>
                        <a:lnTo>
                          <a:pt x="0" y="19259"/>
                        </a:lnTo>
                        <a:lnTo>
                          <a:pt x="6703" y="0"/>
                        </a:lnTo>
                        <a:close/>
                        <a:moveTo>
                          <a:pt x="6703" y="0"/>
                        </a:moveTo>
                      </a:path>
                    </a:pathLst>
                  </a:custGeom>
                  <a:solidFill>
                    <a:srgbClr val="ccff66">
                      <a:alpha val="47000"/>
                    </a:srgbClr>
                  </a:solidFill>
                  <a:ln w="9360">
                    <a:solidFill>
                      <a:srgbClr val="92d05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7" name=""/>
              <p:cNvGrpSpPr/>
              <p:nvPr/>
            </p:nvGrpSpPr>
            <p:grpSpPr>
              <a:xfrm>
                <a:off x="7113960" y="3895560"/>
                <a:ext cx="1707120" cy="1671120"/>
                <a:chOff x="7113960" y="3895560"/>
                <a:chExt cx="1707120" cy="167112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7113960" y="3895560"/>
                  <a:ext cx="1707120" cy="1671120"/>
                </a:xfrm>
                <a:prstGeom prst="pie">
                  <a:avLst/>
                </a:prstGeom>
                <a:solidFill>
                  <a:srgbClr val="b0b0b0">
                    <a:alpha val="30000"/>
                  </a:srgbClr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113960" y="3895560"/>
                  <a:ext cx="1707120" cy="439920"/>
                </a:xfrm>
                <a:prstGeom prst="pie">
                  <a:avLst/>
                </a:prstGeom>
                <a:solidFill>
                  <a:srgbClr val="bfbfb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8380080" y="3895560"/>
                  <a:ext cx="441000" cy="1671120"/>
                </a:xfrm>
                <a:prstGeom prst="pie">
                  <a:avLst/>
                </a:prstGeom>
                <a:solidFill>
                  <a:srgbClr val="8c8c8c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7113960" y="3895560"/>
                  <a:ext cx="1707120" cy="1671120"/>
                </a:xfrm>
                <a:prstGeom prst="pie">
                  <a:avLst/>
                </a:pr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2" name=""/>
            <p:cNvGrpSpPr/>
            <p:nvPr/>
          </p:nvGrpSpPr>
          <p:grpSpPr>
            <a:xfrm>
              <a:off x="7610400" y="3681360"/>
              <a:ext cx="1774800" cy="301680"/>
              <a:chOff x="7610400" y="3681360"/>
              <a:chExt cx="1774800" cy="301680"/>
            </a:xfrm>
          </p:grpSpPr>
          <p:sp>
            <p:nvSpPr>
              <p:cNvPr id="353" name=""/>
              <p:cNvSpPr/>
              <p:nvPr/>
            </p:nvSpPr>
            <p:spPr>
              <a:xfrm>
                <a:off x="7610400" y="3841560"/>
                <a:ext cx="1430280" cy="1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9040680" y="3681360"/>
                <a:ext cx="344520" cy="30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-504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646e6e"/>
                    </a:solidFill>
                    <a:latin typeface="Arial Bold Italic"/>
                    <a:ea typeface="Arial Bold Italic"/>
                  </a:rPr>
                  <a:t>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5" name=""/>
            <p:cNvGrpSpPr/>
            <p:nvPr/>
          </p:nvGrpSpPr>
          <p:grpSpPr>
            <a:xfrm>
              <a:off x="6729480" y="4435560"/>
              <a:ext cx="343080" cy="1293480"/>
              <a:chOff x="6729480" y="4435560"/>
              <a:chExt cx="343080" cy="1293480"/>
            </a:xfrm>
          </p:grpSpPr>
          <p:sp>
            <p:nvSpPr>
              <p:cNvPr id="356" name=""/>
              <p:cNvSpPr/>
              <p:nvPr/>
            </p:nvSpPr>
            <p:spPr>
              <a:xfrm flipH="1">
                <a:off x="7004160" y="4435560"/>
                <a:ext cx="7920" cy="1293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729480" y="4595760"/>
                <a:ext cx="34308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-5040" tIns="0" bIns="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1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646e6e"/>
                    </a:solidFill>
                    <a:latin typeface="Arial Bold Italic"/>
                    <a:ea typeface="Arial Bold Italic"/>
                  </a:rPr>
                  <a:t>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 flipH="1">
              <a:off x="7059600" y="3841560"/>
              <a:ext cx="387360" cy="387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8100000">
              <a:off x="7010280" y="3859200"/>
              <a:ext cx="33624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-504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4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646e6e"/>
                  </a:solidFill>
                  <a:latin typeface="Arial Bold Italic"/>
                  <a:ea typeface="Arial Bold Italic"/>
                </a:rPr>
                <a:t>z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0" name="" descr=""/>
          <p:cNvPicPr/>
          <p:nvPr/>
        </p:nvPicPr>
        <p:blipFill>
          <a:blip r:embed="rId3"/>
          <a:stretch/>
        </p:blipFill>
        <p:spPr>
          <a:xfrm>
            <a:off x="5049720" y="4565520"/>
            <a:ext cx="895320" cy="126684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4354920" y="5029200"/>
            <a:ext cx="536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A440A-A3C9-416A-AFBC-46A59916E575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tretch/>
        </p:blipFill>
        <p:spPr>
          <a:xfrm>
            <a:off x="6413400" y="287280"/>
            <a:ext cx="2954520" cy="4683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6542280" y="6388200"/>
            <a:ext cx="271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Semester, Nachrichtentechnik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54640" y="6388200"/>
            <a:ext cx="293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llen und Leitungen, Übersicht, S. Ru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62120" y="330120"/>
            <a:ext cx="8534160" cy="4701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2001a"/>
                </a:solidFill>
                <a:latin typeface="Arial"/>
              </a:rPr>
              <a:t>Physikalischer Hintergrund</a:t>
            </a:r>
            <a:endParaRPr b="0" lang="en-US" sz="2400" spc="-1" strike="noStrike">
              <a:solidFill>
                <a:srgbClr val="e2001a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62120" y="977760"/>
            <a:ext cx="4686120" cy="54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  <a:ea typeface="Arial"/>
              </a:rPr>
              <a:t>Wellenfront und Elementarwel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  <a:ea typeface="Arial"/>
              </a:rPr>
              <a:t>Unterschiedlich schnelle Ausbreitung der Elementarwellen in Luft und Was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6666"/>
                </a:solidFill>
                <a:latin typeface="Arial"/>
                <a:ea typeface="Arial"/>
              </a:rPr>
              <a:t>Reflexion und Transmission an der Grenzfläc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898560" y="2908440"/>
            <a:ext cx="2305080" cy="1440"/>
          </a:xfrm>
          <a:prstGeom prst="line">
            <a:avLst/>
          </a:prstGeom>
          <a:ln w="28440">
            <a:solidFill>
              <a:srgbClr val="7575d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339920" y="1859040"/>
            <a:ext cx="523800" cy="1076400"/>
          </a:xfrm>
          <a:prstGeom prst="line">
            <a:avLst/>
          </a:prstGeom>
          <a:ln w="38160">
            <a:solidFill>
              <a:srgbClr val="92d05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211400" y="2851200"/>
            <a:ext cx="114120" cy="114120"/>
          </a:xfrm>
          <a:prstGeom prst="ellipse">
            <a:avLst/>
          </a:prstGeom>
          <a:solidFill>
            <a:srgbClr val="92d050"/>
          </a:solidFill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3809880" y="2441520"/>
            <a:ext cx="2341440" cy="906120"/>
            <a:chOff x="3809880" y="2441520"/>
            <a:chExt cx="2341440" cy="906120"/>
          </a:xfrm>
        </p:grpSpPr>
        <p:sp>
          <p:nvSpPr>
            <p:cNvPr id="371" name=""/>
            <p:cNvSpPr/>
            <p:nvPr/>
          </p:nvSpPr>
          <p:spPr>
            <a:xfrm>
              <a:off x="4146480" y="2595600"/>
              <a:ext cx="630720" cy="336600"/>
            </a:xfrm>
            <a:custGeom>
              <a:avLst/>
              <a:gdLst/>
              <a:ahLst/>
              <a:rect l="l" t="t" r="r" b="b"/>
              <a:pathLst>
                <a:path w="21372" h="20588">
                  <a:moveTo>
                    <a:pt x="250" y="21600"/>
                  </a:moveTo>
                  <a:cubicBezTo>
                    <a:pt x="0" y="14559"/>
                    <a:pt x="1887" y="7829"/>
                    <a:pt x="5175" y="4039"/>
                  </a:cubicBezTo>
                  <a:cubicBezTo>
                    <a:pt x="8467" y="243"/>
                    <a:pt x="12641" y="0"/>
                    <a:pt x="16062" y="3404"/>
                  </a:cubicBezTo>
                  <a:cubicBezTo>
                    <a:pt x="19478" y="6803"/>
                    <a:pt x="21600" y="13300"/>
                    <a:pt x="21600" y="20357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381920" y="2670120"/>
              <a:ext cx="478080" cy="247680"/>
            </a:xfrm>
            <a:custGeom>
              <a:avLst/>
              <a:gdLst/>
              <a:ahLst/>
              <a:rect l="l" t="t" r="r" b="b"/>
              <a:pathLst>
                <a:path w="21364" h="20625">
                  <a:moveTo>
                    <a:pt x="259" y="21600"/>
                  </a:moveTo>
                  <a:cubicBezTo>
                    <a:pt x="0" y="14473"/>
                    <a:pt x="1929" y="7666"/>
                    <a:pt x="5277" y="3894"/>
                  </a:cubicBezTo>
                  <a:cubicBezTo>
                    <a:pt x="8524" y="235"/>
                    <a:pt x="12602" y="0"/>
                    <a:pt x="15971" y="3277"/>
                  </a:cubicBezTo>
                  <a:cubicBezTo>
                    <a:pt x="19437" y="6649"/>
                    <a:pt x="21600" y="13200"/>
                    <a:pt x="21600" y="20327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635720" y="2744640"/>
              <a:ext cx="314280" cy="168480"/>
            </a:xfrm>
            <a:custGeom>
              <a:avLst/>
              <a:gdLst/>
              <a:ahLst/>
              <a:rect l="l" t="t" r="r" b="b"/>
              <a:pathLst>
                <a:path w="21372" h="20588">
                  <a:moveTo>
                    <a:pt x="250" y="21600"/>
                  </a:moveTo>
                  <a:cubicBezTo>
                    <a:pt x="0" y="14559"/>
                    <a:pt x="1887" y="7829"/>
                    <a:pt x="5175" y="4039"/>
                  </a:cubicBezTo>
                  <a:cubicBezTo>
                    <a:pt x="8467" y="243"/>
                    <a:pt x="12641" y="0"/>
                    <a:pt x="16062" y="3404"/>
                  </a:cubicBezTo>
                  <a:cubicBezTo>
                    <a:pt x="19478" y="6804"/>
                    <a:pt x="21600" y="13300"/>
                    <a:pt x="21600" y="20357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236840" y="2441520"/>
              <a:ext cx="918000" cy="46044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 rot="10800000">
              <a:off x="3897360" y="2899800"/>
              <a:ext cx="679680" cy="349560"/>
            </a:xfrm>
            <a:custGeom>
              <a:avLst/>
              <a:gdLst/>
              <a:ahLst/>
              <a:rect l="l" t="t" r="r" b="b"/>
              <a:pathLst>
                <a:path w="21359" h="20648">
                  <a:moveTo>
                    <a:pt x="265" y="21600"/>
                  </a:moveTo>
                  <a:cubicBezTo>
                    <a:pt x="0" y="14420"/>
                    <a:pt x="1955" y="7566"/>
                    <a:pt x="5340" y="3805"/>
                  </a:cubicBezTo>
                  <a:cubicBezTo>
                    <a:pt x="8558" y="230"/>
                    <a:pt x="12579" y="0"/>
                    <a:pt x="15915" y="3200"/>
                  </a:cubicBezTo>
                  <a:cubicBezTo>
                    <a:pt x="19412" y="6553"/>
                    <a:pt x="21600" y="13137"/>
                    <a:pt x="21600" y="20308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 rot="10800000">
              <a:off x="4190760" y="2907720"/>
              <a:ext cx="545040" cy="249480"/>
            </a:xfrm>
            <a:custGeom>
              <a:avLst/>
              <a:gdLst/>
              <a:ahLst/>
              <a:rect l="l" t="t" r="r" b="b"/>
              <a:pathLst>
                <a:path w="21318" h="20809">
                  <a:moveTo>
                    <a:pt x="312" y="21600"/>
                  </a:moveTo>
                  <a:cubicBezTo>
                    <a:pt x="0" y="14024"/>
                    <a:pt x="2155" y="6817"/>
                    <a:pt x="5823" y="3169"/>
                  </a:cubicBezTo>
                  <a:cubicBezTo>
                    <a:pt x="8816" y="194"/>
                    <a:pt x="12411" y="0"/>
                    <a:pt x="15495" y="2648"/>
                  </a:cubicBezTo>
                  <a:cubicBezTo>
                    <a:pt x="19223" y="5847"/>
                    <a:pt x="21600" y="12665"/>
                    <a:pt x="21600" y="20154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 rot="10800000">
              <a:off x="4664880" y="2906640"/>
              <a:ext cx="284040" cy="154080"/>
            </a:xfrm>
            <a:custGeom>
              <a:avLst/>
              <a:gdLst/>
              <a:ahLst/>
              <a:rect l="l" t="t" r="r" b="b"/>
              <a:pathLst>
                <a:path w="21600" h="20668">
                  <a:moveTo>
                    <a:pt x="0" y="18173"/>
                  </a:moveTo>
                  <a:cubicBezTo>
                    <a:pt x="946" y="7484"/>
                    <a:pt x="6076" y="0"/>
                    <a:pt x="11754" y="1026"/>
                  </a:cubicBezTo>
                  <a:cubicBezTo>
                    <a:pt x="17337" y="2035"/>
                    <a:pt x="21600" y="10944"/>
                    <a:pt x="21600" y="21600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4048920" y="2933280"/>
              <a:ext cx="1105560" cy="414360"/>
            </a:xfrm>
            <a:prstGeom prst="line">
              <a:avLst/>
            </a:prstGeom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844800" y="2913120"/>
              <a:ext cx="2306520" cy="1440"/>
            </a:xfrm>
            <a:prstGeom prst="line">
              <a:avLst/>
            </a:prstGeom>
            <a:ln w="28440">
              <a:solidFill>
                <a:srgbClr val="7575d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179600" y="2868480"/>
              <a:ext cx="114480" cy="114480"/>
            </a:xfrm>
            <a:prstGeom prst="ellipse">
              <a:avLst/>
            </a:prstGeom>
            <a:solidFill>
              <a:srgbClr val="92d050"/>
            </a:solidFill>
            <a:ln w="1908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09880" y="2476440"/>
              <a:ext cx="810000" cy="434880"/>
            </a:xfrm>
            <a:custGeom>
              <a:avLst/>
              <a:gdLst/>
              <a:ahLst/>
              <a:rect l="l" t="t" r="r" b="b"/>
              <a:pathLst>
                <a:path w="21376" h="20570">
                  <a:moveTo>
                    <a:pt x="246" y="21600"/>
                  </a:moveTo>
                  <a:cubicBezTo>
                    <a:pt x="0" y="14602"/>
                    <a:pt x="1866" y="7910"/>
                    <a:pt x="5124" y="4112"/>
                  </a:cubicBezTo>
                  <a:cubicBezTo>
                    <a:pt x="8439" y="247"/>
                    <a:pt x="12661" y="0"/>
                    <a:pt x="16107" y="3469"/>
                  </a:cubicBezTo>
                  <a:cubicBezTo>
                    <a:pt x="19498" y="6881"/>
                    <a:pt x="21600" y="13351"/>
                    <a:pt x="21600" y="20372"/>
                  </a:cubicBezTo>
                </a:path>
              </a:pathLst>
            </a:custGeom>
            <a:noFill/>
            <a:ln w="9360">
              <a:solidFill>
                <a:srgbClr val="404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2173320" y="1996920"/>
            <a:ext cx="132084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 algn="r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c6971"/>
                </a:solidFill>
                <a:latin typeface="Arial"/>
                <a:ea typeface="Arial"/>
              </a:rPr>
              <a:t>Wellenfront = Norm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5155920" y="2446200"/>
            <a:ext cx="917640" cy="46224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300320" y="2432160"/>
            <a:ext cx="917280" cy="46188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1114200" y="2165400"/>
            <a:ext cx="919080" cy="46188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969840" y="1859040"/>
            <a:ext cx="919440" cy="461880"/>
          </a:xfrm>
          <a:prstGeom prst="line">
            <a:avLst/>
          </a:prstGeom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2"/>
          <a:stretch/>
        </p:blipFill>
        <p:spPr>
          <a:xfrm rot="10800000">
            <a:off x="5091120" y="3836880"/>
            <a:ext cx="3495600" cy="153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40927-B8E7-45F2-BA9A-71B701D88556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"/>
          <p:cNvGrpSpPr/>
          <p:nvPr/>
        </p:nvGrpSpPr>
        <p:grpSpPr>
          <a:xfrm>
            <a:off x="3111480" y="3124080"/>
            <a:ext cx="5854680" cy="1219320"/>
            <a:chOff x="3111480" y="3124080"/>
            <a:chExt cx="5854680" cy="1219320"/>
          </a:xfrm>
        </p:grpSpPr>
        <p:sp>
          <p:nvSpPr>
            <p:cNvPr id="389" name=""/>
            <p:cNvSpPr/>
            <p:nvPr/>
          </p:nvSpPr>
          <p:spPr>
            <a:xfrm>
              <a:off x="3149640" y="3174840"/>
              <a:ext cx="5778360" cy="1130400"/>
            </a:xfrm>
            <a:prstGeom prst="ellipse">
              <a:avLst/>
            </a:prstGeom>
            <a:solidFill>
              <a:srgbClr val="66ff6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0" name="" descr=""/>
            <p:cNvPicPr/>
            <p:nvPr/>
          </p:nvPicPr>
          <p:blipFill>
            <a:blip r:embed="rId1"/>
            <a:stretch/>
          </p:blipFill>
          <p:spPr>
            <a:xfrm>
              <a:off x="3111480" y="3124080"/>
              <a:ext cx="5854680" cy="121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1" name=""/>
          <p:cNvGrpSpPr/>
          <p:nvPr/>
        </p:nvGrpSpPr>
        <p:grpSpPr>
          <a:xfrm>
            <a:off x="5460840" y="4051440"/>
            <a:ext cx="2730600" cy="1942920"/>
            <a:chOff x="5460840" y="4051440"/>
            <a:chExt cx="2730600" cy="1942920"/>
          </a:xfrm>
        </p:grpSpPr>
        <p:sp>
          <p:nvSpPr>
            <p:cNvPr id="392" name=""/>
            <p:cNvSpPr/>
            <p:nvPr/>
          </p:nvSpPr>
          <p:spPr>
            <a:xfrm>
              <a:off x="5499000" y="4089240"/>
              <a:ext cx="2654280" cy="1866600"/>
            </a:xfrm>
            <a:prstGeom prst="ellipse">
              <a:avLst/>
            </a:prstGeom>
            <a:solidFill>
              <a:srgbClr val="ffff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3" name="" descr=""/>
            <p:cNvPicPr/>
            <p:nvPr/>
          </p:nvPicPr>
          <p:blipFill>
            <a:blip r:embed="rId2"/>
            <a:stretch/>
          </p:blipFill>
          <p:spPr>
            <a:xfrm>
              <a:off x="5460840" y="4051440"/>
              <a:ext cx="2730600" cy="1942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94" name=""/>
          <p:cNvGrpSpPr/>
          <p:nvPr/>
        </p:nvGrpSpPr>
        <p:grpSpPr>
          <a:xfrm>
            <a:off x="3174840" y="4038480"/>
            <a:ext cx="2603520" cy="1943280"/>
            <a:chOff x="3174840" y="4038480"/>
            <a:chExt cx="2603520" cy="1943280"/>
          </a:xfrm>
        </p:grpSpPr>
        <p:sp>
          <p:nvSpPr>
            <p:cNvPr id="395" name=""/>
            <p:cNvSpPr/>
            <p:nvPr/>
          </p:nvSpPr>
          <p:spPr>
            <a:xfrm>
              <a:off x="3225600" y="4076640"/>
              <a:ext cx="2514600" cy="1866960"/>
            </a:xfrm>
            <a:prstGeom prst="ellipse">
              <a:avLst/>
            </a:prstGeom>
            <a:solidFill>
              <a:srgbClr val="66ffcc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6" name="" descr=""/>
            <p:cNvPicPr/>
            <p:nvPr/>
          </p:nvPicPr>
          <p:blipFill>
            <a:blip r:embed="rId3"/>
            <a:stretch/>
          </p:blipFill>
          <p:spPr>
            <a:xfrm>
              <a:off x="3174840" y="4038480"/>
              <a:ext cx="2603520" cy="194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97" name=""/>
          <p:cNvSpPr/>
          <p:nvPr/>
        </p:nvSpPr>
        <p:spPr>
          <a:xfrm>
            <a:off x="749160" y="977760"/>
            <a:ext cx="8534520" cy="52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  <a:ea typeface="Arial"/>
              </a:rPr>
              <a:t>Wann immer die Abmessungen einer Schaltung oder einer Anordnung in die Größenordnung der Wellenlänge komm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990720" y="2282760"/>
          <a:ext cx="7197480" cy="2755440"/>
        </p:xfrm>
        <a:graphic>
          <a:graphicData uri="http://schemas.openxmlformats.org/drawingml/2006/table">
            <a:tbl>
              <a:tblPr/>
              <a:tblGrid>
                <a:gridCol w="2251800"/>
                <a:gridCol w="2382120"/>
                <a:gridCol w="2563560"/>
              </a:tblGrid>
              <a:tr h="48276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5c6971"/>
                          </a:solidFill>
                          <a:latin typeface="Arial"/>
                          <a:ea typeface="ヒラギノ角ゴ ProN W3"/>
                        </a:rPr>
                        <a:t>Wellenlänge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5c6971"/>
                          </a:solidFill>
                          <a:latin typeface="Arial"/>
                          <a:ea typeface="ヒラギノ角ゴ ProN W3"/>
                        </a:rPr>
                        <a:t>Schall (Luft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5c6971"/>
                          </a:solidFill>
                          <a:latin typeface="Arial"/>
                          <a:ea typeface="ヒラギノ角ゴ ProN W3"/>
                        </a:rPr>
                        <a:t>Licht (Freiraum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50760" rIns="50760" tIns="50760" bIns="507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5c6971"/>
                          </a:solidFill>
                          <a:latin typeface="Arial"/>
                          <a:ea typeface="ヒラギノ角ゴ ProN W3"/>
                        </a:rPr>
                        <a:t>Frequenz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c6971"/>
                          </a:solidFill>
                          <a:latin typeface="Arial"/>
                          <a:ea typeface="ヒラギノ角ゴ ProN W3"/>
                        </a:rPr>
                        <a:t>300 m/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5c6971"/>
                          </a:solidFill>
                          <a:latin typeface="Arial"/>
                          <a:ea typeface="ヒラギノ角ゴ ProN W3"/>
                        </a:rPr>
                        <a:t>300 * 10</a:t>
                      </a:r>
                      <a:r>
                        <a:rPr b="0" lang="en-US" sz="1800" spc="-1" strike="noStrike" baseline="32000">
                          <a:solidFill>
                            <a:srgbClr val="5c6971"/>
                          </a:solidFill>
                          <a:latin typeface="Arial"/>
                          <a:ea typeface="ヒラギノ角ゴ ProN W3"/>
                        </a:rPr>
                        <a:t>6</a:t>
                      </a:r>
                      <a:r>
                        <a:rPr b="0" lang="en-US" sz="1800" spc="-1" strike="noStrike">
                          <a:solidFill>
                            <a:srgbClr val="5c6971"/>
                          </a:solidFill>
                          <a:latin typeface="Arial"/>
                          <a:ea typeface="ヒラギノ角ゴ ProN W3"/>
                        </a:rPr>
                        <a:t> m/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5c6971"/>
                          </a:solidFill>
                          <a:latin typeface="Arial"/>
                          <a:ea typeface="ヒラギノ角ゴ ProN W3"/>
                        </a:rPr>
                        <a:t>1 kHz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5c6971"/>
                          </a:solidFill>
                          <a:latin typeface="Arial"/>
                          <a:ea typeface="ヒラギノ角ゴ ProN W3"/>
                        </a:rPr>
                        <a:t>300 mm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5c6971"/>
                          </a:solidFill>
                          <a:latin typeface="Arial"/>
                          <a:ea typeface="ヒラギノ角ゴ ProN W3"/>
                        </a:rPr>
                        <a:t>300 km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5c6971"/>
                          </a:solidFill>
                          <a:latin typeface="Arial"/>
                          <a:ea typeface="ヒラギノ角ゴ ProN W3"/>
                        </a:rPr>
                        <a:t>10 kHz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5c6971"/>
                          </a:solidFill>
                          <a:latin typeface="Arial"/>
                          <a:ea typeface="ヒラギノ角ゴ ProN W3"/>
                        </a:rPr>
                        <a:t>30 mm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5c6971"/>
                          </a:solidFill>
                          <a:latin typeface="Arial"/>
                          <a:ea typeface="ヒラギノ角ゴ ProN W3"/>
                        </a:rPr>
                        <a:t>30 km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5c6971"/>
                          </a:solidFill>
                          <a:latin typeface="Arial"/>
                          <a:ea typeface="ヒラギノ角ゴ ProN W3"/>
                        </a:rPr>
                        <a:t>1 MHz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5c6971"/>
                          </a:solidFill>
                          <a:latin typeface="Arial"/>
                          <a:ea typeface="ヒラギノ角ゴ ProN W3"/>
                        </a:rPr>
                        <a:t>300 µm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5c6971"/>
                          </a:solidFill>
                          <a:latin typeface="Arial"/>
                          <a:ea typeface="ヒラギノ角ゴ ProN W3"/>
                        </a:rPr>
                        <a:t>300 m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5c6971"/>
                          </a:solidFill>
                          <a:latin typeface="Arial"/>
                          <a:ea typeface="ヒラギノ角ゴ ProN W3"/>
                        </a:rPr>
                        <a:t>1 GHz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5c6971"/>
                          </a:solidFill>
                          <a:latin typeface="Arial"/>
                          <a:ea typeface="ヒラギノ角ゴ ProN W3"/>
                        </a:rPr>
                        <a:t>300 nm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0760" rIns="50760" tIns="50760" bIns="507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5c6971"/>
                          </a:solidFill>
                          <a:latin typeface="Arial"/>
                          <a:ea typeface="ヒラギノ角ゴ ProN W3"/>
                        </a:rPr>
                        <a:t>300 mm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0760" marR="50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99" name=""/>
          <p:cNvSpPr/>
          <p:nvPr/>
        </p:nvSpPr>
        <p:spPr>
          <a:xfrm>
            <a:off x="3831480" y="5245200"/>
            <a:ext cx="1271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ltrasch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4"/>
          <a:stretch/>
        </p:blipFill>
        <p:spPr>
          <a:xfrm>
            <a:off x="6413400" y="287280"/>
            <a:ext cx="2954520" cy="4683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6542280" y="6388200"/>
            <a:ext cx="271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Semester, Nachrichtentechnik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54640" y="6388200"/>
            <a:ext cx="293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llen und Leitungen, Übersicht, S. Ru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762120" y="330120"/>
            <a:ext cx="8534160" cy="4701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2001a"/>
                </a:solidFill>
                <a:latin typeface="Arial"/>
              </a:rPr>
              <a:t>Praktische Relevanz</a:t>
            </a:r>
            <a:endParaRPr b="0" lang="en-US" sz="2400" spc="-1" strike="noStrike">
              <a:solidFill>
                <a:srgbClr val="e2001a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239680" y="3530520"/>
            <a:ext cx="731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u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-101880" y="-228600"/>
            <a:ext cx="114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ltrasc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-1055880" y="-228600"/>
            <a:ext cx="1144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Ultrasc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064920" y="5245200"/>
            <a:ext cx="1668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Hochfrequen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0C4F6-2039-444E-A9FD-AF907129D38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6413400" y="287280"/>
            <a:ext cx="2954520" cy="46836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6542280" y="6388200"/>
            <a:ext cx="271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. Semester, Nachrichtentechnik, 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854640" y="6388200"/>
            <a:ext cx="293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Wellen und Leitungen, Übersicht, S. Rup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762120" y="330120"/>
            <a:ext cx="8534160" cy="47016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Autofit/>
          </a:bodyPr>
          <a:p>
            <a:pPr marL="396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2001a"/>
                </a:solidFill>
                <a:latin typeface="Arial"/>
              </a:rPr>
              <a:t>Inhaltsübersicht</a:t>
            </a:r>
            <a:endParaRPr b="0" lang="en-US" sz="2400" spc="-1" strike="noStrike">
              <a:solidFill>
                <a:srgbClr val="e2001a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762120" y="977400"/>
            <a:ext cx="8534160" cy="5410440"/>
          </a:xfrm>
          <a:prstGeom prst="rect">
            <a:avLst/>
          </a:prstGeom>
          <a:noFill/>
          <a:ln w="0">
            <a:noFill/>
          </a:ln>
        </p:spPr>
        <p:txBody>
          <a:bodyPr lIns="50760" rIns="132120" tIns="50760" bIns="50760" anchor="t">
            <a:normAutofit/>
          </a:bodyPr>
          <a:p>
            <a:pPr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Wellen und Leitunge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349200" indent="-284040">
              <a:lnSpc>
                <a:spcPct val="150000"/>
              </a:lnSpc>
              <a:spcBef>
                <a:spcPts val="601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Schwingungen und Welle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349200" indent="-284040">
              <a:lnSpc>
                <a:spcPct val="150000"/>
              </a:lnSpc>
              <a:spcBef>
                <a:spcPts val="601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Reflexione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349200" indent="-284040">
              <a:lnSpc>
                <a:spcPct val="150000"/>
              </a:lnSpc>
              <a:spcBef>
                <a:spcPts val="601"/>
              </a:spcBef>
              <a:buClr>
                <a:srgbClr val="e2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20000"/>
                </a:solidFill>
                <a:latin typeface="Arial"/>
              </a:rPr>
              <a:t>Anpassung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349200" indent="-284040">
              <a:lnSpc>
                <a:spcPct val="150000"/>
              </a:lnSpc>
              <a:spcBef>
                <a:spcPts val="601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Wellenausbreitung in Zweileitersystemen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  <a:p>
            <a:pPr lvl="1" marL="349200" indent="-284040">
              <a:lnSpc>
                <a:spcPct val="150000"/>
              </a:lnSpc>
              <a:spcBef>
                <a:spcPts val="601"/>
              </a:spcBef>
              <a:buClr>
                <a:srgbClr val="66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6666"/>
                </a:solidFill>
                <a:latin typeface="Arial"/>
              </a:rPr>
              <a:t>Hintergründe</a:t>
            </a:r>
            <a:endParaRPr b="0" lang="en-US" sz="2400" spc="-1" strike="noStrike">
              <a:solidFill>
                <a:srgbClr val="66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B93DF-636D-4A8D-AC9F-7B7F831C6DD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tephan Rupp</dc:creator>
  <dc:description/>
  <dc:language>en-US</dc:language>
  <cp:lastModifiedBy/>
  <cp:revision>0</cp:revision>
  <dc:subject/>
  <dc:title>PowerPoint-Präsentation</dc:title>
</cp:coreProperties>
</file>